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13.pct" ContentType="image/x-pict"/>
  <Override PartName="/ppt/media/image9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72348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7234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7234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7234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7234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7234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620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234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7234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2348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85920"/>
            <a:ext cx="9134640" cy="6188040"/>
            <a:chOff x="0" y="385920"/>
            <a:chExt cx="9134640" cy="6188040"/>
          </a:xfrm>
        </p:grpSpPr>
        <p:grpSp>
          <p:nvGrpSpPr>
            <p:cNvPr id="1" name=""/>
            <p:cNvGrpSpPr/>
            <p:nvPr/>
          </p:nvGrpSpPr>
          <p:grpSpPr>
            <a:xfrm>
              <a:off x="0" y="385920"/>
              <a:ext cx="966960" cy="457200"/>
              <a:chOff x="0" y="385920"/>
              <a:chExt cx="966960" cy="4572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385920"/>
                <a:ext cx="320760" cy="457200"/>
              </a:xfrm>
              <a:custGeom>
                <a:avLst/>
                <a:gdLst/>
                <a:ahLst/>
                <a:rect l="l" t="t" r="r" b="b"/>
                <a:pathLst>
                  <a:path w="202" h="288">
                    <a:moveTo>
                      <a:pt x="0" y="0"/>
                    </a:moveTo>
                    <a:lnTo>
                      <a:pt x="201" y="0"/>
                    </a:lnTo>
                    <a:lnTo>
                      <a:pt x="165" y="287"/>
                    </a:lnTo>
                    <a:lnTo>
                      <a:pt x="0" y="28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297000" y="385920"/>
                <a:ext cx="264960" cy="457200"/>
              </a:xfrm>
              <a:custGeom>
                <a:avLst/>
                <a:gdLst/>
                <a:ahLst/>
                <a:rect l="l" t="t" r="r" b="b"/>
                <a:pathLst>
                  <a:path w="167" h="288">
                    <a:moveTo>
                      <a:pt x="34" y="0"/>
                    </a:moveTo>
                    <a:lnTo>
                      <a:pt x="0" y="287"/>
                    </a:lnTo>
                    <a:lnTo>
                      <a:pt x="132" y="287"/>
                    </a:lnTo>
                    <a:lnTo>
                      <a:pt x="166" y="0"/>
                    </a:lnTo>
                    <a:lnTo>
                      <a:pt x="34" y="0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34960" y="385920"/>
                <a:ext cx="220680" cy="457200"/>
              </a:xfrm>
              <a:custGeom>
                <a:avLst/>
                <a:gdLst/>
                <a:ahLst/>
                <a:rect l="l" t="t" r="r" b="b"/>
                <a:pathLst>
                  <a:path w="139" h="288">
                    <a:moveTo>
                      <a:pt x="35" y="0"/>
                    </a:moveTo>
                    <a:lnTo>
                      <a:pt x="0" y="287"/>
                    </a:lnTo>
                    <a:lnTo>
                      <a:pt x="104" y="287"/>
                    </a:lnTo>
                    <a:lnTo>
                      <a:pt x="138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5400" y="385920"/>
                <a:ext cx="163440" cy="457200"/>
              </a:xfrm>
              <a:custGeom>
                <a:avLst/>
                <a:gdLst/>
                <a:ahLst/>
                <a:rect l="l" t="t" r="r" b="b"/>
                <a:pathLst>
                  <a:path w="103" h="288">
                    <a:moveTo>
                      <a:pt x="34" y="0"/>
                    </a:moveTo>
                    <a:lnTo>
                      <a:pt x="0" y="287"/>
                    </a:lnTo>
                    <a:lnTo>
                      <a:pt x="68" y="287"/>
                    </a:lnTo>
                    <a:lnTo>
                      <a:pt x="102" y="0"/>
                    </a:lnTo>
                    <a:lnTo>
                      <a:pt x="34" y="0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5720" y="385920"/>
                <a:ext cx="111240" cy="457200"/>
              </a:xfrm>
              <a:custGeom>
                <a:avLst/>
                <a:gdLst/>
                <a:ahLst/>
                <a:rect l="l" t="t" r="r" b="b"/>
                <a:pathLst>
                  <a:path w="70" h="288">
                    <a:moveTo>
                      <a:pt x="33" y="0"/>
                    </a:moveTo>
                    <a:lnTo>
                      <a:pt x="0" y="287"/>
                    </a:lnTo>
                    <a:lnTo>
                      <a:pt x="35" y="287"/>
                    </a:lnTo>
                    <a:lnTo>
                      <a:pt x="69" y="0"/>
                    </a:lnTo>
                    <a:lnTo>
                      <a:pt x="33" y="0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38080" y="6257880"/>
              <a:ext cx="8296560" cy="316080"/>
              <a:chOff x="838080" y="6257880"/>
              <a:chExt cx="8296560" cy="316080"/>
            </a:xfrm>
          </p:grpSpPr>
          <p:sp>
            <p:nvSpPr>
              <p:cNvPr id="8" name=""/>
              <p:cNvSpPr/>
              <p:nvPr/>
            </p:nvSpPr>
            <p:spPr>
              <a:xfrm>
                <a:off x="838080" y="6496200"/>
                <a:ext cx="8296560" cy="77760"/>
              </a:xfrm>
              <a:custGeom>
                <a:avLst/>
                <a:gdLst/>
                <a:ahLst/>
                <a:rect l="l" t="t" r="r" b="b"/>
                <a:pathLst>
                  <a:path w="5226" h="49">
                    <a:moveTo>
                      <a:pt x="0" y="48"/>
                    </a:moveTo>
                    <a:lnTo>
                      <a:pt x="5225" y="48"/>
                    </a:lnTo>
                    <a:lnTo>
                      <a:pt x="5225" y="0"/>
                    </a:lnTo>
                    <a:lnTo>
                      <a:pt x="12" y="0"/>
                    </a:lnTo>
                    <a:lnTo>
                      <a:pt x="0" y="48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65080" y="6377040"/>
                <a:ext cx="8269560" cy="77760"/>
              </a:xfrm>
              <a:custGeom>
                <a:avLst/>
                <a:gdLst/>
                <a:ahLst/>
                <a:rect l="l" t="t" r="r" b="b"/>
                <a:pathLst>
                  <a:path w="5209" h="49">
                    <a:moveTo>
                      <a:pt x="0" y="48"/>
                    </a:moveTo>
                    <a:lnTo>
                      <a:pt x="5208" y="48"/>
                    </a:lnTo>
                    <a:lnTo>
                      <a:pt x="5208" y="0"/>
                    </a:lnTo>
                    <a:lnTo>
                      <a:pt x="12" y="0"/>
                    </a:lnTo>
                    <a:lnTo>
                      <a:pt x="0" y="48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2080" y="6257880"/>
                <a:ext cx="8242560" cy="81000"/>
              </a:xfrm>
              <a:custGeom>
                <a:avLst/>
                <a:gdLst/>
                <a:ahLst/>
                <a:rect l="l" t="t" r="r" b="b"/>
                <a:pathLst>
                  <a:path w="5192" h="51">
                    <a:moveTo>
                      <a:pt x="0" y="50"/>
                    </a:moveTo>
                    <a:lnTo>
                      <a:pt x="5191" y="48"/>
                    </a:lnTo>
                    <a:lnTo>
                      <a:pt x="5191" y="0"/>
                    </a:lnTo>
                    <a:lnTo>
                      <a:pt x="12" y="0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00"/>
              </a:spcBef>
              <a:buClr>
                <a:srgbClr val="ff5008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00"/>
              </a:spcBef>
              <a:buClr>
                <a:srgbClr val="ff5008"/>
              </a:buClr>
              <a:buSzPct val="6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ate of Return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Example 2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5008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the ROR of an investment of $200 at time 0 and returns of $150 at time 1 and $175 at time 2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838080" y="2319480"/>
          <a:ext cx="7239240" cy="310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319480"/>
                    <a:ext cx="7239240" cy="31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Example 2: Exact Computation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5008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NPW = 0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5008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W = -200 + 150/(1+i)  + 175/(1+i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5008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x = 1/(1+i) and the expression becomes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75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150x -200          = 0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5008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 x = 1/(1+i) = 0.72318 =&gt; i = 0.3828 or 38.28%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990720" y="3657600"/>
                <a:ext cx="7035840" cy="14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0</m:t>
                            </m:r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0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75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00</m:t>
                                </m:r>
                                <m:r>
                                  <m:t xml:space="preserve">)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5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0</m:t>
                            </m:r>
                            <m:r>
                              <m:t xml:space="preserve">±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50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Example 3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5008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the ROR of an investment of $100 with a revenue of $16 a year for 10 year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914400" y="2362320"/>
          <a:ext cx="6629400" cy="384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362320"/>
                    <a:ext cx="6629400" cy="38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Example 3: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5008"/>
              </a:buClr>
              <a:buSzPct val="7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W = - 100(A/P, i, 10) +  16 = 0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5008"/>
              </a:buClr>
              <a:buSzPct val="7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/P, i, 10) = 0.16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5008"/>
              </a:buClr>
              <a:buSzPct val="7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[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 +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/[(1 +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1)] = 0.16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5008"/>
              </a:buClr>
              <a:buSzPct val="7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icult to solve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ing because of the nonlinear factor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Example 3: Trial and Error 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5008"/>
              </a:buClr>
              <a:buSzPct val="7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rial and error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5008"/>
              </a:buClr>
              <a:buSzPct val="7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W = - 100(A/P, i, 10) +  16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5008"/>
              </a:buClr>
              <a:buSzPct val="7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9%: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W = - 100(A/P, 0.09, 10) +  16 = 0.418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5008"/>
              </a:buClr>
              <a:buSzPct val="7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10%: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W = - 100(A/P, 0.10, 10) +  16  = -0.275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5008"/>
              </a:buClr>
              <a:buSzPct val="7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Interpolating:  R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9.604%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Example 4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5008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the ROR an investment of $16 a year for 10 years with a return of $250 at year 10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990720" y="2209680"/>
          <a:ext cx="6629400" cy="385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09680"/>
                    <a:ext cx="6629400" cy="38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Example 4: Trial and Error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5008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 FW = 0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5008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W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 -16 (F/A, i, 10)  +  250 = 0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5008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y 8% :       -16 (14.4866) + 250 =  18.2144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5008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y 10%:      -16 (15.9374) + 250 =  -4.9984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5008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olating: 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R = 0.08 + [18.2144 /(18.2144+4.9984)](0.1-0.08)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0.09569 or 9.569%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5008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R is approximately 9.569%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Example 5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601"/>
              </a:spcBef>
              <a:buClr>
                <a:srgbClr val="ff5008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Rate of Borrowing associated with borrowing 100 and paying back 250 after 10 years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29680" indent="-229680">
              <a:lnSpc>
                <a:spcPct val="90000"/>
              </a:lnSpc>
              <a:spcBef>
                <a:spcPts val="601"/>
              </a:spcBef>
              <a:buClr>
                <a:srgbClr val="ff5008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R  here is approximately  9.6%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29680" indent="-229680">
              <a:lnSpc>
                <a:spcPct val="90000"/>
              </a:lnSpc>
              <a:spcBef>
                <a:spcPts val="601"/>
              </a:spcBef>
              <a:buClr>
                <a:srgbClr val="ff5008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R of return is actually the cost borrowing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666880" y="2819520"/>
          <a:ext cx="5639040" cy="342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819520"/>
                    <a:ext cx="5639040" cy="34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380880" y="5257800"/>
            <a:ext cx="5486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NPW = 100 - 250 (P/F, i, 10)  = 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Example 6: Complex Example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5008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achine costs 2000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5008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pect a return of $600 per year for ten year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5008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chine is then sold with a salvage of $400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5008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ng cost is 100 in the first year and increases by $50 per year thereafter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905120" y="3581280"/>
            <a:ext cx="533376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Example 6: Trial and Error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5008"/>
              </a:buClr>
              <a:buSzPct val="7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PW = -2000 + 500(P/A, i, 10) + 400(P/F, i, 10)- 50(P/G, i, 10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5008"/>
              </a:buClr>
              <a:buSzPct val="7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i = 0.05, NPW = 523.83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5008"/>
              </a:buClr>
              <a:buSzPct val="7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i = 0.1,   NPW = 81.93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5008"/>
              </a:buClr>
              <a:buSzPct val="7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i = 0.12, NPW = -58.8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5008"/>
              </a:buClr>
              <a:buSzPct val="7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linear interpolation to compute a value between 10% and 12%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Definition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e Rate of Return (ROR) is: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 percentage (or interest rate) that describes the merit of an investmen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(Return on investment during a year)/(Amount Invested)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e interest rate than makes the cash flows of income equivalent to the cash flows of cos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Example 7: Non-simple Investment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ff5008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-100,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405,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-500,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00,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ff5008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-100,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00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057400" y="2514600"/>
          <a:ext cx="50292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514600"/>
                    <a:ext cx="50292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Example 7: 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5008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an example of a non-simple investment since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itial cash flow is negative, but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than one sign change occurs in the net cash flow series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5008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W = -100 + 405(P/F,i,1)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5008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500(P/F,i,2)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5008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200(P/F,i,3)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5008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100(P/F,i,4)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5008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100 (P/F,i,5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Example 7: Graphically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09480" y="1479600"/>
          <a:ext cx="8534520" cy="419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479600"/>
                    <a:ext cx="8534520" cy="41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Simple Case 1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495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5008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revenue = total cost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5008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R = 0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586728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Simple Case 2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45716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5008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 inflow with Capital entirely recovered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5008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R = Inflow/Investment = A/P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066680" y="1017720"/>
            <a:ext cx="6324840" cy="34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Simple Case 3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5028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5008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 inflow lasting forever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5008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R = inflow/Investment = A/P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086600" cy="38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Simple Case 4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47242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5008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factor involved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5008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 for factor value and use the tabl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6553080" cy="39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ing Decisions with ROR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5008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Invest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pt the project if ROR ≥ MAR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5008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Borrow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pt the project if Rate of Borrowing ≤ MARB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Usage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We use the ROR to evaluate investments becaus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ercentage rates are familia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ercentage rates are dimensionles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hey are commonly used as business measure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ynonym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OR: Rate of Return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OI:  Return on Investment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RR:  Internal Rate of Return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Single Project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e ROR is the interest rate that mak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NPW = PW Benefits - PW Costs = 0, o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NAW = AW Benefits - AW Costs = 0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Example 1: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nd the ROR of an investment of 100 at time 0 and a return of 250 at time 10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066680" y="2666880"/>
          <a:ext cx="4343400" cy="292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666880"/>
                    <a:ext cx="4343400" cy="29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2724840" y="4952880"/>
            <a:ext cx="511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NPW = -100 + 250 (P/F, i, 10)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Example 1: Exact Computation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t NPW = 0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NPW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= -100 + 250 (P/F, i, 10)  =  0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=&gt; (P/F, i, 10)  = 100/250 = 0.4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=&gt; 1/(1+i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Book Antiqua"/>
              </a:rPr>
              <a:t>10 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= 0.4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=&gt; (1+i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Book Antiqua"/>
              </a:rPr>
              <a:t>10 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= 1/0.4 = 2.5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=&gt; (1+i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Book Antiqua"/>
              </a:rPr>
              <a:t>10(0.1)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= (2.5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Book Antiqua"/>
              </a:rPr>
              <a:t>0.1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=&gt; i = (2.5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Book Antiqua"/>
              </a:rPr>
              <a:t>0.1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- 1 = 0.09595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erefore, the ROR = 9.595 %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Example 1: Trial and Error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t NPW = 0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NPW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= -100 + 250 (P/F, i, 10)  =  0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ry 9% :     -100 + 250 (P/F, 0.09, 10)  =  5.6063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ry 10%:    -100 + 250 (P/F, 0.10, 10)  =  -3.614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Linearly Interpolating: 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OR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= 0.09 + [(5.603)/(5.603- (-3.614))](0.1-0.09)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= 0.09608 or  9.608%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743200" y="3886200"/>
            <a:ext cx="4114800" cy="1600200"/>
          </a:xfrm>
          <a:prstGeom prst="rtTriangle">
            <a:avLst/>
          </a:prstGeom>
          <a:solidFill>
            <a:srgbClr val="d9d8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Linear Interpolation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hape ratio of pale rectangle: (A-B) / (y-x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hape ratio of smaller rectangle: (A-0) / (i-x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ince shapes are the same: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(A-B) / (y-x)) = (A) / (i-x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=&gt;     i-x = [ A / (A-B) ] (y-x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=&gt;     i = x + [ A / (A-B) ] (y-x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9" name=""/>
          <p:cNvSpPr/>
          <p:nvPr/>
        </p:nvSpPr>
        <p:spPr>
          <a:xfrm>
            <a:off x="2133720" y="4648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133720" y="358092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90560" y="5715000"/>
            <a:ext cx="3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562080" y="5715000"/>
            <a:ext cx="33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743200" y="4572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934320" y="4572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8108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81080" y="5486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393920" y="365760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67280" y="510552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743200" y="3886200"/>
            <a:ext cx="4191120" cy="160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743200" y="3886200"/>
            <a:ext cx="1981080" cy="762120"/>
          </a:xfrm>
          <a:prstGeom prst="rtTriangle">
            <a:avLst/>
          </a:prstGeom>
          <a:solidFill>
            <a:srgbClr val="a0a0a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724280" y="48006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8480" y="579132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47920" y="4419720"/>
            <a:ext cx="50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NPW (or NAW) as a function of 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</a:rPr>
              <a:t>i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08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r an investmen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162920" cy="44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27T21:14:55Z</dcterms:created>
  <dc:creator>Valerie Tardif</dc:creator>
  <dc:description/>
  <cp:keywords>Time Money Uncertainty Organizations</cp:keywords>
  <dc:language>en-US</dc:language>
  <cp:lastModifiedBy>Paul Jensen</cp:lastModifiedBy>
  <cp:lastPrinted>2001-02-08T04:36:23Z</cp:lastPrinted>
  <dcterms:modified xsi:type="dcterms:W3CDTF">2002-01-30T20:53:15Z</dcterms:modified>
  <cp:revision>94</cp:revision>
  <dc:subject>Eng. Econ. Lecture 0</dc:subject>
  <dc:title>Place of Engineering Economics in the World</dc:title>
</cp:coreProperties>
</file>