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6653-86B4-4DB1-AAAF-8B4DE64E2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27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12B4-E81B-467E-B7CA-DA428B7E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0760" y="201780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0760" y="416736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7CB5-FA34-4D53-B11B-1457A8C49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342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42480" y="2017800"/>
            <a:ext cx="2342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02720" y="2017800"/>
            <a:ext cx="2342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342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42480" y="4167360"/>
            <a:ext cx="2342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02720" y="4167360"/>
            <a:ext cx="2342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8C46-6197-4DDC-92E6-6DD7FA9EF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CCA4-9D25-4668-A3D1-03A962B5D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0A94-8DF3-4AA5-86AE-522E92A0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3AD5-3B95-4072-8DED-063CB751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55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0760" y="2017800"/>
            <a:ext cx="355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6CC1-8A2F-4949-AD6F-C8485A4D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8F83-C2FE-4918-80FD-2EB7E4FD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920" y="617040"/>
            <a:ext cx="738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CD8C-E560-4C63-A4E4-E194F805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0760" y="2017800"/>
            <a:ext cx="355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D33E-F6D6-4C4E-8D9B-349E1603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CFC0-99BC-4323-86EF-B220CC6C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55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0760" y="201780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10760" y="416736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2BC6-1C4D-4F78-9EC8-05DCF428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10760" y="201780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27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AA0F-0C10-4A7E-983D-50800CCD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27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8C6B-8A1B-4AD3-BF40-0FE4DC9C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10760" y="201780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10760" y="416736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6EF3-71CB-459F-B7F6-9AB057E90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342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642480" y="2017800"/>
            <a:ext cx="2342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02720" y="2017800"/>
            <a:ext cx="2342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342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642480" y="4167360"/>
            <a:ext cx="2342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02720" y="4167360"/>
            <a:ext cx="2342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9FBC-BE7F-4836-99EC-083BD38B0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7309-EF5C-4942-A3C0-82E581A3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55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0760" y="2017800"/>
            <a:ext cx="355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571E-FCAE-46A1-A637-BA650412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75E8-9256-4836-8792-57AAF315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920" y="617040"/>
            <a:ext cx="738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BA3F-2DB7-4950-BB3F-074209B3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0760" y="2017800"/>
            <a:ext cx="355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01D3-E714-4446-BB4D-DB6A3198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55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0760" y="201780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0760" y="416736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3DA7-3A45-4E2F-ABBE-0ACDB616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0760" y="201780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27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259A-BA88-4CCE-8569-8AEB00CD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b4e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b7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alerie Tardiff and Paul J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rations Research Models and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4 - All rights reserv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07A6-9954-4E20-8A8D-A9EB90F51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76b7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b7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4b4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e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alerie Tardiff and Paul J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rations Research Models and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4 - All rights reserved</a:t>
            </a: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0642-E6CD-4273-BB89-E2D049B591DB}" type="slidenum">
              <a:rPr b="0" lang="en-US" sz="14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Time Value of Money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put your money in your matt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8/25/04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onclusion –Time Value of Money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ollar today is worth more than a dollar in the futu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of the interest (profit) it can ea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 compare alternatives with different cash flows at different times, you must consider the time value of mo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7BCF-71F2-4CDA-864E-5FC36A6F4A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ash Flow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4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sh f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fers to a receipt or payment of an amount of money and is defined by 1) its dollar value and 2) the time of its occur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nalyst 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sh flow diagr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represent costs and revenues over time. They help maintain a consistent and time-equivalent view poi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267000" y="4218120"/>
            <a:ext cx="2970360" cy="184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4115-71E8-4010-90B3-5F5B80EB439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ash Flow Diagram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990720" y="1049400"/>
            <a:ext cx="6781680" cy="51228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5257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the lender’s point of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F40B-970B-4F7C-9F1C-6E8921831D6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Notation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he interest rate per interest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he total number of interest peri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a sum of money at a time chosen for purposes of analysis as time zero (present value or present worth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 future sum of money at the end of the analy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 discrete payment or receipt occurring at the end of some interest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he special situation wh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= ... =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he gradient or amount by which payments increase or decrease linearly (e.g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A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(n-1)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= the gradient or amount by which payments increase or decrease geometrically (e.g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A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+g) 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DBCD-3F33-47D5-8080-30290818FE4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imple Question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sk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AC59-302E-4357-8B5D-D21A07C16B46}" type="slidenum">
              <a:t>14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Growth of Money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001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343160" y="1905120"/>
            <a:ext cx="6457680" cy="411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DC15-0E42-4231-AB5C-D6DBC59B07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4572000" y="5621400"/>
            <a:ext cx="3733920" cy="457200"/>
            <a:chOff x="4572000" y="5621400"/>
            <a:chExt cx="3733920" cy="457200"/>
          </a:xfrm>
        </p:grpSpPr>
        <p:sp>
          <p:nvSpPr>
            <p:cNvPr id="104" name=""/>
            <p:cNvSpPr/>
            <p:nvPr/>
          </p:nvSpPr>
          <p:spPr>
            <a:xfrm>
              <a:off x="5791320" y="5621400"/>
              <a:ext cx="25146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1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0" y="5621400"/>
              <a:ext cx="12193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609480" y="562140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752480" y="5164200"/>
            <a:ext cx="6553440" cy="914400"/>
            <a:chOff x="1752480" y="5164200"/>
            <a:chExt cx="6553440" cy="914400"/>
          </a:xfrm>
        </p:grpSpPr>
        <p:sp>
          <p:nvSpPr>
            <p:cNvPr id="108" name=""/>
            <p:cNvSpPr/>
            <p:nvPr/>
          </p:nvSpPr>
          <p:spPr>
            <a:xfrm>
              <a:off x="1752480" y="5621400"/>
              <a:ext cx="28195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1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91320" y="5164200"/>
              <a:ext cx="25146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1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5164200"/>
              <a:ext cx="12193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09480" y="516420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752480" y="4707000"/>
            <a:ext cx="6553440" cy="914400"/>
            <a:chOff x="1752480" y="4707000"/>
            <a:chExt cx="6553440" cy="914400"/>
          </a:xfrm>
        </p:grpSpPr>
        <p:sp>
          <p:nvSpPr>
            <p:cNvPr id="113" name=""/>
            <p:cNvSpPr/>
            <p:nvPr/>
          </p:nvSpPr>
          <p:spPr>
            <a:xfrm>
              <a:off x="1752480" y="5164200"/>
              <a:ext cx="28195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1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91320" y="4707000"/>
              <a:ext cx="25146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1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0" y="4707000"/>
              <a:ext cx="12193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09480" y="470700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752480" y="4249800"/>
            <a:ext cx="6553440" cy="914400"/>
            <a:chOff x="1752480" y="4249800"/>
            <a:chExt cx="6553440" cy="914400"/>
          </a:xfrm>
        </p:grpSpPr>
        <p:sp>
          <p:nvSpPr>
            <p:cNvPr id="118" name=""/>
            <p:cNvSpPr/>
            <p:nvPr/>
          </p:nvSpPr>
          <p:spPr>
            <a:xfrm>
              <a:off x="1752480" y="4707000"/>
              <a:ext cx="28195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1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91320" y="4249800"/>
              <a:ext cx="25146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1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4249800"/>
              <a:ext cx="12193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09480" y="424980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752480" y="3792600"/>
            <a:ext cx="6553440" cy="914400"/>
            <a:chOff x="1752480" y="3792600"/>
            <a:chExt cx="6553440" cy="914400"/>
          </a:xfrm>
        </p:grpSpPr>
        <p:sp>
          <p:nvSpPr>
            <p:cNvPr id="123" name=""/>
            <p:cNvSpPr/>
            <p:nvPr/>
          </p:nvSpPr>
          <p:spPr>
            <a:xfrm>
              <a:off x="1752480" y="4249800"/>
              <a:ext cx="28195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1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91320" y="3792600"/>
              <a:ext cx="25146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1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72000" y="3792600"/>
              <a:ext cx="12193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752480" y="3809880"/>
            <a:ext cx="2819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379260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91320" y="2895480"/>
            <a:ext cx="2514600" cy="89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 at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2895480"/>
            <a:ext cx="1219320" cy="89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2895480"/>
            <a:ext cx="2819520" cy="89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 at Begin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895480"/>
            <a:ext cx="1143000" cy="89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 (Ye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2895480"/>
            <a:ext cx="76964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792600"/>
            <a:ext cx="769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4249800"/>
            <a:ext cx="769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4707000"/>
            <a:ext cx="769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5164200"/>
            <a:ext cx="769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5621400"/>
            <a:ext cx="769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6078600"/>
            <a:ext cx="76964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895480"/>
            <a:ext cx="0" cy="31831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2895480"/>
            <a:ext cx="0" cy="318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2895480"/>
            <a:ext cx="0" cy="318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91320" y="2895480"/>
            <a:ext cx="0" cy="318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05920" y="2895480"/>
            <a:ext cx="0" cy="31831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imple Interes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 = initial capital * interest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24A1-8119-47F5-B6E4-F2BE0234DB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4572000" y="5943600"/>
            <a:ext cx="3733920" cy="457200"/>
            <a:chOff x="4572000" y="5943600"/>
            <a:chExt cx="3733920" cy="457200"/>
          </a:xfrm>
        </p:grpSpPr>
        <p:sp>
          <p:nvSpPr>
            <p:cNvPr id="147" name=""/>
            <p:cNvSpPr/>
            <p:nvPr/>
          </p:nvSpPr>
          <p:spPr>
            <a:xfrm>
              <a:off x="5791320" y="5943600"/>
              <a:ext cx="25146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161.0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5943600"/>
              <a:ext cx="12193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14.6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09480" y="594360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752480" y="5486400"/>
            <a:ext cx="6553440" cy="914400"/>
            <a:chOff x="1752480" y="5486400"/>
            <a:chExt cx="6553440" cy="914400"/>
          </a:xfrm>
        </p:grpSpPr>
        <p:sp>
          <p:nvSpPr>
            <p:cNvPr id="151" name=""/>
            <p:cNvSpPr/>
            <p:nvPr/>
          </p:nvSpPr>
          <p:spPr>
            <a:xfrm>
              <a:off x="1752480" y="5943600"/>
              <a:ext cx="28195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146.4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91320" y="5486400"/>
              <a:ext cx="25146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146.4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2000" y="5486400"/>
              <a:ext cx="12193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13.3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09480" y="548640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752480" y="5029200"/>
            <a:ext cx="6553440" cy="914400"/>
            <a:chOff x="1752480" y="5029200"/>
            <a:chExt cx="6553440" cy="914400"/>
          </a:xfrm>
        </p:grpSpPr>
        <p:sp>
          <p:nvSpPr>
            <p:cNvPr id="156" name=""/>
            <p:cNvSpPr/>
            <p:nvPr/>
          </p:nvSpPr>
          <p:spPr>
            <a:xfrm>
              <a:off x="1752480" y="5486400"/>
              <a:ext cx="28195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133.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91320" y="5029200"/>
              <a:ext cx="25146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133.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2000" y="5029200"/>
              <a:ext cx="12193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12.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09480" y="502920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752480" y="4572000"/>
            <a:ext cx="6553440" cy="914400"/>
            <a:chOff x="1752480" y="4572000"/>
            <a:chExt cx="6553440" cy="914400"/>
          </a:xfrm>
        </p:grpSpPr>
        <p:sp>
          <p:nvSpPr>
            <p:cNvPr id="161" name=""/>
            <p:cNvSpPr/>
            <p:nvPr/>
          </p:nvSpPr>
          <p:spPr>
            <a:xfrm>
              <a:off x="1752480" y="5029200"/>
              <a:ext cx="28195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1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91320" y="4572000"/>
              <a:ext cx="25146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1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72000" y="4572000"/>
              <a:ext cx="12193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609480" y="457200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752480" y="4114800"/>
            <a:ext cx="6553440" cy="914400"/>
            <a:chOff x="1752480" y="4114800"/>
            <a:chExt cx="6553440" cy="914400"/>
          </a:xfrm>
        </p:grpSpPr>
        <p:sp>
          <p:nvSpPr>
            <p:cNvPr id="166" name=""/>
            <p:cNvSpPr/>
            <p:nvPr/>
          </p:nvSpPr>
          <p:spPr>
            <a:xfrm>
              <a:off x="1752480" y="4572000"/>
              <a:ext cx="28195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1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91320" y="4114800"/>
              <a:ext cx="25146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1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0" y="4114800"/>
              <a:ext cx="12193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1752480" y="4114800"/>
            <a:ext cx="2819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411480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91320" y="3218040"/>
            <a:ext cx="2514600" cy="89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 at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3218040"/>
            <a:ext cx="1219320" cy="89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3218040"/>
            <a:ext cx="2819520" cy="89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 at Begin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218040"/>
            <a:ext cx="1143000" cy="89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 (Ye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3218040"/>
            <a:ext cx="76964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4114800"/>
            <a:ext cx="769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4572000"/>
            <a:ext cx="769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029200"/>
            <a:ext cx="769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5486400"/>
            <a:ext cx="769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5943600"/>
            <a:ext cx="769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6400800"/>
            <a:ext cx="76964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218040"/>
            <a:ext cx="0" cy="31827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52480" y="3218040"/>
            <a:ext cx="0" cy="31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3218040"/>
            <a:ext cx="0" cy="31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91320" y="3218040"/>
            <a:ext cx="0" cy="31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05920" y="3218040"/>
            <a:ext cx="0" cy="31827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ompounded Interes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 = accumulated capital * interest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3F82-4857-4079-9C92-E2ED3C2EE8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mpact of Interest Rat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001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343160" y="2057400"/>
            <a:ext cx="645624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8BC6-ACA5-4DFC-90C7-2234FAAE67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mpact of Tim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5732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289160" y="2133720"/>
            <a:ext cx="6564240" cy="411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8BEE-F5E3-4EF5-8F89-B6E4035516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Equivalenc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e are willing to trade one cash flow for another, the two cash flows are said to be economically equival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valence depends on interest rate and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omparisons we will always assume compound intere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6B50-0735-4BD6-B2BD-5A6EE9520F6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imple Question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52240" y="2017800"/>
            <a:ext cx="69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$100 now (at time 0).  I invest it for 10 years at interest rat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What will I have 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ime 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compound interest is u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94440" y="2666880"/>
            <a:ext cx="19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$100(1+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 Antiqu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18160" y="3429000"/>
            <a:ext cx="528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t 10%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$100(1.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 Antiqua"/>
              </a:rPr>
              <a:t>10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100(2.594)=$259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4E11-7627-4D95-8D3D-897947A2A3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imple Question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expect to receive $100 at time 10.  How much is the promise of that future amount worth to 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d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suming compound inter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59520" y="2908440"/>
            <a:ext cx="206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$100/(1+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 Antiqu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885320" y="3657600"/>
            <a:ext cx="555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t 10%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$100/(1.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 Antiqua"/>
              </a:rPr>
              <a:t>10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100/(2.594)=$38.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262B-131B-455B-969F-071A7C80AC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7T21:14:55Z</dcterms:created>
  <dc:creator>Valerie Tardif</dc:creator>
  <dc:description/>
  <cp:keywords>Time Money Uncertainty Organizations</cp:keywords>
  <dc:language>en-US</dc:language>
  <cp:lastModifiedBy>Paul Jensen</cp:lastModifiedBy>
  <cp:lastPrinted>1997-10-07T00:52:12Z</cp:lastPrinted>
  <dcterms:modified xsi:type="dcterms:W3CDTF">2004-08-27T14:26:16Z</dcterms:modified>
  <cp:revision>48</cp:revision>
  <dc:subject>Eng. Econ. Lecture 0</dc:subject>
  <dc:title>Place of Engineering Economics in the World</dc:title>
</cp:coreProperties>
</file>