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C15-B3B1-4DE6-AAEF-2020BBA7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6C7-C899-455D-B4FB-2C219BAD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172-3AE9-4609-9881-E278C148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C70-3DBA-4DA9-B2F2-E44D4445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E0A8-F6F2-4D2F-B45C-1E26F9AD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E2C9-A054-4B18-9129-3333BE7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360F-C3D1-4558-87FA-1F5BB0B9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0CC7-F5C3-4F85-BF70-372EBBE2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06C0-8499-4337-92BB-2B6D9CF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CCC1-DD0C-48FF-9D37-2BCE86B4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198E-6B05-4F19-9DFA-15C6866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070-00A0-4C5E-AC9C-C7976EA5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FEB5-9E83-4C92-BA08-D912C8B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59B5-AC4C-4350-A2D0-AB17117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4547-46EC-4CA3-BB29-8BE1B1B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474-7B6E-41CC-99A7-CFDB7164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A236-A0F5-483B-9B96-A326A6F5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9D1-6AFF-4000-A1BA-B49029D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062-33CB-4B60-AA13-86914710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2A3-77F0-4015-8EC2-DA94794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C38-B750-4D19-9E18-733B933B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C91-8BDB-4F5E-9F17-B2EE0FC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DB4-61A5-409E-B4BF-95FCE0D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E27-6913-4488-BA84-67EB1DBB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89FF-019C-4E88-8811-9DA22553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41BA-B3FE-47A2-9A52-A9AD963D38B0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sts and Cash Flow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5/0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14400" y="2209680"/>
          <a:ext cx="6858000" cy="36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09680"/>
                    <a:ext cx="685800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ife Cycle Co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A86-D019-48E6-95D1-50C25B8E41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ife Cycle Pha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fe cycle of a project is separated into two general time peri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quisition ph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ssessments and definition of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 design, advanced development, and prototyp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design, production planning, facility and resourc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ration pha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ance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rement and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4E5-3605-4083-A033-69C50B9D98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ife-Cycle Co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fe-cycle cost is the sum of all the costs and revenues over the entire life of the structure, or system. All amounts are expressed in dollars and they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-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-equivalency is important beca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ollar today is worth more than a dollar next y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interest (profit) it can 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8BB-1843-4F6A-A479-7FEE8B7B92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nalysis Period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period for a project is the life-cycle of the product, structure, system, or service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uracy of the cost and revenue estimates decrease with increases in the length of the period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ort required to develop cash flows increases with the length of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a shorter time horizon can also be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0DD-871B-47C8-A000-031D77C2C2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esent Economy Studi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influence of time on money is not a significant consideration, analyses are referred to as present economy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horizon is one year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pportunity for earning interest or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erion for selection is 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alternative that maximizes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alternative that minimizes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E7A-D924-4607-BBF5-86837479A4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aterial Selection Exampl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machining, the finished volume of a certain metal part is 0.17 inc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raw material to cho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3124080"/>
          <a:ext cx="7772400" cy="3189240"/>
        </p:xfrm>
        <a:graphic>
          <a:graphicData uri="http://schemas.openxmlformats.org/drawingml/2006/table">
            <a:tbl>
              <a:tblPr/>
              <a:tblGrid>
                <a:gridCol w="3886200"/>
                <a:gridCol w="1871640"/>
                <a:gridCol w="2014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m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ing time/piece (m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 of material ($/l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ap value ($/l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 of operator ($/h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ity of material (lb/i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 of raw material (i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FBC-D358-4891-85FC-A9C0FCC928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abor and Material Co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cost per piece = (time per piece)(labor cost per ti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ss: (0.64 min/piece)($12/hr)(1hr/60 min) = $0.128/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minum: (0.42 min/piece)($12/hr)(1hr/60 min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$0.084/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cost per piece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(volume of raw)(lb per volume)(cost per lb)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(leftover vol. of raw)(lb per vol.)(scrap value per l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ss: (0.3 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0.31 lb/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$0.96/lb) 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.13 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0.31 lb/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$0.24/lb) =$0.080/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minum : (0.45 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0.10 lb/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$0.52/lb) =$0.023/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84E-8F0B-42E2-829F-052660FD00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tal Co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ss: $0.128/pc + 0.080/pc = 0.208/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um: $0.084/pc + 0.08023/pc = 0.107/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luminum to minimize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638-73D0-4021-86D8-A92DE5D744F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ake vs. Buy Exampl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, not operating at full capacity, is considering making a part currently b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38320" y="2971800"/>
          <a:ext cx="6867360" cy="3189240"/>
        </p:xfrm>
        <a:graphic>
          <a:graphicData uri="http://schemas.openxmlformats.org/drawingml/2006/table">
            <a:tbl>
              <a:tblPr/>
              <a:tblGrid>
                <a:gridCol w="3433320"/>
                <a:gridCol w="1652760"/>
                <a:gridCol w="178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Lab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head - 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head - fix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nit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8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7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035-447A-4EFF-A678-CD01B7E8A0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ing the excess capacity has no opportunity costs since the plant cannot invest unused capacity as easily as it can invest unused ca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is product will not change fixed overhead for the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real cost per unit is: $1.50 + $1.35  + $0.90 = $3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is better to make the product in-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F86-2AD3-4418-9160-8387DDE799E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ngineering Economic Analysis - Seven Step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nd formulate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feasible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ash flows for each altern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criterion (or criteria) for determining the preferred altern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and compare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preferred altern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monitoring and post-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7EB-6E8D-4382-B292-77B2856EEF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ash Flow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9440" y="2057040"/>
            <a:ext cx="39225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h 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receipt or payment of an amount of money defined by 1) its dollar value and 2) the time of its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h flow dia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 costs and revenues over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 and Revenue estimation for the future always involve uncertai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38680" y="2057400"/>
          <a:ext cx="1994040" cy="163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057400"/>
                    <a:ext cx="199404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4191120"/>
            <a:ext cx="3406680" cy="20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A43-ED80-4004-B2A3-29E4FDBADD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p-Down Estimat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ep in the determination of the cash flows is the estimation of costs and reven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p-down approach takes data from similar projects and modifies them to reflect the current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your cost of a college degree: use the cost of your brother’s degree three years ago and adjust it for inflation. Add $5000 for the cost of your participation in extra curricular activities (your brother was a bookwor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E56-208E-4113-BDEB-B66FEF9C1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ottom-Up Estimat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-up approach is more detailed, breaking down the project in small manageable units and estimating the cost of the part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: Break down anticipated expenses in  categories: tuition and fees, books and supplies, living expenses, transportation and estimate each as accurately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CD4-A9B0-4811-9551-6032C36E7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st Terminolog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90920" y="3459240"/>
          <a:ext cx="3863880" cy="263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459240"/>
                    <a:ext cx="386388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sts change with the level of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costs do not change with the leve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844-2444-4CCD-992D-601869926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st  Terminology (cont’d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ring/Nonrecurring Costs: If costs occur every time the organization produces goods or services, they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urr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riable costs are re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/Indirect Costs: If costs can be reasonably measured and allocated to specific output, they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r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Costs: all costs of providing goods and services other than direct labor and direc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/Book Cost: Cost that involves a payment of cash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h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osts reflected in the accounting system only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k 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636-30ED-4812-9A64-B86F9BD7E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Opportunity Co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Cost: Cost of forgoing the chance to earn interest (or profit) on investment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randmother owns her home, but lives with your parents. She rents her $185,000-house for $400/month. Good idea or lost opport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844-259A-47D9-928D-D7321E603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unk Co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k Costs: Past costs that are unrecoverable are not relevant for decision-making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shopping for a new car, and, that afternoon, find one you really like for $1000. You leave a $100 deposit and plan to return the next day. That evening, your friend offers to sell you her car for $850. What to do thin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C11-6B90-41AB-987A-EE0A5C23A1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7:25:05Z</dcterms:created>
  <dc:creator>Paul Jensen</dc:creator>
  <dc:description/>
  <cp:keywords>Time Money Uncertainty Organizations</cp:keywords>
  <dc:language>en-US</dc:language>
  <cp:lastModifiedBy>Paul Jensen</cp:lastModifiedBy>
  <cp:lastPrinted>2002-01-17T05:10:38Z</cp:lastPrinted>
  <dcterms:modified xsi:type="dcterms:W3CDTF">2004-08-25T19:11:53Z</dcterms:modified>
  <cp:revision>2</cp:revision>
  <dc:subject>Eng. Econ. Lecture 0</dc:subject>
  <dc:title>Costs and Cash Flows</dc:title>
</cp:coreProperties>
</file>