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7234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7234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7234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7234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7234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7234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620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234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7234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234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85920"/>
            <a:ext cx="9134640" cy="6188040"/>
            <a:chOff x="0" y="385920"/>
            <a:chExt cx="9134640" cy="6188040"/>
          </a:xfrm>
        </p:grpSpPr>
        <p:grpSp>
          <p:nvGrpSpPr>
            <p:cNvPr id="1" name=""/>
            <p:cNvGrpSpPr/>
            <p:nvPr/>
          </p:nvGrpSpPr>
          <p:grpSpPr>
            <a:xfrm>
              <a:off x="0" y="385920"/>
              <a:ext cx="966960" cy="457200"/>
              <a:chOff x="0" y="385920"/>
              <a:chExt cx="966960" cy="4572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85920"/>
                <a:ext cx="320760" cy="457200"/>
              </a:xfrm>
              <a:custGeom>
                <a:avLst/>
                <a:gdLst/>
                <a:ahLst/>
                <a:rect l="l" t="t" r="r" b="b"/>
                <a:pathLst>
                  <a:path w="202" h="288">
                    <a:moveTo>
                      <a:pt x="0" y="0"/>
                    </a:moveTo>
                    <a:lnTo>
                      <a:pt x="201" y="0"/>
                    </a:lnTo>
                    <a:lnTo>
                      <a:pt x="165" y="287"/>
                    </a:lnTo>
                    <a:lnTo>
                      <a:pt x="0" y="2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297000" y="385920"/>
                <a:ext cx="264960" cy="457200"/>
              </a:xfrm>
              <a:custGeom>
                <a:avLst/>
                <a:gdLst/>
                <a:ahLst/>
                <a:rect l="l" t="t" r="r" b="b"/>
                <a:pathLst>
                  <a:path w="167" h="288">
                    <a:moveTo>
                      <a:pt x="34" y="0"/>
                    </a:moveTo>
                    <a:lnTo>
                      <a:pt x="0" y="287"/>
                    </a:lnTo>
                    <a:lnTo>
                      <a:pt x="132" y="287"/>
                    </a:lnTo>
                    <a:lnTo>
                      <a:pt x="166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34960" y="385920"/>
                <a:ext cx="220680" cy="457200"/>
              </a:xfrm>
              <a:custGeom>
                <a:avLst/>
                <a:gdLst/>
                <a:ahLst/>
                <a:rect l="l" t="t" r="r" b="b"/>
                <a:pathLst>
                  <a:path w="139" h="288">
                    <a:moveTo>
                      <a:pt x="35" y="0"/>
                    </a:moveTo>
                    <a:lnTo>
                      <a:pt x="0" y="287"/>
                    </a:lnTo>
                    <a:lnTo>
                      <a:pt x="104" y="287"/>
                    </a:lnTo>
                    <a:lnTo>
                      <a:pt x="13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5400" y="385920"/>
                <a:ext cx="163440" cy="457200"/>
              </a:xfrm>
              <a:custGeom>
                <a:avLst/>
                <a:gdLst/>
                <a:ahLst/>
                <a:rect l="l" t="t" r="r" b="b"/>
                <a:pathLst>
                  <a:path w="103" h="288">
                    <a:moveTo>
                      <a:pt x="34" y="0"/>
                    </a:moveTo>
                    <a:lnTo>
                      <a:pt x="0" y="287"/>
                    </a:lnTo>
                    <a:lnTo>
                      <a:pt x="68" y="287"/>
                    </a:lnTo>
                    <a:lnTo>
                      <a:pt x="102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5720" y="385920"/>
                <a:ext cx="111240" cy="457200"/>
              </a:xfrm>
              <a:custGeom>
                <a:avLst/>
                <a:gdLst/>
                <a:ahLst/>
                <a:rect l="l" t="t" r="r" b="b"/>
                <a:pathLst>
                  <a:path w="70" h="288">
                    <a:moveTo>
                      <a:pt x="33" y="0"/>
                    </a:moveTo>
                    <a:lnTo>
                      <a:pt x="0" y="287"/>
                    </a:lnTo>
                    <a:lnTo>
                      <a:pt x="35" y="287"/>
                    </a:lnTo>
                    <a:lnTo>
                      <a:pt x="69" y="0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38080" y="6257880"/>
              <a:ext cx="8296560" cy="316080"/>
              <a:chOff x="838080" y="6257880"/>
              <a:chExt cx="8296560" cy="316080"/>
            </a:xfrm>
          </p:grpSpPr>
          <p:sp>
            <p:nvSpPr>
              <p:cNvPr id="8" name=""/>
              <p:cNvSpPr/>
              <p:nvPr/>
            </p:nvSpPr>
            <p:spPr>
              <a:xfrm>
                <a:off x="838080" y="6496200"/>
                <a:ext cx="8296560" cy="77760"/>
              </a:xfrm>
              <a:custGeom>
                <a:avLst/>
                <a:gdLst/>
                <a:ahLst/>
                <a:rect l="l" t="t" r="r" b="b"/>
                <a:pathLst>
                  <a:path w="5226" h="49">
                    <a:moveTo>
                      <a:pt x="0" y="48"/>
                    </a:moveTo>
                    <a:lnTo>
                      <a:pt x="5225" y="48"/>
                    </a:lnTo>
                    <a:lnTo>
                      <a:pt x="5225" y="0"/>
                    </a:lnTo>
                    <a:lnTo>
                      <a:pt x="12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65080" y="6377040"/>
                <a:ext cx="8269560" cy="77760"/>
              </a:xfrm>
              <a:custGeom>
                <a:avLst/>
                <a:gdLst/>
                <a:ahLst/>
                <a:rect l="l" t="t" r="r" b="b"/>
                <a:pathLst>
                  <a:path w="5209" h="49">
                    <a:moveTo>
                      <a:pt x="0" y="48"/>
                    </a:moveTo>
                    <a:lnTo>
                      <a:pt x="5208" y="48"/>
                    </a:lnTo>
                    <a:lnTo>
                      <a:pt x="5208" y="0"/>
                    </a:lnTo>
                    <a:lnTo>
                      <a:pt x="12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2080" y="6257880"/>
                <a:ext cx="8242560" cy="81000"/>
              </a:xfrm>
              <a:custGeom>
                <a:avLst/>
                <a:gdLst/>
                <a:ahLst/>
                <a:rect l="l" t="t" r="r" b="b"/>
                <a:pathLst>
                  <a:path w="5192" h="51">
                    <a:moveTo>
                      <a:pt x="0" y="50"/>
                    </a:moveTo>
                    <a:lnTo>
                      <a:pt x="5191" y="48"/>
                    </a:lnTo>
                    <a:lnTo>
                      <a:pt x="5191" y="0"/>
                    </a:lnTo>
                    <a:lnTo>
                      <a:pt x="12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ff5008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ff5008"/>
              </a:buClr>
              <a:buSzPct val="6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ing Alternatives with Rate of Return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se Incremental Analysi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2: Comparing cost alternatives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1463760"/>
            <a:ext cx="7848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anked Alternative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RR = 15%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lternatives:  All have five-year life and no salvag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anked Alternatives : Rank by order of increasing investment:  D, B, C, A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685800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2: Incremental Analysi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d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  Project 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ext greater investment (Challenger):  Project B.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s the extra investment in B over D justified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cremental Investment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$50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cremental Benefit: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$125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AW=  -500 (A/P, i, 5) + 125  =&gt; ROR = 8% &lt; MAR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cision: Reject Challenger, Project B.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2: Incremental Analysis (cont’d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d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  Project 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ext greater investment (Challenger):  Project C.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s the extra investment in C over D justified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cremental Investment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  -$150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cremental Benefit: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AW=  -1500 (A/P, i, 5) + 500  =&gt; ROR = 20% &gt; MAR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cision: Accept Challenger, Project C.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2: Incremental Analysis (cont’d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d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  Project C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ext greater investment (Challenger):  Project A.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s the extra investment in A over C justified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cremental Investment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$100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cremental Benefit: 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$26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AW=  -1000 (A/P, i, 5) + 260  =&gt; ROR = 9% &lt; MAR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cision: Reject Challenger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ee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de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Project C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3: Projects with Benefit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2176560"/>
            <a:ext cx="7834320" cy="2700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hoose one of the thre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3  (cont’d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RR = 13%  (select one and only one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anked Projects: C, B, 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2575080"/>
            <a:ext cx="822960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3: Incremental Analysi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d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 Project C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hallenger: Project B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s the extra investment in B over C justified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cremental Investment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-$25,00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cremental Benefit: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$600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AW=  -25 (A/P, i, 5) + 6  =&gt; ROR = 6.4% &lt; MAR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cision: Reject Challenger, Keep Project C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3: Incremental Analysis (cont’d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d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 Project C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hallenger: Project 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s the extra investment in A over C justified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cremental Investment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-$40,00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cremental Benefit:               $200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seful  Life:         Project lives are different!!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3: Incremental Analysis (cont’d)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lect a common study period, say 45 yea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12408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91440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06668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21932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37160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52388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67652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82880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8108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13372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31240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3124080"/>
            <a:ext cx="30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32440" y="414504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1240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28600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43828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59092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74320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89548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04812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20040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35268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50532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31240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65760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80988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96252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1480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26708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41972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57200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72428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31240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02920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18148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33412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48640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63868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9132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94360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09588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24852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24720" y="31240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48600" y="31240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72480" y="31240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96720" y="31240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0080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55308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70572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85800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701028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16292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31520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46748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62012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31240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5029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502920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2280" y="5029200"/>
            <a:ext cx="37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914400" y="4723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066680" y="4723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19320" y="4723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371600" y="4723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23880" y="4724280"/>
            <a:ext cx="609840" cy="838080"/>
            <a:chOff x="1523880" y="4724280"/>
            <a:chExt cx="609840" cy="838080"/>
          </a:xfrm>
        </p:grpSpPr>
        <p:sp>
          <p:nvSpPr>
            <p:cNvPr id="156" name=""/>
            <p:cNvSpPr/>
            <p:nvPr/>
          </p:nvSpPr>
          <p:spPr>
            <a:xfrm flipV="1">
              <a:off x="152388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167652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82880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98108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13372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23880" y="502884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286000" y="4724280"/>
            <a:ext cx="609480" cy="838080"/>
            <a:chOff x="2286000" y="4724280"/>
            <a:chExt cx="609480" cy="838080"/>
          </a:xfrm>
        </p:grpSpPr>
        <p:sp>
          <p:nvSpPr>
            <p:cNvPr id="163" name=""/>
            <p:cNvSpPr/>
            <p:nvPr/>
          </p:nvSpPr>
          <p:spPr>
            <a:xfrm flipV="1">
              <a:off x="228600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43828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59056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74284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89548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6000" y="502884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048120" y="4724280"/>
            <a:ext cx="609480" cy="838080"/>
            <a:chOff x="3048120" y="4724280"/>
            <a:chExt cx="609480" cy="838080"/>
          </a:xfrm>
        </p:grpSpPr>
        <p:sp>
          <p:nvSpPr>
            <p:cNvPr id="170" name=""/>
            <p:cNvSpPr/>
            <p:nvPr/>
          </p:nvSpPr>
          <p:spPr>
            <a:xfrm flipV="1">
              <a:off x="304812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20040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50496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65760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48120" y="502884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809880" y="4724280"/>
            <a:ext cx="609840" cy="838080"/>
            <a:chOff x="3809880" y="4724280"/>
            <a:chExt cx="609840" cy="838080"/>
          </a:xfrm>
        </p:grpSpPr>
        <p:sp>
          <p:nvSpPr>
            <p:cNvPr id="177" name=""/>
            <p:cNvSpPr/>
            <p:nvPr/>
          </p:nvSpPr>
          <p:spPr>
            <a:xfrm flipV="1">
              <a:off x="380988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96252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11480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26708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41972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9880" y="502884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572000" y="4724280"/>
            <a:ext cx="609480" cy="838080"/>
            <a:chOff x="4572000" y="4724280"/>
            <a:chExt cx="609480" cy="838080"/>
          </a:xfrm>
        </p:grpSpPr>
        <p:sp>
          <p:nvSpPr>
            <p:cNvPr id="184" name=""/>
            <p:cNvSpPr/>
            <p:nvPr/>
          </p:nvSpPr>
          <p:spPr>
            <a:xfrm flipV="1">
              <a:off x="457200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72428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87656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02884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18148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72000" y="502884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34120" y="4724280"/>
            <a:ext cx="609480" cy="838080"/>
            <a:chOff x="5334120" y="4724280"/>
            <a:chExt cx="609480" cy="838080"/>
          </a:xfrm>
        </p:grpSpPr>
        <p:sp>
          <p:nvSpPr>
            <p:cNvPr id="191" name=""/>
            <p:cNvSpPr/>
            <p:nvPr/>
          </p:nvSpPr>
          <p:spPr>
            <a:xfrm flipV="1">
              <a:off x="533412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48640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63868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79096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94360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34120" y="502884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095880" y="4724280"/>
            <a:ext cx="609840" cy="838080"/>
            <a:chOff x="6095880" y="4724280"/>
            <a:chExt cx="609840" cy="838080"/>
          </a:xfrm>
        </p:grpSpPr>
        <p:sp>
          <p:nvSpPr>
            <p:cNvPr id="198" name=""/>
            <p:cNvSpPr/>
            <p:nvPr/>
          </p:nvSpPr>
          <p:spPr>
            <a:xfrm flipV="1">
              <a:off x="609588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24852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40080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55308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70572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5880" y="502884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858000" y="4724280"/>
            <a:ext cx="609480" cy="838080"/>
            <a:chOff x="6858000" y="4724280"/>
            <a:chExt cx="609480" cy="838080"/>
          </a:xfrm>
        </p:grpSpPr>
        <p:sp>
          <p:nvSpPr>
            <p:cNvPr id="205" name=""/>
            <p:cNvSpPr/>
            <p:nvPr/>
          </p:nvSpPr>
          <p:spPr>
            <a:xfrm flipV="1">
              <a:off x="685800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701028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716256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731484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7467480" y="4724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58000" y="502884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V="1">
            <a:off x="7620120" y="4723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-31680" y="403848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1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26280" y="266688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2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26280" y="457200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18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26280" y="548640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6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opic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 this section, we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all the definition of ROR,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scuss decision situations for multiple alternatives, an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scuss the appropriate decision methodology for each situ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3: Incremental Analysis (cont’d)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pute the incremental cash flow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cash flows of A-C represent a non-simple invest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3200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320040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360" y="3124080"/>
            <a:ext cx="665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14300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29528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44792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60020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75248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90512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05740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20968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36232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752480" y="23619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51460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66688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81952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97180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12408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27672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42900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58128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73392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88620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03848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19112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34340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49568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64832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80060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95288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552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25780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41008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56272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71500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86728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01992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17220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32448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62940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78168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93432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08660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23888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39152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54380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769608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84872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3200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33920" y="3200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05520" y="3200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53320" y="320040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77200" y="320040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01080" y="320040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25320" y="320040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77120" y="3200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038480" y="23619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276720" y="23619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514600" y="23619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800600" y="23619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562720" y="23619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3619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162920" y="23619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2320" y="365760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4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3680" y="2743200"/>
            <a:ext cx="56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97600" y="403848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6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64080" y="228600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6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3: Incremental Analysis (cont’d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e must verify graphically (or with another method) that the interest found correspond to a rate of return. Luckily, it does. The rate of return of the incremental cash flows is 11.6%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refore reject the challenger, project A and accept C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n Easier way for Different Live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nd ROR of A - C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AW(A - C) = NAW(A) - NAW(C) = 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100(A/P, i, 9) + 20 - [-60(A/P, i, 5) + 18]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100(A/P, i, 9) + 60(A/P, i, 5) + 2 = 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AW(A - C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0%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2889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5%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1789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0%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463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5%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1058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2%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-123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OR of A - C is 11.6%. Reject A - C and choose C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utually Exclusive Alternatives with a Do-Nothing Alternativ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ppose we can select one alternative or no alternat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olution Methodology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mpute ROR of each alternativ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ject any alternatives that do not yield the MAR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f only one remains, choose that alternativ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f more than one remains, do incremental analysis to select the bes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4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RR = 13%  (select one or none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3818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4 (cont’d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nce B does not return 13% it can be discarded.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e most compare A and C, by computing the rate of return of the extra investment of A over C.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rate of return of A over C is 11.6%.  Since the return on the extra investment is less than 13% (the MARR) reject the extra investment.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e should choose option C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Conclusion:  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easure of merit is the ROR (a percentage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r a single alternative, accept if ROR ≥ MAR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r multiple alternatives: Accept an increment if the ROR for the increment≥ MAR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ate of Return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all that the ROR of an investment is the interest rate that mak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PW = 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AW = 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W Benefits = PW Cos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W Benefits = AW Cos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r a single project, accept if ROR ≥ MAR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Decisions Involving Multiple Project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iven a set of possible projects,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y subset of the projects may be select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nly one may be selected, but one must be chosen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nly one may be selected, but it is OK to choose non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Non-Mutually Exclusive Alternative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ppose we can select any subset of the project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olution Methodology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mpute the ROR of each alternativ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lect each alternative for which ROR ≥ MAR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1: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RR = 13%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2101680"/>
            <a:ext cx="81532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nalysi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OR of A = 13.7%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OR of B = 12.7%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OR of C = 15.3%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oth A and C have ROR larger than our MARR. Therefore, select both A and C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utually Exclusive Alternative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ppose we must select one, only one, but at least one, alternativ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olution Methodology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ach increment of investment must yield the MARR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form Incremental Analysis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ecall Incremental Analysi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. Rank the alternatives in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ncreasing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rder of invest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2. Select a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en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alternative with the smallest invest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3. Let th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halleng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be the alternative with the next higher invest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4. Accept or reject the challenger on the basis of the return on the extra investment.  The winner becomes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d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5. If the highest level of investment has been reached, stop.  Otherwise return to step 3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7T21:14:55Z</dcterms:created>
  <dc:creator>Valerie Tardif</dc:creator>
  <dc:description/>
  <cp:keywords>Time Money Uncertainty Organizations</cp:keywords>
  <dc:language>en-US</dc:language>
  <cp:lastModifiedBy>Paul A. Jensen</cp:lastModifiedBy>
  <cp:lastPrinted>2001-02-08T04:36:23Z</cp:lastPrinted>
  <dcterms:modified xsi:type="dcterms:W3CDTF">2002-02-05T22:25:05Z</dcterms:modified>
  <cp:revision>105</cp:revision>
  <dc:subject>Eng. Econ. Lecture 0</dc:subject>
  <dc:title>Place of Engineering Economics in the World</dc:title>
</cp:coreProperties>
</file>