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8F5-9E14-43F2-85B4-48667535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509-C675-47FA-BCEC-C10FF542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A8B-8B80-4558-9C81-521A3A8C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4248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4248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875-3D77-4D9E-81D2-88681C7E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1159-8634-489A-8C87-42A5A48A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6B60-7DF4-4432-983B-4895E156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6AB1-97A0-436F-AE09-43617D45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102B-533D-40BA-9CD1-F609D306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440D-DC07-4659-8EF0-1AB591A7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38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5284-BD0C-438C-BEC3-E8B10665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2682-17E2-45A4-A43C-DF2BF4F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0BA-D0EA-414C-96B3-16325F7D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A21C-3BE6-4240-A369-F25574E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70DB-4627-41D3-AB83-6A4B023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5108-9820-4708-8353-D814DAE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062B-6354-43EA-A2E9-FE80AD91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4248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0272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4248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0272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25A9-C66A-417C-A6E2-2426FD02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61F-2728-4B67-AB1D-948DC3AE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FC7-AD5D-437C-B7BC-6CD231E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6DA-89AA-45F3-A86E-3C30D078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38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D0A-7922-415A-9CF2-283AD3FD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C4D-A0A4-4713-98D6-27978F96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C48-478C-42EF-A74A-AF4778A8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103-DD2C-473F-AE19-1113B51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rie Tardiff and Paul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BE1-BF1B-4675-AA2A-814F2C20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rie Tardiff and Paul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6262-528E-48D5-B487-D7C248EF6C95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conomic Decision Mak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cisions using Time Value of Mone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5/04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nimum Acceptable Rate of Return (MARR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287080"/>
            <a:ext cx="7275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ory, the minimum acceptable rate of return (MARR) is the interest rate that could be received if the funds were invested else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to think of it as the hurdle r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06C-5427-4BD2-AE0E-CE24D4F566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ARR (cont’d)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it depends on much more than the bank interest rate. It is determined by top-management and depe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money available for investment, the source and cost of these fun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good projects available for investment and their purpo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risk associated with investment opportunities and the cost of administering investment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of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organization determines its MARR is far from clear and well-defined. A popular approach is to look at the opportunity cost of keeping cash liquid in a b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FDD-F592-4817-9226-D87D30FB73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Net Present Wort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 Present Worth method, also called the Present Worth (PW), method compares all cash flows only after they have been measured at a common point in time determined to be the present d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NPW as a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, we transform cash flow amounts to their equivalent in the present and add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/F, i,1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/F, i,2) + ….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/F, i,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C6D-19FE-4876-A804-D28AEDCAFF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1886040"/>
            <a:ext cx="6705720" cy="3668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h Flow for the Borrow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432-9C85-42E7-8ADE-2640BA143A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 this an acceptable loan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otal summed over all cash flow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- $14.44 (16) = - $31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sonabl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the borrower wants a cost of borrowing no more than 2%. Does this loan cost more than the maximum acceptable rate for borr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NPW using the MARB. If it is positive, accept the loan, otherwise re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840-9A33-4C0A-8783-964C43959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380880" y="1905120"/>
          <a:ext cx="8001000" cy="3771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05120"/>
                    <a:ext cx="80010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e NPW as a function of MARB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our examp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W = +200 - 14.44 (P/A, MARB, 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4200" y="5638680"/>
            <a:ext cx="72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n MARB is 2%, NPW is &gt; 0, so accept the lo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B36-CDAD-4698-BFE5-8462D13D16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aximum Acceptable Rate of Borrowing (MARB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287080"/>
            <a:ext cx="7275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ximum acceptable rate of borrowing (MARB) is the interest rate that would be paid if the funds were borrowed else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est rate charged by a bank is often the MARB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E55-18AC-484C-BB33-E8AFF26588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uture Wort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ture Worth (FW) method compares all cash flows only after they have been measured at a common point in time determined to be the end of the analysis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FW as a function of i%, we transform cash flow amounts to their equivalent in the future and add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W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/P,i,N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/P,i,N-1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/P,i,N-2)  + …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/P,i,1) 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397-E677-467D-98C4-646B610976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Net Annual Wort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 Annual Worth (NAW) method, also called the Annual Worth (AW), method compares all cash flows only after they have been transformed into time-equivalent annu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NAW as a function of i%, we transform the cash flows over time as uniform payments over the length of the project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W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/P, i, N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/F,  i,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A5D-47E1-47DD-A3B2-92853FE3AF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quivalenc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W, FW, and NAW all yield the same decision since they are all the representations of the same cash flows at different point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W = NPW (A/P, i,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W    =  NPW (F/P,  i,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RR for the inves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RB for the bo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9E0-E2AE-462F-B817-4C0D588282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ngineering Economic Analys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seven steps of Engineering Econom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AE3-F601-4A1B-B2D3-B7A3EBD552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pital Recovery Co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engineering situations, the capital cost has two compon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, the investment expended at time 0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he salvage value received at tim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2971800"/>
          <a:ext cx="5334120" cy="319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971800"/>
                    <a:ext cx="533412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884-90D5-420C-AC64-038F154757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pital Recovery Cost (cont’d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Recovery (CR) Cost is the annual equivalent  of the capital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I (A/P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) -  S (A/F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(I -S) (A/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)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(I -S) (A/F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)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51E-C067-4DC2-9274-9571422301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ompany is planning to manufacture a new product. The product requires a machine that the company does not now own. The cost of the machine is $10,000, its life is 4 years, and its salvage value (at the end of the 4th year) is $1,000. With this machine, the new profit from each product is $12. What annual production makes the investment worthwhile? The MARR is 10%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2C1-8C16-4EA7-9188-F5DFA512EC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ample (cont’d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capital recovery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life 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 =  I (A/P, MARR, N) - S (A/F, MARR, 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$10,000 (A/P,10%,4) - $1,000 (A/F, 10%,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$10,000 (0.3155) -  $1,000 (0.21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$3,155-$215.50 = $2939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A9D-0F06-465E-960E-C004C1AF95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ample (cont’d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shortcuts,we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 =  (I-S) (A/P,10%,4)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$9,000 (0.3155) +  (0.1)$1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$2,839.5 + $100 = $293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 =  (I-S) (A/F,10%,4)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$9,000 (0.2155) +  (0.1)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$1,939.5 + $1,000 = $293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9DE-C5DD-4815-9DEF-BC0D9D6B62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ample (cont’d)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recovery costs must equal or exceed revenues to be prof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2939.5 = $12x where x is the number of products produced per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x, we g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&gt;= 250 un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72E-A86A-4F3D-8B94-AB36869FBD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y Do We Make Investments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stock in return for dividends and a higher stock price in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 in a machine in return for reduced operating costs or greater sales in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a bond in return for interest payments and the return of principal in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up money now in the hopes of receiving more money in the fu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return is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C9A-1068-4FF3-9969-6F4655CA8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y Do We Borrow Money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orrow money to buy a $100,000 house in return for paying $300,000 over the next 3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orrow $10,000 to buy a car and pay an extra $2,000 in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uy a new set of clothes and put the bill on our credit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pend money now in return for paying more money in the fu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are we willing to p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810-858C-4D91-9175-27B1768083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275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brother borrows $200 from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pay back in monthly payments of $14.44 for the next 16 mont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n acceptable investment for you, the lender (or investor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n acceptable loan for your brother, the borr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FC0-4319-4942-9590-61125C2B95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h Flow for Lend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1219320"/>
          <a:ext cx="7543800" cy="46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19320"/>
                    <a:ext cx="75438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C00-52AC-482F-9173-DA92377F9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 this an acceptable investmen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otal summed over all cash flow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00 + $14.44 (16) = $31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enough?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 lender requires a minimum return of 1% per month. Does this investment obtain the required ret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C99-859F-4922-AA34-FCCA13A7B8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lection Procedu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nimum Acceptable Rate of Return (MARR) (for the lender)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Equivalent Value of the Cash Flow using the MAR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Net Present Worth (NPW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Future Worth (FW) 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 the Net Annual Worth (NA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PW, FW or NAW is ≥ 0, accept the investment or the lo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accept the do-nothing alternative. In other words, reject the investment or the lo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F02-D9D8-4A0F-B1D7-14526ADCB3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e NPW as a function of MAR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2133720"/>
          <a:ext cx="876312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133720"/>
                    <a:ext cx="8763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our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W = –200 + 14.44 (P/A, MARR,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952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n MARR is 1%, NPW is &gt; 0, so accept the inve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EC1-1763-4056-A5C7-18F0170BC9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1:14:55Z</dcterms:created>
  <dc:creator>Valerie Tardif</dc:creator>
  <dc:description/>
  <cp:keywords>Time Money Uncertainty Organizations</cp:keywords>
  <dc:language>en-US</dc:language>
  <cp:lastModifiedBy>Paul Jensen</cp:lastModifiedBy>
  <cp:lastPrinted>1997-10-07T00:52:12Z</cp:lastPrinted>
  <dcterms:modified xsi:type="dcterms:W3CDTF">2004-08-25T19:22:10Z</dcterms:modified>
  <cp:revision>69</cp:revision>
  <dc:subject>Eng. Econ. Lecture 0</dc:subject>
  <dc:title>Place of Engineering Economics in the World</dc:title>
</cp:coreProperties>
</file>