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234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620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4640" cy="6188040"/>
            <a:chOff x="0" y="385920"/>
            <a:chExt cx="9134640" cy="618804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6960" cy="457200"/>
              <a:chOff x="0" y="385920"/>
              <a:chExt cx="966960" cy="4572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6560" cy="316080"/>
              <a:chOff x="838080" y="6257880"/>
              <a:chExt cx="8296560" cy="31608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ff5008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ff5008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xes and Depreciat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C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 with MACRS 3-yea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1741320"/>
          <a:ext cx="8115480" cy="321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41320"/>
                    <a:ext cx="811548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period 5, Book Value= 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conomic Analysis for MACRS 3-yea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fore-tax NPW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-11000 + 3000 (P/A, 0.09, 5) + 1000 (P/F, 0.09, 5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 1319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fter-tax NPW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-11000 + 3266.52 (P/F, 0.09, 1) + 3755.8 (P/F, 0.09, 2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 … + (1800+600) (P/F, 0.09, 5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117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fore-tax   ROR =  13.34%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fter-tax     ROR =    9.45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 with MACRS 5-yea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1219320"/>
          <a:ext cx="8224560" cy="36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22456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year 5, Book Value = 11,000 - 2200 - 3520 - 2112 - 1267.2 - 633.6 = 1267.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conomic Analysis for MACRS 5-yea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fter tax NPW = -11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fter tax ROR = 8.61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ry problem has three kinds of cash flow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vestment:  cash flow at time 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nual Revenues /Operating Costs:  At times 1 through end of lif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lvage Value:  cash flow at end of lif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mmary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vest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new assets, there is no tax effect at time 0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"/>
          <p:cNvSpPr/>
          <p:nvPr/>
        </p:nvSpPr>
        <p:spPr>
          <a:xfrm>
            <a:off x="268128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2614680"/>
            <a:ext cx="7848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mmary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nual Revenues / Operating Co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CF = BTCF - Tax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x = (BTCF - Depreciation)(tax rate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261936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61976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mmary (cont’d)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lvage Valu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Book Value (BV) is different than salvage value (SV), there is a tax effect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lvage ATCF = Salvage BTCF -  Tax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x = (SV - BV)(tax rat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261000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63244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at tax rate do we use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me we have a new project with additional income over the current projec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at tax rate do we use to find the tax on the additional incom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e the tax rate that would be applicable to the next dollar of incom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s is the incremental tax rate appropriate to your highest level of taxable inco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en the asset is actually sold for the price SV, there may be a tax effect.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f SV &gt; BV then the amount SV - BV is a capital gain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ou must pay tax on the capital gai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f SV &lt; BV then the amount BV - SV is a capital loss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ou may deduct the loss from other capital gains and have tax saving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at is Depreci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line in value due to wear and tear (deterioration), obsolescence and lower resale valu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y do we compute depreci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reduce net profit before taxes =&gt;Decrease taxes =&gt;Increase the cash flow after tax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 previous analysis methods described work with tax consider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e after tax cash flows and after tax MARR for analysi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preciation of investments is required in analysi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method of depreciation may affect the decis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view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w do you compute Depreci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t is computed separately for each asset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t depends 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5008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age of the asset,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5008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Initial Cost of the asset (P), 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5008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Tax Salvage of the Asset (S) (sometimes), and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5008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Tax Life of the asset (N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epreciation Method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ral depreciation methods exi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-called historical or classical metho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raight Lin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m of the Years Digi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lining Bala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ent method mandated by the govern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dified Accelerated Capital Recovery System (MACRS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ethod 4: Modified Accelerated Capital Recovery System (MACRS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CRS was created in 1986 and prescribed by the I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CRS is now the principal method for computing depreciation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CRS assigns a class (tax life) to various kinds of property. (Useful life estimates are no longer relevant.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tangible personal property fall in one of the six categorie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-, 5-, 7-, 10-, 15-, 20-year class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ntal property is assigned a 27.5-year tax lif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nresidential real property is assigned a 31.5-year tax lif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CRS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CRS gives a percentage depreciation for each yea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depreciation is the percentage times the initial c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CRS gives organizations the choice of two depreciation systems: General (GDS) or Alternative (AD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DS is more accelerated and thus most often preferr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eneral Depreciation System (GDS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GDS percentages are computed with a declining balance method using a switch poi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uble rate for 3-, 5-, 7- and 10-year classes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.5 rate for 15- and 20-year classes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raight line method f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5008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ntal property (27.5 year life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5008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nresidential real property (31.5 year life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lf-Year Convent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90720" y="3276720"/>
          <a:ext cx="7538760" cy="307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53876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lf-year convention assumes that an asset purchased in a year is purchased in the middle of the year. Therefore, only half a year of depreciation is allow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call Example 1: Should we invest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 Machine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vestment = $11,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x Life and Actual Life = 5 yea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x Salvage and Actual Salvage = $1,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ome = $4,000 per ye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ting Expenses = $1,000 per ye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40% Tax R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fter Tax MARR = 9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1:14:55Z</dcterms:created>
  <dc:creator>Valerie Tardif</dc:creator>
  <dc:description/>
  <cp:keywords>Time Money Uncertainty Organizations</cp:keywords>
  <dc:language>en-US</dc:language>
  <cp:lastModifiedBy>Valerie Tardif</cp:lastModifiedBy>
  <cp:lastPrinted>2001-10-18T14:02:05Z</cp:lastPrinted>
  <dcterms:modified xsi:type="dcterms:W3CDTF">2001-10-18T14:22:15Z</dcterms:modified>
  <cp:revision>119</cp:revision>
  <dc:subject>Eng. Econ. Lecture 0</dc:subject>
  <dc:title>Place of Engineering Economics in the World</dc:title>
</cp:coreProperties>
</file>