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CBB-0FAE-42CA-BBBD-C01862A4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0DE-5DA9-48A6-8B6B-C593AC24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076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150-18F2-4D1E-A02B-341DD870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4248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0272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4248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0272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F90-2280-4F79-86A0-0D9D5085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C600-4B36-4F4D-B561-1A139B4B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271E-0E5E-4262-ABAA-160B447F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0D41-A52E-4B06-9CD6-C2C013DB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7F57-004D-484F-B0B7-DCCD8C1D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6BAB-9727-4FC4-8A82-0F5ECE7A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38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40F4-FB0E-4BC8-8171-F3979BBC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81A0-7946-44FA-AEAA-FCAFA19B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ADD-14FD-46C5-8745-70869943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1076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E935-1811-44A0-BC32-DA49AF64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E2D9-C741-480E-B8BC-E1D36BAF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1D76-B109-47A7-AE41-2450ED99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1076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40B2-D76C-44BE-8122-17D8E4E7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4248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02720" y="201780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4248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02720" y="4167360"/>
            <a:ext cx="2342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F16A-B5CA-4D1B-A81E-08B0667F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323-FEB2-43C4-9B7B-199D51CB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D54-72C6-433B-A1DF-9AFAC931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85B-8CF8-4059-8D78-9460B910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38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F40-FCCF-4824-9DB0-CBDCF677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266-3078-4346-B680-7772D20B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0760" y="416736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3B4-74B6-459B-8B71-A578596C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0760" y="2017800"/>
            <a:ext cx="355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27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463-DF7C-425B-8FC1-643E05EC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erie Tardiff and Paul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4EA7-ED9F-4D5C-AB95-30581B56C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erie Tardiff and Paul J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ons Research Models and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4 - All rights reserved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91DA-F9E2-4124-89CD-63B69428F2B0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ngineering Economics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25/04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ngineering Economic Analysis - Seven Step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and formulate the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feasible altern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cash flows for each altern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criterion (or criteria) for determining the preferred altern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and compare altern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preferred altern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monitoring and post-eval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B7E-9C51-48E4-BCA2-CFDF04AAB1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mportance of Learning this Materia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rse is about decision making in the environment of an organization (business or government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hods have applications to personal decisions as wel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C09-AE74-4F9D-B481-EA01F016100D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ngineering economic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cares about i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engineers have to study i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9D7-7A87-4F62-B81C-4C369EB0FCE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oney and Succes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urse has to do with money and su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us want some measure of success in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etter or for worse, money (and economics) has a lot to do with succes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729-7A30-4DC7-94E0-F43B1F6B1DA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conomics and Engineer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 is a big part of an engineer's job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gineer must translate scientific ideas in products and systems that better mankin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s need to make sense economically and the engineer must be able to convince others that this is 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true of any organization that you might join upon gradu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77D-6187-434F-B1B8-357BCF8C7E9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he Goal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4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-profit organizations have for goal to make money - now and in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-for-profit must remain financially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ypes must worry about money or they will probably cease to ex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578-1C2C-4B97-AD6E-E788F5EEB2E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conomics and World Instituti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50960" y="1981080"/>
            <a:ext cx="40420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F90-682F-4939-8352-CAADE9931EF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conomics and World Instituti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:  International trade, balance of payments, currency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, State and Local:  Tax spending, GNP, distribution of resources, support of institutions, public welf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: Revenues, costs, profit, return on investment, stock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:  Salary, investments, savings, bor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526-4F30-498E-8A26-43804395ED8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usiness Decisions are not Simpl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esign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design (inspection, operations, raw material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ecisions are interrelated.  You can't make one without affecting many others.  This is especially true when multiple products, periods, stages are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DB2-F342-47A4-9A8D-89004DC7A8D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he Question is: 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operate in this environmen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organization you work for operat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 economics is entirely involved with evaluating the comparison of alternatives that involve spending money in hopes of earning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F52-9173-4810-BC2A-A5F63438F3A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1:14:55Z</dcterms:created>
  <dc:creator>Valerie Tardif</dc:creator>
  <dc:description/>
  <cp:keywords>Time Money Uncertainty Organizations</cp:keywords>
  <dc:language>en-US</dc:language>
  <cp:lastModifiedBy>Paul Jensen</cp:lastModifiedBy>
  <cp:lastPrinted>1997-08-22T14:31:11Z</cp:lastPrinted>
  <dcterms:modified xsi:type="dcterms:W3CDTF">2004-08-27T14:26:24Z</dcterms:modified>
  <cp:revision>20</cp:revision>
  <dc:subject>Eng. Econ. Lecture 0</dc:subject>
  <dc:title>Place of Engineering Economics in the World</dc:title>
</cp:coreProperties>
</file>