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1048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300480"/>
            <a:ext cx="861048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20156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9360" y="1066680"/>
            <a:ext cx="420156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300480"/>
            <a:ext cx="420156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69360" y="3300480"/>
            <a:ext cx="420156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77236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8520" y="1066680"/>
            <a:ext cx="277236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79840" y="1066680"/>
            <a:ext cx="277236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300480"/>
            <a:ext cx="277236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8520" y="3300480"/>
            <a:ext cx="277236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79840" y="3300480"/>
            <a:ext cx="277236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610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1048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20156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360" y="1066680"/>
            <a:ext cx="420156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20156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9360" y="1066680"/>
            <a:ext cx="420156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0480"/>
            <a:ext cx="420156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20156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69360" y="1066680"/>
            <a:ext cx="420156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69360" y="3300480"/>
            <a:ext cx="420156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20156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9360" y="1066680"/>
            <a:ext cx="420156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300480"/>
            <a:ext cx="861048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85920"/>
            <a:ext cx="9134640" cy="6188040"/>
            <a:chOff x="0" y="385920"/>
            <a:chExt cx="9134640" cy="6188040"/>
          </a:xfrm>
        </p:grpSpPr>
        <p:grpSp>
          <p:nvGrpSpPr>
            <p:cNvPr id="1" name=""/>
            <p:cNvGrpSpPr/>
            <p:nvPr/>
          </p:nvGrpSpPr>
          <p:grpSpPr>
            <a:xfrm>
              <a:off x="0" y="385920"/>
              <a:ext cx="966960" cy="457200"/>
              <a:chOff x="0" y="385920"/>
              <a:chExt cx="966960" cy="4572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85920"/>
                <a:ext cx="320760" cy="457200"/>
              </a:xfrm>
              <a:custGeom>
                <a:avLst/>
                <a:gdLst/>
                <a:ahLst/>
                <a:rect l="l" t="t" r="r" b="b"/>
                <a:pathLst>
                  <a:path w="202" h="288">
                    <a:moveTo>
                      <a:pt x="0" y="0"/>
                    </a:moveTo>
                    <a:lnTo>
                      <a:pt x="201" y="0"/>
                    </a:lnTo>
                    <a:lnTo>
                      <a:pt x="165" y="287"/>
                    </a:lnTo>
                    <a:lnTo>
                      <a:pt x="0" y="2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97000" y="385920"/>
                <a:ext cx="264960" cy="457200"/>
              </a:xfrm>
              <a:custGeom>
                <a:avLst/>
                <a:gdLst/>
                <a:ahLst/>
                <a:rect l="l" t="t" r="r" b="b"/>
                <a:pathLst>
                  <a:path w="167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132" y="287"/>
                    </a:lnTo>
                    <a:lnTo>
                      <a:pt x="166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34960" y="385920"/>
                <a:ext cx="220680" cy="457200"/>
              </a:xfrm>
              <a:custGeom>
                <a:avLst/>
                <a:gdLst/>
                <a:ahLst/>
                <a:rect l="l" t="t" r="r" b="b"/>
                <a:pathLst>
                  <a:path w="139" h="288">
                    <a:moveTo>
                      <a:pt x="35" y="0"/>
                    </a:moveTo>
                    <a:lnTo>
                      <a:pt x="0" y="287"/>
                    </a:lnTo>
                    <a:lnTo>
                      <a:pt x="104" y="287"/>
                    </a:lnTo>
                    <a:lnTo>
                      <a:pt x="13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5400" y="385920"/>
                <a:ext cx="163440" cy="457200"/>
              </a:xfrm>
              <a:custGeom>
                <a:avLst/>
                <a:gdLst/>
                <a:ahLst/>
                <a:rect l="l" t="t" r="r" b="b"/>
                <a:pathLst>
                  <a:path w="103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68" y="287"/>
                    </a:lnTo>
                    <a:lnTo>
                      <a:pt x="102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5720" y="385920"/>
                <a:ext cx="111240" cy="457200"/>
              </a:xfrm>
              <a:custGeom>
                <a:avLst/>
                <a:gdLst/>
                <a:ahLst/>
                <a:rect l="l" t="t" r="r" b="b"/>
                <a:pathLst>
                  <a:path w="70" h="288">
                    <a:moveTo>
                      <a:pt x="33" y="0"/>
                    </a:moveTo>
                    <a:lnTo>
                      <a:pt x="0" y="287"/>
                    </a:lnTo>
                    <a:lnTo>
                      <a:pt x="35" y="287"/>
                    </a:lnTo>
                    <a:lnTo>
                      <a:pt x="69" y="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38080" y="6257880"/>
              <a:ext cx="8296560" cy="316080"/>
              <a:chOff x="838080" y="6257880"/>
              <a:chExt cx="8296560" cy="316080"/>
            </a:xfrm>
          </p:grpSpPr>
          <p:sp>
            <p:nvSpPr>
              <p:cNvPr id="8" name=""/>
              <p:cNvSpPr/>
              <p:nvPr/>
            </p:nvSpPr>
            <p:spPr>
              <a:xfrm>
                <a:off x="838080" y="6496200"/>
                <a:ext cx="8296560" cy="77760"/>
              </a:xfrm>
              <a:custGeom>
                <a:avLst/>
                <a:gdLst/>
                <a:ahLst/>
                <a:rect l="l" t="t" r="r" b="b"/>
                <a:pathLst>
                  <a:path w="5226" h="49">
                    <a:moveTo>
                      <a:pt x="0" y="48"/>
                    </a:moveTo>
                    <a:lnTo>
                      <a:pt x="5225" y="48"/>
                    </a:lnTo>
                    <a:lnTo>
                      <a:pt x="5225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65080" y="6377040"/>
                <a:ext cx="8269560" cy="77760"/>
              </a:xfrm>
              <a:custGeom>
                <a:avLst/>
                <a:gdLst/>
                <a:ahLst/>
                <a:rect l="l" t="t" r="r" b="b"/>
                <a:pathLst>
                  <a:path w="5209" h="49">
                    <a:moveTo>
                      <a:pt x="0" y="48"/>
                    </a:moveTo>
                    <a:lnTo>
                      <a:pt x="5208" y="48"/>
                    </a:lnTo>
                    <a:lnTo>
                      <a:pt x="5208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2080" y="6257880"/>
                <a:ext cx="8242560" cy="81000"/>
              </a:xfrm>
              <a:custGeom>
                <a:avLst/>
                <a:gdLst/>
                <a:ahLst/>
                <a:rect l="l" t="t" r="r" b="b"/>
                <a:pathLst>
                  <a:path w="5192" h="51">
                    <a:moveTo>
                      <a:pt x="0" y="50"/>
                    </a:moveTo>
                    <a:lnTo>
                      <a:pt x="5191" y="48"/>
                    </a:lnTo>
                    <a:lnTo>
                      <a:pt x="5191" y="0"/>
                    </a:lnTo>
                    <a:lnTo>
                      <a:pt x="12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61048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ff5008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ff500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ost and Cash Flow Estimation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imating Relationships and Problem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6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1540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rare product is made in batches of 50 units. Within a batch, each unit take less and less time to be produced because of a learning process of 75%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time needed to assemble the first unit =  2.3123 h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time needed to assemble each consecutive units is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 Antiqua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= 2.3123 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log 0.75/log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 2.3123 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-0.415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total time taken for all 50 units =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+...+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50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 36.48 hou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Determining the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per unit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roduct cost estimate using a bottom-up approach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1048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struct a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abl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ontaining per unit estimates, factor estimates, and direct estima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art with labor cos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put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ndirec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osts to get the total manufacturing co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vide by the number of units for 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per unit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ccount for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margin of prof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s is referred to as 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esign to price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7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991360" cy="450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rect labor costs are estimated via the unit technique. 36.48 direct labor hours are required to produce 50 units and the composite labor rate is $10.54 per hour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direct costs are often allocated using factor estimates. Planning labor and quality control are estimated at 12% and 11% of direct labor cos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3444840"/>
            <a:ext cx="8381880" cy="30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1540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actory overhead and general and administrative expenses are estimated as 105% and 15% of total labor cost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otal production materials cost for the 50 unit is $167.17. A direct estimate of $28.00 applied to outside manufactur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1048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cking costs are estimated as 5% of all previous cost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sts of other miscellaneous charges are figured in as 1% of the current subtota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acility rental is estimated at $0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8229600" cy="36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1048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price of a product is based on the overall cost of making the item plus a built-in profit (profit margin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re we use  a profit margin of 1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2855880"/>
            <a:ext cx="8229600" cy="34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arget Costing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1048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sed by Japanese firm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op-down approac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cuses on “what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he product cost” rather than “what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he product cost”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egins with market surveys to determine competitor’s price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arget cost(1 + Profit Margin) = competitor’s pri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arget cost = competitor’s price/(1 + Profit Margin)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arget cost is used as a goal for engineering design, procurement, and produc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6 (cont’d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8991360" cy="450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mpetitor’s price is $27.50. ROS = 10%. Thu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arget cost = $27.50 (1-0.1) = $24.75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nce Unit Selling Price &gt; Target Cost, we must work backwards from the Total Mnfg Cost to reduce i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2521080"/>
            <a:ext cx="822960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1048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veloping cash flows for each alternative in a study is a pivotal step in the engineering economic analysis procedur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 integrated approach for developing cash flows includ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termining the length of the analysis perio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xing a perspective and determining a baselin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WBS  definition of the projec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cost and revenue structu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stimating techniques (models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orkbook Problem 1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1048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ufacturing equipment was purchased in 1991 for $200,000. What was the estimated cost in 1996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1996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=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1991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1996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/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1996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 $200,000 (293/223) = $262,780.27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stimating Technique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1048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dex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nit Techniqu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actor Techniqu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stimating Relationship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ower-Sizing Techniqu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earning Curv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alysis of product price and cost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stablishing  product price as a markup to cos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stablishing price in relation to competi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ixing a  goal for cos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orkbook Problem 2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0 miles of poles and lines are need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ch mile of line costs $14,00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ch pole (placed every 40 yards) costs $210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umber of poles needed =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0 miles/ 40 poles per yard =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10 miles)(5280 ft/miles)(1 yd/3 ft)/(40 yd/pole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 440 po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st = (10 mi)($14,000/mi) + (440 poles) ($210/pole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 $232,40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orkbook Problem 3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itial work K = 126 hou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sume learning curve s = 95%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 = log 0.95/log 2 = -0.074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= 126 (8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–0.074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108 hou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= 126 (5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–0.074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94.3 hou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verage for first five = 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+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+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+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+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/5 =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26 (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–0.074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+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–0.074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+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–0.074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+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–0.074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+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–0.074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 /5 = 117.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orkbook Problem 4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0676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itial cost K = $1.15X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sume learning curve s = 85%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 = log 0.85/log 2 = -0.15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= 1.15X (30)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–0.15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=0.686X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fter 30 months, a 31.4% (100%-68.6%) reduction in overhead costs is expected (with respect to the current cost X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orkbook Problem 5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1048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et’s build a spreadshee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ower-Sizing Techniqu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lso sometimes referred to as 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xponential mod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ften used to cost industrial plants and equip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= cost  for plant 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 Antiqu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= cost for plant B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= size of plant 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 Antiqu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= size of plant B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X =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ost-capacity factor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reflect economies of scale              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 /C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Book Antiqua"/>
              </a:rPr>
              <a:t>B 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= (S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/S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Book Antiqu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r   C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 = C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Book Antiqua"/>
              </a:rPr>
              <a:t>B 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(S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/S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Book Antiqu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4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1048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ke a preliminary estimate of the cost of building a 600-MW fossil fuel power plant. It is known that a 200-MW plant cost $100 million 20 years ago when the appropriate cost index was 400. That cost index is now 1,200. The power-sizing factor is 0.79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oday’s estimated cost of a 200-MW plant =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$100 million x (1,200/400) = $300 mill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oday’s estimated cost of a 600-MW plant =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$300 million x (600/20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0.79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 $714 mill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Learning Curve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83908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thematical model that explains the phenomenon of increased worker efficiency and improved performance through repetitive produ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xperience curve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manufacturing progress func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as first reported in 1936 by T.P. Wright, an aerospace engine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e observed that, with each doubling of cumulative production, the total man-hours needed per plane were reduced to 80% of the former leve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Learning Curve Example 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6705720" cy="342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685800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Learning Curve Example (cont’d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thematics of the Learning Curv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= the output unit numb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= the number of input resources needed to produce output unit number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 the number of input resources needed to produce the first output un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 the learning curve slope paramet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= K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Book Antiqua"/>
              </a:rPr>
              <a:t>a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ere  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= 0,1,2,3,....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 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Book Antiqua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r,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= K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Book Antiqua"/>
              </a:rPr>
              <a:t>n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ere  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= log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/ log 2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5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10480" cy="42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student team is designing a formula car for national competition. The time required for the team to assemble the first car is 100 hours. Their learning rate is 0.8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time it will take to assemble the 10th car =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Book Antiqua"/>
              </a:rPr>
              <a:t>10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= 100 (10)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Book Antiqua"/>
              </a:rPr>
              <a:t>log 0.8/log2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=  100 (10)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Book Antiqua"/>
              </a:rPr>
              <a:t>-0.322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= 100 / 2.099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= 47.6 hour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1:14:55Z</dcterms:created>
  <dc:creator>Valerie Tardif</dc:creator>
  <dc:description/>
  <cp:keywords>Time Money Uncertainty Organizations</cp:keywords>
  <dc:language>en-US</dc:language>
  <cp:lastModifiedBy>Paul Jensen</cp:lastModifiedBy>
  <cp:lastPrinted>2001-10-29T19:15:25Z</cp:lastPrinted>
  <dcterms:modified xsi:type="dcterms:W3CDTF">2002-03-07T05:01:35Z</dcterms:modified>
  <cp:revision>47</cp:revision>
  <dc:subject>Eng. Econ. Lecture 0</dc:subject>
  <dc:title>Place of Engineering Economics in the World</dc:title>
</cp:coreProperties>
</file>