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4DF-53D3-4FE6-B34B-CEB857B1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E27-34AB-43DE-866A-55AE321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B22-D012-4098-BDF8-4D40F51F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33A-AC87-4467-86A3-581D631E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039-83ED-45A1-BC9B-06DE4F02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AB45-9D0D-4C99-8F28-576086A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590F-E919-4860-8578-D5D20E05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5149-3D3B-47F0-BABF-25B36592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D656-D323-48C6-B2AC-215C8AE0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D222-E90D-4EF4-8CAB-606E443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F6CC-C158-48B5-BED2-6CB5C77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386-2C94-4A11-968B-B992B52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A96-A546-4D60-AADB-43E4B9C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BE7-705A-479D-AB53-65E06E1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D245-D7A0-4DEF-A736-4535D82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70F-1D55-4863-95FE-3E8529A3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53C-6112-43CD-83FC-7D92D285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CCC-85C8-421B-A4E6-A474FF2E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33A-8267-4F29-B8B5-3B9B7A4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4FA-977D-4E7B-ABC4-1CA8DA1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6DB-2BCB-4A51-9BA5-67FBAD5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F86-EC29-4295-BA81-3007E2C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74B-6645-4553-BC7A-B649EF3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E20-180F-41FF-AA99-A485411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2F2-3DF4-4A4B-AA11-8B4C63088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ul A.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B1F-9CFC-41CF-85E7-E33B001673A0}" type="slidenum">
              <a:rPr b="0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ct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image" Target="../media/image23.pct"/><Relationship Id="rId6" Type="http://schemas.openxmlformats.org/officeDocument/2006/relationships/image" Target="../media/image24.pct"/><Relationship Id="rId7" Type="http://schemas.openxmlformats.org/officeDocument/2006/relationships/image" Target="../media/image25.pct"/><Relationship Id="rId8" Type="http://schemas.openxmlformats.org/officeDocument/2006/relationships/image" Target="../media/image26.pct"/><Relationship Id="rId9" Type="http://schemas.openxmlformats.org/officeDocument/2006/relationships/image" Target="../media/image27.pct"/><Relationship Id="rId10" Type="http://schemas.openxmlformats.org/officeDocument/2006/relationships/image" Target="../media/image28.pct"/><Relationship Id="rId11" Type="http://schemas.openxmlformats.org/officeDocument/2006/relationships/image" Target="../media/image29.pct"/><Relationship Id="rId1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image" Target="../media/image9.pct"/><Relationship Id="rId10" Type="http://schemas.openxmlformats.org/officeDocument/2006/relationships/image" Target="../media/image10.pct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image" Target="../media/image17.pct"/><Relationship Id="rId9" Type="http://schemas.openxmlformats.org/officeDocument/2006/relationships/image" Target="../media/image18.pct"/><Relationship Id="rId10" Type="http://schemas.openxmlformats.org/officeDocument/2006/relationships/image" Target="../media/image19.pct"/><Relationship Id="rId11" Type="http://schemas.openxmlformats.org/officeDocument/2006/relationships/image" Target="../media/image1.pct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Go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Eliyahu M. Goldratt and Jeff Cox, North River Press, Inc., Second Revised Edition (199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7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we measure progress toward the goa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4B9C-2B1C-4AFB-A322-2995AC7E4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ancial Meas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inancial Measures Describe the Goal of Making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Profit (N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Investment (R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Flow (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sufficient for making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74D-1619-48BC-893C-23C2B8004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n NP, ROI and CF be used to make decis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Economics says “y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the project if the IRR of the cash flow is greater than the MAR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ratt would say “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fficult to see how the global measures are affected by individual design and operating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E87-D9E2-4B1A-83A2-C01E37BE5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Operational Measures Describe the Goa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at which system generates money through sales.  Sales Revenue - Raw material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money that the system has invested in purchasing things which it intends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Expense (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money that the system spends in order to turn inventory into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669-D51C-4A9A-BCF8-9E1D0BB33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these measures relate financial measure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= TP - 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I = NP/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flow is OK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income + initial cash &gt; cumulativ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F45-976F-4F90-8BEA-51A117A36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616480" cy="2247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the measures relate to decis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98200" y="2895480"/>
            <a:ext cx="633240" cy="520560"/>
            <a:chOff x="4498200" y="2895480"/>
            <a:chExt cx="633240" cy="520560"/>
          </a:xfrm>
        </p:grpSpPr>
        <p:sp>
          <p:nvSpPr>
            <p:cNvPr id="150" name=""/>
            <p:cNvSpPr/>
            <p:nvPr/>
          </p:nvSpPr>
          <p:spPr>
            <a:xfrm>
              <a:off x="4498200" y="289548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055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49400" y="3581280"/>
            <a:ext cx="303480" cy="520560"/>
            <a:chOff x="4649400" y="3581280"/>
            <a:chExt cx="303480" cy="520560"/>
          </a:xfrm>
        </p:grpSpPr>
        <p:sp>
          <p:nvSpPr>
            <p:cNvPr id="153" name=""/>
            <p:cNvSpPr/>
            <p:nvPr/>
          </p:nvSpPr>
          <p:spPr>
            <a:xfrm>
              <a:off x="4649400" y="35812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2880" y="3612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97840" y="4343400"/>
            <a:ext cx="705960" cy="520560"/>
            <a:chOff x="4497840" y="4343400"/>
            <a:chExt cx="705960" cy="520560"/>
          </a:xfrm>
        </p:grpSpPr>
        <p:sp>
          <p:nvSpPr>
            <p:cNvPr id="156" name=""/>
            <p:cNvSpPr/>
            <p:nvPr/>
          </p:nvSpPr>
          <p:spPr>
            <a:xfrm>
              <a:off x="4497840" y="434340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03800" y="4397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5760" y="22860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5480" y="228600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17520" y="2971800"/>
            <a:ext cx="2558520" cy="520560"/>
            <a:chOff x="5717520" y="2971800"/>
            <a:chExt cx="2558520" cy="520560"/>
          </a:xfrm>
        </p:grpSpPr>
        <p:grpSp>
          <p:nvGrpSpPr>
            <p:cNvPr id="161" name=""/>
            <p:cNvGrpSpPr/>
            <p:nvPr/>
          </p:nvGrpSpPr>
          <p:grpSpPr>
            <a:xfrm>
              <a:off x="5717520" y="2971800"/>
              <a:ext cx="672840" cy="520560"/>
              <a:chOff x="5717520" y="2971800"/>
              <a:chExt cx="672840" cy="520560"/>
            </a:xfrm>
          </p:grpSpPr>
          <p:sp>
            <p:nvSpPr>
              <p:cNvPr id="162" name=""/>
              <p:cNvSpPr/>
              <p:nvPr/>
            </p:nvSpPr>
            <p:spPr>
              <a:xfrm>
                <a:off x="5717520" y="2971800"/>
                <a:ext cx="67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324480" y="3025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99520" y="2971800"/>
              <a:ext cx="813960" cy="520560"/>
              <a:chOff x="6599520" y="2971800"/>
              <a:chExt cx="813960" cy="520560"/>
            </a:xfrm>
          </p:grpSpPr>
          <p:sp>
            <p:nvSpPr>
              <p:cNvPr id="165" name=""/>
              <p:cNvSpPr/>
              <p:nvPr/>
            </p:nvSpPr>
            <p:spPr>
              <a:xfrm>
                <a:off x="6599520" y="297180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O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41348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623000" y="2971800"/>
              <a:ext cx="653040" cy="520560"/>
              <a:chOff x="7623000" y="2971800"/>
              <a:chExt cx="653040" cy="520560"/>
            </a:xfrm>
          </p:grpSpPr>
          <p:sp>
            <p:nvSpPr>
              <p:cNvPr id="168" name=""/>
              <p:cNvSpPr/>
              <p:nvPr/>
            </p:nvSpPr>
            <p:spPr>
              <a:xfrm>
                <a:off x="7623000" y="297180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8229600" y="3025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717520" y="3657600"/>
            <a:ext cx="2558520" cy="520560"/>
            <a:chOff x="5717520" y="3657600"/>
            <a:chExt cx="2558520" cy="520560"/>
          </a:xfrm>
        </p:grpSpPr>
        <p:grpSp>
          <p:nvGrpSpPr>
            <p:cNvPr id="171" name=""/>
            <p:cNvGrpSpPr/>
            <p:nvPr/>
          </p:nvGrpSpPr>
          <p:grpSpPr>
            <a:xfrm>
              <a:off x="5717520" y="3657600"/>
              <a:ext cx="672840" cy="520560"/>
              <a:chOff x="5717520" y="3657600"/>
              <a:chExt cx="672840" cy="520560"/>
            </a:xfrm>
          </p:grpSpPr>
          <p:sp>
            <p:nvSpPr>
              <p:cNvPr id="172" name=""/>
              <p:cNvSpPr/>
              <p:nvPr/>
            </p:nvSpPr>
            <p:spPr>
              <a:xfrm>
                <a:off x="5717520" y="3657600"/>
                <a:ext cx="67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6324480" y="371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599520" y="3657600"/>
              <a:ext cx="813960" cy="520560"/>
              <a:chOff x="6599520" y="3657600"/>
              <a:chExt cx="813960" cy="520560"/>
            </a:xfrm>
          </p:grpSpPr>
          <p:sp>
            <p:nvSpPr>
              <p:cNvPr id="175" name=""/>
              <p:cNvSpPr/>
              <p:nvPr/>
            </p:nvSpPr>
            <p:spPr>
              <a:xfrm>
                <a:off x="6599520" y="365760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O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13480" y="3657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623000" y="3657600"/>
              <a:ext cx="653040" cy="520560"/>
              <a:chOff x="7623000" y="3657600"/>
              <a:chExt cx="65304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7623000" y="365760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8229600" y="371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717520" y="4343400"/>
            <a:ext cx="2558520" cy="520560"/>
            <a:chOff x="5717520" y="4343400"/>
            <a:chExt cx="2558520" cy="520560"/>
          </a:xfrm>
        </p:grpSpPr>
        <p:grpSp>
          <p:nvGrpSpPr>
            <p:cNvPr id="181" name=""/>
            <p:cNvGrpSpPr/>
            <p:nvPr/>
          </p:nvGrpSpPr>
          <p:grpSpPr>
            <a:xfrm>
              <a:off x="5717520" y="4343400"/>
              <a:ext cx="672840" cy="520560"/>
              <a:chOff x="5717520" y="4343400"/>
              <a:chExt cx="672840" cy="520560"/>
            </a:xfrm>
          </p:grpSpPr>
          <p:sp>
            <p:nvSpPr>
              <p:cNvPr id="182" name=""/>
              <p:cNvSpPr/>
              <p:nvPr/>
            </p:nvSpPr>
            <p:spPr>
              <a:xfrm>
                <a:off x="5717520" y="4343400"/>
                <a:ext cx="67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324480" y="4397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599520" y="4343400"/>
              <a:ext cx="813960" cy="520560"/>
              <a:chOff x="6599520" y="4343400"/>
              <a:chExt cx="813960" cy="52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599520" y="434340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O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413480" y="4343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623000" y="4343400"/>
              <a:ext cx="653040" cy="520560"/>
              <a:chOff x="7623000" y="4343400"/>
              <a:chExt cx="653040" cy="520560"/>
            </a:xfrm>
          </p:grpSpPr>
          <p:sp>
            <p:nvSpPr>
              <p:cNvPr id="188" name=""/>
              <p:cNvSpPr/>
              <p:nvPr/>
            </p:nvSpPr>
            <p:spPr>
              <a:xfrm>
                <a:off x="7623000" y="434340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8229600" y="4397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495252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ffective decision simultaneously increases TP, decreases I, and decreases 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70A-A7B9-4F1E-ABDE-F5683ED71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s the decision to add robots a good idea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89680" y="310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933480" cy="462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24480" y="1981080"/>
            <a:ext cx="782640" cy="46224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685800" y="2438280"/>
            <a:ext cx="4867200" cy="1270080"/>
            <a:chOff x="685800" y="2438280"/>
            <a:chExt cx="4867200" cy="12700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85800" y="2438280"/>
              <a:ext cx="48672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685800" y="2819520"/>
              <a:ext cx="4560840" cy="88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172200" y="2514600"/>
            <a:ext cx="1403280" cy="523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685800" y="3505320"/>
            <a:ext cx="3630600" cy="1269720"/>
            <a:chOff x="685800" y="3505320"/>
            <a:chExt cx="3630600" cy="126972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685800" y="3505320"/>
              <a:ext cx="348624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685800" y="3886200"/>
              <a:ext cx="3630600" cy="88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095880" y="3581280"/>
            <a:ext cx="2016360" cy="889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62120" y="4495680"/>
            <a:ext cx="4700520" cy="524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6553080" y="4495680"/>
            <a:ext cx="623880" cy="889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762120" y="5181480"/>
            <a:ext cx="5443560" cy="5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74A-5D04-4F92-B308-E87ED8ADA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o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47920" y="3657240"/>
            <a:ext cx="640080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reduce operating expense, reduce inventory while simultaneously increasing throughput.  The most powerful effect is to increase through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671-21A1-4657-973D-408D38E9E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 the Sta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 Rogo, plant manager of the Bearington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rington plant, part of the UniWare Division, part of the conglomerate U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 meets Jonah, his college physics professor, at the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81D-A845-4349-888A-C140EC7A5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rchange between Alex and Jonah at Airp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782640" cy="4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933480" cy="4618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143000" y="2514600"/>
            <a:ext cx="3957480" cy="766800"/>
            <a:chOff x="1143000" y="2514600"/>
            <a:chExt cx="3957480" cy="766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1143000" y="2514600"/>
              <a:ext cx="39574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1143000" y="2819520"/>
              <a:ext cx="3605040" cy="46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3270240" cy="46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676520" y="3276720"/>
            <a:ext cx="663480" cy="46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788000" y="3200400"/>
            <a:ext cx="4356000" cy="82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143000" y="3809880"/>
            <a:ext cx="2971800" cy="46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5334120" y="3809880"/>
            <a:ext cx="2489040" cy="82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4108680" cy="4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F54-DB18-44C9-8851-B3758346B2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irport conversation contin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4122720" cy="46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53080" y="2057400"/>
            <a:ext cx="782640" cy="461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1306440" cy="46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933480" cy="82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62120" y="3200400"/>
            <a:ext cx="2938320" cy="82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62120" y="4191120"/>
            <a:ext cx="4817880" cy="82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943600" y="3657600"/>
            <a:ext cx="561960" cy="826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943600" y="3200400"/>
            <a:ext cx="1754280" cy="461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62120" y="3657600"/>
            <a:ext cx="4068720" cy="5238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457200" y="4876920"/>
            <a:ext cx="7470720" cy="461880"/>
            <a:chOff x="457200" y="4876920"/>
            <a:chExt cx="7470720" cy="461880"/>
          </a:xfrm>
        </p:grpSpPr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1143000" y="4876920"/>
              <a:ext cx="678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>
              <a:off x="457200" y="4876920"/>
              <a:ext cx="782640" cy="46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825-6A6B-478E-B4B6-F4745890D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lex and Jonah: a confli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x:  I am running an efficient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nah:  You are running an inefficient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s run 90% of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sts are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roducts are not shi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is f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is not de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ies are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't ship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7FE-0BE0-4312-9DE7-E7E5AFB115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source of the confli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:  Anything that moves toward the goal is productive.  Anything that moves away from the goal is not prod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and Jonah have different definitions of the 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o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332-CC4A-4D4B-83A7-C31AFBB13B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 left by Jonah:  What is the Goa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market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qualit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he city, state and national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ockholde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E5E-6649-4F9E-A403-5ACFAA44C8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y is a goal importan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s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easurement of accomplish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goals we are moved by the current requirements to the exclusion of concerns for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Deming say is the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1:  Constancy of Purpose for the Improvement of Product and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one goal not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B44-225F-4AEC-A767-EA4E5E1B8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goal of a public compan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money now an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A2F2-1362-4EBB-82B0-D9AEBFED8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5:22:38Z</dcterms:created>
  <dc:creator>Paul Jensen</dc:creator>
  <dc:description/>
  <dc:language>en-US</dc:language>
  <cp:lastModifiedBy>Paul Jensen</cp:lastModifiedBy>
  <dcterms:modified xsi:type="dcterms:W3CDTF">2004-08-27T17:59:12Z</dcterms:modified>
  <cp:revision>12</cp:revision>
  <dc:subject/>
  <dc:title>The Goal</dc:title>
</cp:coreProperties>
</file>