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BA8-D53D-4FDB-AAF4-D8A537E5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8B82-6100-48F3-81E1-E6AA1280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B681-3B77-4AEC-8AE6-F86223BB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133-EF78-49FF-B409-BCE84A73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2BEA-C4EC-4B12-8497-731CF3E3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28DB-A882-41F9-8ECB-0AD44018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9412-68E2-4BEB-9199-E54C5301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0C19-A19B-4756-8688-BE2B6A02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102C-23C8-4E07-8E91-01029A28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1631-66ED-4804-95C0-A9F1E70F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DEB9-33E3-444B-8B83-233E9521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F461-BF68-4509-84AD-DED61DCA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2651-67B0-48BF-967F-525EB7BE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8AE9-2A2E-4321-ADE6-544F60D3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B052-FBA9-4532-8DE8-E8BBDFA7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CD84-0BAA-40B7-8C75-A1D32389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258F-8B7F-4313-9447-3BD94599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799-412E-4FA0-B13E-57268ED1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FAB1-F660-4399-ABAC-5395FECE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67E-4E90-42F0-A0DB-8F2A5674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697-96FF-4784-B1B3-D31DAD64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A98-B8AF-4427-B018-60141B77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4E5-3CE5-49A5-AF69-81D52C39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6AF-597C-474D-A488-A81ED20A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5B3B-5778-4124-8924-B63E58D52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CCD5-D066-45AA-AF4D-96E1D3C60576}" type="slidenum">
              <a:rPr b="0" lang="en-US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ct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ct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eory of Constrai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we know the Goal, how do we use it to improve our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/27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87560" y="490680"/>
            <a:ext cx="6975360" cy="587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092B-514F-4406-854C-5786CEA5A9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:  Identify the system’s constraint(s).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4191120"/>
            <a:ext cx="491328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o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rough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nven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Operating Expen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46560" y="1905120"/>
            <a:ext cx="360216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5E4-F72E-4E10-8813-2FD5B33413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Identify the Resource Constrai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the load on each production resource assuming market dem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he resource loads with the resource capac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resources for which the loads exceed the capacities are constraints (bottleneck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production resource load exceeds its capaci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 demands are the constra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straints are external to the manufacturing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1D9-5BEB-4EE0-B082-B78B0BC9AB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 the loads and compare with capacities.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P=100, Production Q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Load =2000, Capacity = 240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Load =3000, Capacity = 240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 Load =1750, Capacity = 240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Load =1250, Capacity = 240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nstra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978-49EF-4391-B610-55BCAF68F9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:  Decide how to exploit the system’s constraint(s).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73320" y="2108160"/>
            <a:ext cx="4803840" cy="4064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311472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D97D-0E70-4F45-9CB4-F187B7D066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iting the constrai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 single constraint is ident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 the products in order of th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put dollars per minute of constraint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product mix so that the products with greater ratios are produced in preference to the products with smaller rat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goal is this method trying to achie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method achieve the go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84D-6E20-43B6-AA43-E27EF55830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nd how much to produc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2019240"/>
            <a:ext cx="7772400" cy="23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 TP/Unit = 45, B Min/Unit=15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TP/Unit = 60, B Min/Unit=30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743200" y="2438280"/>
          <a:ext cx="325116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2511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743200" y="3581280"/>
          <a:ext cx="3301920" cy="5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581280"/>
                    <a:ext cx="33019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073320" y="2717640"/>
          <a:ext cx="165240" cy="27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3320" y="2717640"/>
                    <a:ext cx="165240" cy="2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073320" y="2717640"/>
          <a:ext cx="165240" cy="27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73320" y="2717640"/>
                    <a:ext cx="165240" cy="2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B3A-74CE-4432-B1FD-E137F9615F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alculate Solu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 as much P as possi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remainder of the constraint resource for Q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rofit for this product mi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9880" y="2590920"/>
          <a:ext cx="978120" cy="25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590920"/>
                    <a:ext cx="97812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895480" y="3581280"/>
          <a:ext cx="496584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581280"/>
                    <a:ext cx="49658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514600" y="4952880"/>
          <a:ext cx="4292640" cy="123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952880"/>
                    <a:ext cx="429264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BD8-85B9-433A-B2A9-BF336F1443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:  Subordinate everything else to the decisions of Step 2.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73320" y="1955880"/>
            <a:ext cx="4803840" cy="406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34B-D8F8-411C-987D-D16ECE3045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ordinating Produ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P=100, Production Q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Load =1800, Capacity = 240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Load =2400, Capacity = 240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 Load =1650, Capacity = 240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Load =1150, Capacity = 240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etermines the load on the non-constrai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8F8-0AE4-41B3-B9F0-E3EB47B6AA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Theory of Constrai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 Identify the system's constraint(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 Decide how to exploit the system's constraint(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 Subordinate everything else to the decisions of Step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:  Elevate the system's constraint(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5:  If a constraint is broken in Step 4, go back to Step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7B4-FE10-4F4B-99CA-8D510D0636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4:  Elevate the system’s constraint(s).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should process improvements be foc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benefit of elevating the constra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benefit of elevating a non-constra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911760" cy="332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143-6600-4573-B06E-E32E8B9933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5:  If a constraint is broken in Step 4, go back to Step 1.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384624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happen if the constraint is elev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there are no more internal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3911760" cy="332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B1B-B4DD-41D7-A1A5-095EEC1E73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y we add another machine of type B.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P=100, Production Q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Load =2000, Capacity = 240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Load =3000, Capacity = 480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 Load =1750, Capacity = 240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Load =1250, Capacity = 240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should we produ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new constra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elevate the new constra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D7DA-DB97-4410-8F97-1B8760FCBA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  The Theory of Constrai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 Identify the system’s constraint(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 Decide how to exploit the system’s constraint(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 Subordinate everything else to the decisions of Step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:  Elevate the system’s constraint(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5:  If a constraint is broken in Step 4, go back to Step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9F76-BDA5-449F-8F23-C7E1A792EA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1981080"/>
            <a:ext cx="7051680" cy="2603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ep 1:  Identify the system’s constraint(s).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4379400"/>
            <a:ext cx="77724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Go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roughp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nven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perating Exp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A71-11CF-49F3-B013-D69D6E282B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:  Decide how to exploit the system’s constraint(s).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4723920"/>
            <a:ext cx="77724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onstra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get as much throughput as poss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6160" y="2057400"/>
            <a:ext cx="7051680" cy="2603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609480" cy="5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A27-9375-4210-A3BA-5D97F695FE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 3: Subordinate everything else to the decisions of Step 2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4495680"/>
            <a:ext cx="4684680" cy="20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ng Exp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937560" cy="23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0EDE-B771-41CD-9940-2C8052B103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4:  Elevate the system’s constraint(s).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4532400"/>
            <a:ext cx="483732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ng Exp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013520" cy="227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E23-DB16-4554-84C6-78E2B8C7F5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5:  If a constraint is broken in Step 4, go back to Step 1.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4800600"/>
            <a:ext cx="77724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happen if the constraint is elev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8480" y="2289240"/>
            <a:ext cx="7013520" cy="227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CFE-A659-40B8-AAD2-11323FCC2A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  The Theory of Constrai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 Identify the system’s constraint(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 Decide how to exploit the system’s constraint(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 Subordinate everything else to the decisions of Step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:  Elevate the system’s constraint(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5:  If a constraint is broken in Step 4, go back to Step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37A-0A55-4FD6-B32C-8F7B21A0D7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in Manufactur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7456-2909-4A6A-B808-4FDEC947A6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21:34:47Z</dcterms:created>
  <dc:creator>Paul Jensen</dc:creator>
  <dc:description/>
  <dc:language>en-US</dc:language>
  <cp:lastModifiedBy>Paul Jensen</cp:lastModifiedBy>
  <dcterms:modified xsi:type="dcterms:W3CDTF">2004-08-27T15:22:06Z</dcterms:modified>
  <cp:revision>10</cp:revision>
  <dc:subject/>
  <dc:title>The Theory of Constraints</dc:title>
</cp:coreProperties>
</file>