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7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4D35-A402-4B96-829B-38A28B910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C772-D3ED-451E-BB82-6A786C6AA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656D-C517-4154-922D-E47E23F60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EDA8-E871-4493-ACD7-A1CCD5074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21F0B-CCF5-476D-B6A6-0B246415A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12429-9DEC-41F5-AEC4-DE822F8EF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A34C9-287D-4031-B93D-A4D9FBBBB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69209-88C3-4D4E-9E75-43CDF2C5B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C2BD0-458C-4657-BA8D-AF182A785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33535-0144-4FCA-9479-11258E056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EE74D-19C8-4F86-B7CB-9F7CEF84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69FF-2886-4E6F-837C-9E4361511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26678-8501-47AE-A510-B6439129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E49A7-73A2-414A-A624-966B0ED8A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3687F-7D33-4CD6-BAB4-F7878EE95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8070D-56EC-4885-89A4-F1E05257A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B91F3-CE46-4C1D-AF6F-CD8C7090C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E6C2-9A2B-4BAF-8F08-04FCDA5C2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AC21-8BA2-451C-81A1-D0CCBB474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8D0D-CA9D-4D4B-BBB5-E1FC2410A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04FB-1BB8-4BF9-BFF6-F7A8EAC2D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553C-2435-46A4-BA71-E9A56A7F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0C10-F0CD-47B4-A435-E4D1E90D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62EF-9288-421B-A0FA-4B5D74CA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460440" y="182844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ul A. Jens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perations Research Models and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2004 - All rights reserv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0196A-AE4C-438B-9CDD-DD66035849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290520" y="2546280"/>
            <a:ext cx="711360" cy="474840"/>
            <a:chOff x="290520" y="2546280"/>
            <a:chExt cx="711360" cy="474840"/>
          </a:xfrm>
        </p:grpSpPr>
        <p:sp>
          <p:nvSpPr>
            <p:cNvPr id="49" name=""/>
            <p:cNvSpPr/>
            <p:nvPr/>
          </p:nvSpPr>
          <p:spPr>
            <a:xfrm>
              <a:off x="290520" y="2546280"/>
              <a:ext cx="437400" cy="474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73560" y="2546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2" name="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ul A. Jens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perations Research Models and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2004 - All rights reserv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68B01-82B8-4B76-AC05-A98D44E6F126}" type="slidenum">
              <a:rPr b="0" lang="en-US" sz="1400" spc="-1" strike="noStrike">
                <a:solidFill>
                  <a:srgbClr val="1c1c1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7.pct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pendent Events and Statistical Fluctu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nah:  What is the combined effect of dependent events and statistical fluctu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8/27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epts:  Dependent Ev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we have bottlenecks in systems with independent ev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bottlenec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control with a bottlenec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benefits of this contro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should we focus improvement effor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uld we have a bottlenec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76E3-DF6F-4178-B76C-61DE3E7F300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istical Fluctu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959AF-E74E-4749-8061-2495D441C89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uld we balance the capacities in the line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301760" y="2057400"/>
            <a:ext cx="6543720" cy="23367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073160" y="4762440"/>
            <a:ext cx="7000920" cy="876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5D8A-E00A-401A-A511-A1C861DE140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effect of statistical fluctuation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5334120"/>
            <a:ext cx="7772400" cy="11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is the bottlenec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impro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282680" y="1981080"/>
            <a:ext cx="6581880" cy="22989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073160" y="4305240"/>
            <a:ext cx="7000920" cy="876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1395-A4BC-49E9-AFAD-E9002B4B932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nah:  Balance flow not capac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good to have a bottlenec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production through the bottlene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ordinate the production in nonbottlenecks to assure that the bottleneck is never delay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079640" y="4381560"/>
            <a:ext cx="6987960" cy="2247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B378-32E6-4869-B09F-711739F0307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epts: Statistical Fluctu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effect of statistical fluctu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 good to balance the capacities in the 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it helpful to have a bottleneck in the 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3B33-0541-42E7-84AC-80D29BA415D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um, Buffer, Rope Scheduling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081BA-431F-48FF-9A4C-D6C48478DBD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happens if Herbie cannot be put at the front of the line?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035000" y="2225520"/>
            <a:ext cx="7077240" cy="24130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047600" y="4686480"/>
            <a:ext cx="7051680" cy="876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A825-0F10-4D41-90BD-85162D1EEDA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 need some way to control those who are in front of Herbi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4876560"/>
            <a:ext cx="7772400" cy="17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bout a dru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bout a rop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is the buff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085760" y="2289240"/>
            <a:ext cx="697572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9948-22DC-45A1-AF66-77ACC36D1C0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equivalent in the manufacturing system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54080" y="2362320"/>
            <a:ext cx="7039080" cy="8762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343080" y="3251160"/>
            <a:ext cx="8461080" cy="2997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82EB-1DA2-4467-89A8-9CDF223A475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opic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ndent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stical Fluct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um, Buffer, Rop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C972-FEC7-4732-AEDD-94594CE2DB6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um, Buffer, Rope Scheduling Syste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4267440" cy="46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m:  A schedule for the Constraint re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pe:  The time interval between when material is required at the constraint and the release of the raw material to the first 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ffer:  The difference between the rope and the minimum time required in the stages preceding the constra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34120" y="2362320"/>
            <a:ext cx="3504960" cy="2352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52E4-2E33-49D5-BA8C-43471C50226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Cycle in the Production Syste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054080" y="2209680"/>
            <a:ext cx="7039080" cy="8766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1193760" y="3022560"/>
            <a:ext cx="6759720" cy="345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C980-0AA1-4510-9283-235BE63C27D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es the rope affect the cycle time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0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happens when we increase the rop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we want the rope large or sma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193760" y="3095640"/>
            <a:ext cx="6759720" cy="345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CEB4-5974-4623-AAC3-8D57603AC50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es the cycle time affect work in process (inventory)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303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in Process = (cycle time)*(Flow R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in machine C = 12 minut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w rate = (1/12) units per minu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cle time = 1500 minu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in Process = (1/12) units per minute*1500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25 Un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054080" y="5143680"/>
            <a:ext cx="7039080" cy="876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85E1-144A-43FC-AA45-99B15BE8A0D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 we select the length (time) of the rope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27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would we like to keep the rope relatively lo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would we like to keep the rope relatively shor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is the most important eff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6273-6819-408B-B498-84F6037934E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epts (D, B, R)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dru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rop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buf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select the length (time) of the rop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F6C6-BEE1-48F9-AB71-5834A8A4545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pendent Ev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8C317-2211-4998-BD9B-27D5239A5B6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dependent events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054080" y="2130480"/>
            <a:ext cx="7039080" cy="26035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054080" y="4915080"/>
            <a:ext cx="7039080" cy="876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7BFD-CEC3-4FB1-81DB-AC223FF2AD0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happens if we ask everyone to be efficien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054080" y="2130480"/>
            <a:ext cx="7039080" cy="26035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054080" y="4762440"/>
            <a:ext cx="7039080" cy="876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CC1E-6CA5-4E2E-A847-35341F67B02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can we control a system with dependent events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19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1:  Identify the system’s bottlene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2:  Exploit the system’s bottlene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3:  Subordinate everything else to the bottlene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104840" y="4178160"/>
            <a:ext cx="6937560" cy="237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9B4C-876D-4D21-8167-657937523B6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can we improve a system with dependent events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4:  Elevate the system’s constra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079640" y="2781360"/>
            <a:ext cx="6987960" cy="2247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610E-5CC5-4895-A077-296273A5E95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cus on the bottleneck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ime worth on the bottlenec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ime worth on the non-bottlenec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079640" y="3772080"/>
            <a:ext cx="6987960" cy="2247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D0C2-D476-4CE0-8893-E18D9CA6AD8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the benefits of this process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800240" y="2057040"/>
            <a:ext cx="3962520" cy="42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ter pro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ed inven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ed operating expe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through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4317840" cy="16257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04920" y="4267080"/>
            <a:ext cx="4279680" cy="139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C09E-961E-42C4-8040-5ABDF2698EB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5T23:17:59Z</dcterms:created>
  <dc:creator>Paul Jensen</dc:creator>
  <dc:description/>
  <dc:language>en-US</dc:language>
  <cp:lastModifiedBy>Paul Jensen</cp:lastModifiedBy>
  <dcterms:modified xsi:type="dcterms:W3CDTF">2004-08-27T18:36:33Z</dcterms:modified>
  <cp:revision>8</cp:revision>
  <dc:subject/>
  <dc:title>Jonah:  What is the combined effect of dependent events and statistical fluctuations?</dc:title>
</cp:coreProperties>
</file>