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AAD-C5E8-4E03-87C8-7A6C3ECF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E8F-C985-40C7-8B03-E643A268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D46-C166-4875-9343-A8B23C1E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F78-8C71-4302-A04E-1D4B1A76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6535-744D-4EE6-97A9-059620E0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241A-C5C1-46F9-B71F-8C2F7CE3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70DC-C1C3-4A3E-9CFF-66706AC6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B29D-B14D-4983-BAC7-815D9F6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44A3-DE82-4B7B-BEB9-3F4AB377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98EE-F66F-4EF2-BA91-56BA7655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0BCB-D51D-4922-B3C6-466257E8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366-455C-4AFB-B103-FA01C22C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F180-A3AA-4E23-88E9-6A2C4744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9C7A-B0AC-4155-B82A-13524CFD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7A85-8FD2-44FA-B027-0E841DA6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AF18-DDBE-4A05-B284-20F65F07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5527-4D24-438E-AE5A-E182BB5E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4EA-065D-4D7E-8747-8A67FCF0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295-6372-4606-BB2F-A7D7CDC5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167-8024-436E-BD5F-87AAF81F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3D6-ED8E-4AC9-A647-8C9472AD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36E-BCE9-4C58-8330-7574DBC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002-1D88-49B4-81AE-58532888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7CE-B086-405D-BDF9-636E8B3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A308-CE23-44FD-91BF-D9ADDFC1D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23D5-8A98-42E4-BB5A-55E1BF6E4768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t the Lot Siz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we do if the bottleneck has moved outside the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7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small lot, low inventory manufac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69160" cy="112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1800" y="3260880"/>
            <a:ext cx="7331040" cy="336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4E2-1C9E-4CEF-8EFD-6993298376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he Go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1981080"/>
            <a:ext cx="4592880" cy="457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5040" y="3960720"/>
            <a:ext cx="102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What is the Go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48480" y="4267080"/>
            <a:ext cx="1756800" cy="319320"/>
            <a:chOff x="2148480" y="4267080"/>
            <a:chExt cx="1756800" cy="319320"/>
          </a:xfrm>
        </p:grpSpPr>
        <p:sp>
          <p:nvSpPr>
            <p:cNvPr id="127" name=""/>
            <p:cNvSpPr/>
            <p:nvPr/>
          </p:nvSpPr>
          <p:spPr>
            <a:xfrm>
              <a:off x="2167200" y="4267080"/>
              <a:ext cx="173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hat do you think should b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48480" y="443376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the goal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008080" y="2016000"/>
            <a:ext cx="4494240" cy="45039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5640" y="422604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45120" y="422604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2971800"/>
            <a:ext cx="2120760" cy="1268280"/>
            <a:chOff x="2133720" y="2971800"/>
            <a:chExt cx="2120760" cy="1268280"/>
          </a:xfrm>
        </p:grpSpPr>
        <p:sp>
          <p:nvSpPr>
            <p:cNvPr id="133" name=""/>
            <p:cNvSpPr/>
            <p:nvPr/>
          </p:nvSpPr>
          <p:spPr>
            <a:xfrm>
              <a:off x="2424960" y="329076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Describe the Go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50520" y="297180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hat Financ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7560" y="3138480"/>
              <a:ext cx="61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Measur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45120" y="347328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of Making Money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3593880"/>
              <a:ext cx="2120760" cy="646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662200" y="3646440"/>
              <a:ext cx="135000" cy="197640"/>
              <a:chOff x="2662200" y="3646440"/>
              <a:chExt cx="135000" cy="197640"/>
            </a:xfrm>
          </p:grpSpPr>
          <p:sp>
            <p:nvSpPr>
              <p:cNvPr id="139" name=""/>
              <p:cNvSpPr/>
              <p:nvPr/>
            </p:nvSpPr>
            <p:spPr>
              <a:xfrm flipV="1">
                <a:off x="2705040" y="3791880"/>
                <a:ext cx="2088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62200" y="3646440"/>
                <a:ext cx="135000" cy="177480"/>
              </a:xfrm>
              <a:custGeom>
                <a:avLst/>
                <a:gdLst/>
                <a:ahLst/>
                <a:rect l="l" t="t" r="r" b="b"/>
                <a:pathLst>
                  <a:path w="85" h="112">
                    <a:moveTo>
                      <a:pt x="47" y="98"/>
                    </a:moveTo>
                    <a:lnTo>
                      <a:pt x="85" y="112"/>
                    </a:lnTo>
                    <a:lnTo>
                      <a:pt x="79" y="0"/>
                    </a:lnTo>
                    <a:lnTo>
                      <a:pt x="0" y="85"/>
                    </a:lnTo>
                    <a:lnTo>
                      <a:pt x="47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4276800" y="417528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508200" y="2209680"/>
            <a:ext cx="1885680" cy="2007720"/>
            <a:chOff x="3508200" y="2209680"/>
            <a:chExt cx="1885680" cy="2007720"/>
          </a:xfrm>
        </p:grpSpPr>
        <p:sp>
          <p:nvSpPr>
            <p:cNvPr id="143" name=""/>
            <p:cNvSpPr/>
            <p:nvPr/>
          </p:nvSpPr>
          <p:spPr>
            <a:xfrm>
              <a:off x="3521160" y="2377800"/>
              <a:ext cx="1396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Measures Describe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25120" y="2682720"/>
              <a:ext cx="1471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How do these measur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13960" y="220968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hat Operation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8200" y="2544480"/>
              <a:ext cx="32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Goal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48160" y="287784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relate to the goal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74880" y="3065400"/>
              <a:ext cx="72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How do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65880" y="32320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measur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79200" y="339696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relate 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1640" y="356688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decision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4160" y="373356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made in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0560" y="390024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plant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219560" y="2352240"/>
              <a:ext cx="1174320" cy="1865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103720" y="2601720"/>
              <a:ext cx="196560" cy="158760"/>
              <a:chOff x="5103720" y="2601720"/>
              <a:chExt cx="196560" cy="158760"/>
            </a:xfrm>
          </p:grpSpPr>
          <p:sp>
            <p:nvSpPr>
              <p:cNvPr id="156" name=""/>
              <p:cNvSpPr/>
              <p:nvPr/>
            </p:nvSpPr>
            <p:spPr>
              <a:xfrm>
                <a:off x="5103720" y="2622240"/>
                <a:ext cx="52200" cy="31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124240" y="2601720"/>
                <a:ext cx="176040" cy="158760"/>
              </a:xfrm>
              <a:custGeom>
                <a:avLst/>
                <a:gdLst/>
                <a:ahLst/>
                <a:rect l="l" t="t" r="r" b="b"/>
                <a:pathLst>
                  <a:path w="111" h="100">
                    <a:moveTo>
                      <a:pt x="26" y="40"/>
                    </a:moveTo>
                    <a:lnTo>
                      <a:pt x="0" y="80"/>
                    </a:lnTo>
                    <a:lnTo>
                      <a:pt x="111" y="100"/>
                    </a:lnTo>
                    <a:lnTo>
                      <a:pt x="53" y="0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4267080" y="3198960"/>
            <a:ext cx="2162160" cy="1015920"/>
            <a:chOff x="4267080" y="3198960"/>
            <a:chExt cx="2162160" cy="1015920"/>
          </a:xfrm>
        </p:grpSpPr>
        <p:sp>
          <p:nvSpPr>
            <p:cNvPr id="159" name=""/>
            <p:cNvSpPr/>
            <p:nvPr/>
          </p:nvSpPr>
          <p:spPr>
            <a:xfrm>
              <a:off x="4943160" y="3198960"/>
              <a:ext cx="132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hat is the combine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0000" y="3365640"/>
              <a:ext cx="120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effect of depend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5760" y="3532320"/>
              <a:ext cx="127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events and statistic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5240" y="3699000"/>
              <a:ext cx="75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fluctuations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267080" y="3735360"/>
              <a:ext cx="2162160" cy="479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981400" y="3735360"/>
              <a:ext cx="147240" cy="262080"/>
              <a:chOff x="5981400" y="3735360"/>
              <a:chExt cx="147240" cy="262080"/>
            </a:xfrm>
          </p:grpSpPr>
          <p:sp>
            <p:nvSpPr>
              <p:cNvPr id="165" name=""/>
              <p:cNvSpPr/>
              <p:nvPr/>
            </p:nvSpPr>
            <p:spPr>
              <a:xfrm>
                <a:off x="6023880" y="3735360"/>
                <a:ext cx="20160" cy="95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81400" y="3819600"/>
                <a:ext cx="147240" cy="177840"/>
              </a:xfrm>
              <a:custGeom>
                <a:avLst/>
                <a:gdLst/>
                <a:ahLst/>
                <a:rect l="l" t="t" r="r" b="b"/>
                <a:pathLst>
                  <a:path w="93" h="112">
                    <a:moveTo>
                      <a:pt x="47" y="14"/>
                    </a:moveTo>
                    <a:lnTo>
                      <a:pt x="0" y="20"/>
                    </a:lnTo>
                    <a:lnTo>
                      <a:pt x="67" y="112"/>
                    </a:lnTo>
                    <a:lnTo>
                      <a:pt x="93" y="0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4191120" y="4122720"/>
            <a:ext cx="2129760" cy="2278080"/>
            <a:chOff x="4191120" y="4122720"/>
            <a:chExt cx="2129760" cy="2278080"/>
          </a:xfrm>
        </p:grpSpPr>
        <p:sp>
          <p:nvSpPr>
            <p:cNvPr id="168" name=""/>
            <p:cNvSpPr/>
            <p:nvPr/>
          </p:nvSpPr>
          <p:spPr>
            <a:xfrm>
              <a:off x="4788360" y="4122720"/>
              <a:ext cx="153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hat is a bottleneck, 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78280" y="4289400"/>
              <a:ext cx="112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how do you find it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49320" y="4467240"/>
              <a:ext cx="1559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How can you increase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0200" y="4633920"/>
              <a:ext cx="1459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capacity of a bottleneck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45160" y="4832280"/>
              <a:ext cx="121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hat does it cost 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30760" y="4997520"/>
              <a:ext cx="135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have a bottleneck idle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75760" y="5216400"/>
              <a:ext cx="10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How can we keep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73240" y="5384880"/>
              <a:ext cx="98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from having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82240" y="5551560"/>
              <a:ext cx="92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bottleneck idle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1120" y="4211640"/>
              <a:ext cx="666720" cy="2189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606920" y="5756400"/>
              <a:ext cx="187200" cy="135000"/>
              <a:chOff x="4606920" y="5756400"/>
              <a:chExt cx="187200" cy="13500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4753080" y="5796360"/>
                <a:ext cx="41040" cy="21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06920" y="57564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112" h="85">
                    <a:moveTo>
                      <a:pt x="100" y="45"/>
                    </a:moveTo>
                    <a:lnTo>
                      <a:pt x="80" y="0"/>
                    </a:lnTo>
                    <a:lnTo>
                      <a:pt x="0" y="78"/>
                    </a:lnTo>
                    <a:lnTo>
                      <a:pt x="112" y="85"/>
                    </a:lnTo>
                    <a:lnTo>
                      <a:pt x="10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2971440" y="4267080"/>
            <a:ext cx="1792800" cy="2024280"/>
            <a:chOff x="2971440" y="4267080"/>
            <a:chExt cx="1792800" cy="2024280"/>
          </a:xfrm>
        </p:grpSpPr>
        <p:sp>
          <p:nvSpPr>
            <p:cNvPr id="182" name=""/>
            <p:cNvSpPr/>
            <p:nvPr/>
          </p:nvSpPr>
          <p:spPr>
            <a:xfrm>
              <a:off x="3569400" y="5272200"/>
              <a:ext cx="92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hat do we d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67960" y="5438880"/>
              <a:ext cx="102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hen bottlenec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73360" y="5607000"/>
              <a:ext cx="10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has moved out o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65440" y="577368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the plant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36400" y="5972040"/>
              <a:ext cx="152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hat are the advantag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38920" y="61387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of smaller lot sizes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971440" y="4267080"/>
              <a:ext cx="1236600" cy="1855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3241800" y="5759280"/>
              <a:ext cx="712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7320" y="5653080"/>
              <a:ext cx="16524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79" y="73"/>
                  </a:moveTo>
                  <a:lnTo>
                    <a:pt x="104" y="33"/>
                  </a:lnTo>
                  <a:lnTo>
                    <a:pt x="0" y="0"/>
                  </a:lnTo>
                  <a:lnTo>
                    <a:pt x="46" y="105"/>
                  </a:lnTo>
                  <a:lnTo>
                    <a:pt x="7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133720" y="4267080"/>
            <a:ext cx="2070000" cy="1252800"/>
            <a:chOff x="2133720" y="4267080"/>
            <a:chExt cx="2070000" cy="1252800"/>
          </a:xfrm>
        </p:grpSpPr>
        <p:sp>
          <p:nvSpPr>
            <p:cNvPr id="192" name=""/>
            <p:cNvSpPr/>
            <p:nvPr/>
          </p:nvSpPr>
          <p:spPr>
            <a:xfrm flipH="1">
              <a:off x="2133720" y="4267080"/>
              <a:ext cx="2070000" cy="812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12920" y="469872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hat do w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96360" y="486540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do w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68080" y="5033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7880" y="5200560"/>
              <a:ext cx="106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measures tell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86440" y="5367240"/>
              <a:ext cx="77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wrong story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581560" y="4767120"/>
              <a:ext cx="136440" cy="198360"/>
              <a:chOff x="2581560" y="4767120"/>
              <a:chExt cx="136440" cy="198360"/>
            </a:xfrm>
          </p:grpSpPr>
          <p:sp>
            <p:nvSpPr>
              <p:cNvPr id="199" name=""/>
              <p:cNvSpPr/>
              <p:nvPr/>
            </p:nvSpPr>
            <p:spPr>
              <a:xfrm flipH="1" flipV="1">
                <a:off x="2643480" y="4912920"/>
                <a:ext cx="18720" cy="52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81560" y="4767120"/>
                <a:ext cx="136440" cy="177840"/>
              </a:xfrm>
              <a:custGeom>
                <a:avLst/>
                <a:gdLst/>
                <a:ahLst/>
                <a:rect l="l" t="t" r="r" b="b"/>
                <a:pathLst>
                  <a:path w="86" h="112">
                    <a:moveTo>
                      <a:pt x="46" y="99"/>
                    </a:moveTo>
                    <a:lnTo>
                      <a:pt x="86" y="79"/>
                    </a:lnTo>
                    <a:lnTo>
                      <a:pt x="6" y="0"/>
                    </a:lnTo>
                    <a:lnTo>
                      <a:pt x="0" y="112"/>
                    </a:lnTo>
                    <a:lnTo>
                      <a:pt x="4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1981080" y="4267080"/>
            <a:ext cx="2210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DF3-17C2-4852-A4DF-4DAF61A1C2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ah:  Cut the lot siz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t size is the amount produced for each machine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courages us to use large lot siz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courages us to use small lot siz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what circumstances can we cut the lot size without reducing through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DDC-11C0-4082-8AEF-FDB4FAEB34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ncourages us to use large lot size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t size is the amount produced for each machine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up uses time on the 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lots cause fewer set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ximize throughput select the lot size as large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medy:  Reduce the setu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2A9-F4F3-4EBE-A67E-7CAB90C9D8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ncourages us to use small lot size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lots reduce cycl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 is proportional to cycl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cycle time reduces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22320" y="3666960"/>
            <a:ext cx="5489640" cy="28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E9A-8E0C-4ADF-921F-28F39A77D2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can we reduce lot size without reducing throughpu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etup time is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onstraint is outside the manufactu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hen there are no internal constrai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he lot size as small as possible while not allowing a non-bottleneck to become a bottle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DA8-804E-4825-BF97-19BDFFAA8B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Lot, High Inventory Manufac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5184720" cy="4089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1574640" cy="44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680-9C9D-46CB-A9FC-FE0146C277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equenc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4640" y="2209320"/>
            <a:ext cx="34290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 size=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Time=3.4 m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complete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3.4 m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720 hrs/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P=10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5184720" cy="40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CE9-8401-471E-8435-350F2EB2EC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Lot, Low Inventory Manufac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1574640" cy="447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9880" y="1981080"/>
            <a:ext cx="3886200" cy="43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51F-B814-40AA-89E0-50FB2B3C75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520" y="2286000"/>
            <a:ext cx="392292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 size=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Time=0.7 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complete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.8 m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720 hrs/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P=4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86200" cy="43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B2A-3437-4E8D-9171-4E2C4C0725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1:50:40Z</dcterms:created>
  <dc:creator>Paul Jensen</dc:creator>
  <dc:description/>
  <dc:language>en-US</dc:language>
  <cp:lastModifiedBy>Paul Jensen</cp:lastModifiedBy>
  <dcterms:modified xsi:type="dcterms:W3CDTF">2004-08-27T18:33:47Z</dcterms:modified>
  <cp:revision>6</cp:revision>
  <dc:subject/>
  <dc:title>Cut the Lot Size</dc:title>
</cp:coreProperties>
</file>