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C9E-10FD-4933-819B-A3ED8200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2E0-CA3E-4214-B1B6-0176E6CA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1C6-1468-46F2-88DB-2910CF25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94A-037B-433F-A923-7130DE36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C29-B1A6-47D1-A912-C074A14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B5F-4D44-4D88-8CA8-C62FAA7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614-9CCA-49A0-B81C-D076100D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13D-ACCA-4F68-A881-A0FAA176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AE8-0F26-41F9-AA6E-70A3AAC6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E7E-FAE3-45C4-818F-D941475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768-9B9C-4691-BC94-C408A48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9DF-7DFD-436F-A032-CA8F5E6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117C-7127-45B3-9D4E-AE4924828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ecture 5 – Integration of Network Flow Programming Model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-cost flow problem (general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ematical formulation and problem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e vs. generalized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istribution Network Used in Formulatio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66" name=""/>
          <p:cNvSpPr/>
          <p:nvPr/>
        </p:nvSpPr>
        <p:spPr>
          <a:xfrm>
            <a:off x="460440" y="1433520"/>
            <a:ext cx="8155080" cy="452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17840" y="3054240"/>
            <a:ext cx="1303200" cy="817560"/>
            <a:chOff x="2517840" y="3054240"/>
            <a:chExt cx="1303200" cy="817560"/>
          </a:xfrm>
        </p:grpSpPr>
        <p:sp>
          <p:nvSpPr>
            <p:cNvPr id="268" name=""/>
            <p:cNvSpPr/>
            <p:nvPr/>
          </p:nvSpPr>
          <p:spPr>
            <a:xfrm>
              <a:off x="2517840" y="3054240"/>
              <a:ext cx="1127160" cy="689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5680" y="3679920"/>
              <a:ext cx="225360" cy="19188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31" y="40"/>
                  </a:moveTo>
                  <a:lnTo>
                    <a:pt x="0" y="91"/>
                  </a:lnTo>
                  <a:lnTo>
                    <a:pt x="142" y="121"/>
                  </a:lnTo>
                  <a:lnTo>
                    <a:pt x="61" y="0"/>
                  </a:lnTo>
                  <a:lnTo>
                    <a:pt x="3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319640" y="4064040"/>
            <a:ext cx="1802880" cy="162000"/>
            <a:chOff x="4319640" y="4064040"/>
            <a:chExt cx="1802880" cy="162000"/>
          </a:xfrm>
        </p:grpSpPr>
        <p:sp>
          <p:nvSpPr>
            <p:cNvPr id="271" name=""/>
            <p:cNvSpPr/>
            <p:nvPr/>
          </p:nvSpPr>
          <p:spPr>
            <a:xfrm flipH="1">
              <a:off x="4512960" y="4145040"/>
              <a:ext cx="160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9640" y="4064040"/>
              <a:ext cx="193680" cy="162000"/>
            </a:xfrm>
            <a:custGeom>
              <a:avLst/>
              <a:gdLst/>
              <a:ahLst/>
              <a:rect l="l" t="t" r="r" b="b"/>
              <a:pathLst>
                <a:path w="122" h="102">
                  <a:moveTo>
                    <a:pt x="122" y="51"/>
                  </a:moveTo>
                  <a:lnTo>
                    <a:pt x="122" y="0"/>
                  </a:lnTo>
                  <a:lnTo>
                    <a:pt x="0" y="51"/>
                  </a:lnTo>
                  <a:lnTo>
                    <a:pt x="122" y="102"/>
                  </a:lnTo>
                  <a:lnTo>
                    <a:pt x="1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5400" y="4352760"/>
            <a:ext cx="162000" cy="866880"/>
            <a:chOff x="3965400" y="4352760"/>
            <a:chExt cx="162000" cy="866880"/>
          </a:xfrm>
        </p:grpSpPr>
        <p:sp>
          <p:nvSpPr>
            <p:cNvPr id="274" name=""/>
            <p:cNvSpPr/>
            <p:nvPr/>
          </p:nvSpPr>
          <p:spPr>
            <a:xfrm flipV="1">
              <a:off x="4046400" y="4546440"/>
              <a:ext cx="1800" cy="67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65400" y="4352760"/>
              <a:ext cx="162000" cy="193680"/>
            </a:xfrm>
            <a:custGeom>
              <a:avLst/>
              <a:gdLst/>
              <a:ahLst/>
              <a:rect l="l" t="t" r="r" b="b"/>
              <a:pathLst>
                <a:path w="102" h="122">
                  <a:moveTo>
                    <a:pt x="51" y="122"/>
                  </a:moveTo>
                  <a:lnTo>
                    <a:pt x="102" y="122"/>
                  </a:lnTo>
                  <a:lnTo>
                    <a:pt x="51" y="0"/>
                  </a:lnTo>
                  <a:lnTo>
                    <a:pt x="0" y="122"/>
                  </a:lnTo>
                  <a:lnTo>
                    <a:pt x="51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240680" y="4923000"/>
            <a:ext cx="579240" cy="577800"/>
          </a:xfrm>
          <a:prstGeom prst="ellipse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9160" y="5106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1840" y="3767040"/>
            <a:ext cx="579240" cy="5778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40320" y="39528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40680" y="2324160"/>
            <a:ext cx="579240" cy="577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13560" y="2532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65600" y="3767040"/>
            <a:ext cx="579240" cy="5778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22640" y="3949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65600" y="2324160"/>
            <a:ext cx="579240" cy="577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19400" y="2505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65600" y="5211720"/>
            <a:ext cx="579240" cy="577800"/>
          </a:xfrm>
          <a:prstGeom prst="ellipse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600" y="5396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767040"/>
            <a:ext cx="579240" cy="577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26920" y="39528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27160" y="2612880"/>
            <a:ext cx="579600" cy="578160"/>
          </a:xfrm>
          <a:prstGeom prst="ellipse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28083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874880" y="3143160"/>
            <a:ext cx="315360" cy="633240"/>
            <a:chOff x="1874880" y="3143160"/>
            <a:chExt cx="315360" cy="633240"/>
          </a:xfrm>
        </p:grpSpPr>
        <p:sp>
          <p:nvSpPr>
            <p:cNvPr id="293" name=""/>
            <p:cNvSpPr/>
            <p:nvPr/>
          </p:nvSpPr>
          <p:spPr>
            <a:xfrm flipH="1">
              <a:off x="1963440" y="3143160"/>
              <a:ext cx="226800" cy="44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74880" y="3553200"/>
              <a:ext cx="174960" cy="223200"/>
            </a:xfrm>
            <a:custGeom>
              <a:avLst/>
              <a:gdLst/>
              <a:ahLst/>
              <a:rect l="l" t="t" r="r" b="b"/>
              <a:pathLst>
                <a:path w="101" h="132">
                  <a:moveTo>
                    <a:pt x="51" y="2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101" y="41"/>
                  </a:lnTo>
                  <a:lnTo>
                    <a:pt x="5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186720" y="24289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05400" y="31575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7880" y="37767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6720" y="470700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5640" y="305424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1880" y="46594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6840" y="28306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96640" y="30862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79000" y="46594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9040" y="45687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50520" y="43545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6960" y="35845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41000" y="289404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1560" y="31827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035080" y="3968640"/>
            <a:ext cx="1722240" cy="160560"/>
            <a:chOff x="2035080" y="3968640"/>
            <a:chExt cx="1722240" cy="160560"/>
          </a:xfrm>
        </p:grpSpPr>
        <p:sp>
          <p:nvSpPr>
            <p:cNvPr id="310" name=""/>
            <p:cNvSpPr/>
            <p:nvPr/>
          </p:nvSpPr>
          <p:spPr>
            <a:xfrm flipH="1">
              <a:off x="2228400" y="4048200"/>
              <a:ext cx="1528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35080" y="3968640"/>
              <a:ext cx="193680" cy="16056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122" y="50"/>
                  </a:moveTo>
                  <a:lnTo>
                    <a:pt x="122" y="0"/>
                  </a:lnTo>
                  <a:lnTo>
                    <a:pt x="0" y="50"/>
                  </a:lnTo>
                  <a:lnTo>
                    <a:pt x="122" y="101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987560" y="4208400"/>
            <a:ext cx="1785960" cy="1155240"/>
            <a:chOff x="1987560" y="4208400"/>
            <a:chExt cx="1785960" cy="1155240"/>
          </a:xfrm>
        </p:grpSpPr>
        <p:sp>
          <p:nvSpPr>
            <p:cNvPr id="313" name=""/>
            <p:cNvSpPr/>
            <p:nvPr/>
          </p:nvSpPr>
          <p:spPr>
            <a:xfrm flipH="1" flipV="1">
              <a:off x="2147760" y="4320720"/>
              <a:ext cx="1625760" cy="104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7560" y="4208400"/>
              <a:ext cx="209520" cy="177840"/>
            </a:xfrm>
            <a:custGeom>
              <a:avLst/>
              <a:gdLst/>
              <a:ahLst/>
              <a:rect l="l" t="t" r="r" b="b"/>
              <a:pathLst>
                <a:path w="132" h="112">
                  <a:moveTo>
                    <a:pt x="101" y="71"/>
                  </a:moveTo>
                  <a:lnTo>
                    <a:pt x="132" y="21"/>
                  </a:lnTo>
                  <a:lnTo>
                    <a:pt x="0" y="0"/>
                  </a:lnTo>
                  <a:lnTo>
                    <a:pt x="71" y="112"/>
                  </a:lnTo>
                  <a:lnTo>
                    <a:pt x="10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598840" y="2573280"/>
            <a:ext cx="1158840" cy="255240"/>
            <a:chOff x="2598840" y="2573280"/>
            <a:chExt cx="1158840" cy="255240"/>
          </a:xfrm>
        </p:grpSpPr>
        <p:sp>
          <p:nvSpPr>
            <p:cNvPr id="316" name=""/>
            <p:cNvSpPr/>
            <p:nvPr/>
          </p:nvSpPr>
          <p:spPr>
            <a:xfrm flipV="1">
              <a:off x="2598840" y="2652480"/>
              <a:ext cx="965160" cy="176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48160" y="2573280"/>
              <a:ext cx="209520" cy="176400"/>
            </a:xfrm>
            <a:custGeom>
              <a:avLst/>
              <a:gdLst/>
              <a:ahLst/>
              <a:rect l="l" t="t" r="r" b="b"/>
              <a:pathLst>
                <a:path w="132" h="111">
                  <a:moveTo>
                    <a:pt x="10" y="50"/>
                  </a:moveTo>
                  <a:lnTo>
                    <a:pt x="20" y="111"/>
                  </a:lnTo>
                  <a:lnTo>
                    <a:pt x="132" y="30"/>
                  </a:lnTo>
                  <a:lnTo>
                    <a:pt x="0" y="0"/>
                  </a:lnTo>
                  <a:lnTo>
                    <a:pt x="1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03800" y="4176720"/>
            <a:ext cx="1785960" cy="1171080"/>
            <a:chOff x="4303800" y="4176720"/>
            <a:chExt cx="1785960" cy="1171080"/>
          </a:xfrm>
        </p:grpSpPr>
        <p:sp>
          <p:nvSpPr>
            <p:cNvPr id="319" name=""/>
            <p:cNvSpPr/>
            <p:nvPr/>
          </p:nvSpPr>
          <p:spPr>
            <a:xfrm flipV="1">
              <a:off x="4303800" y="4289040"/>
              <a:ext cx="1625400" cy="1058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1680" y="4176720"/>
              <a:ext cx="208080" cy="17604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30" y="71"/>
                  </a:moveTo>
                  <a:lnTo>
                    <a:pt x="60" y="111"/>
                  </a:lnTo>
                  <a:lnTo>
                    <a:pt x="131" y="0"/>
                  </a:lnTo>
                  <a:lnTo>
                    <a:pt x="0" y="20"/>
                  </a:lnTo>
                  <a:lnTo>
                    <a:pt x="3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573960" y="4273560"/>
            <a:ext cx="723240" cy="737640"/>
            <a:chOff x="6573960" y="4273560"/>
            <a:chExt cx="723240" cy="737640"/>
          </a:xfrm>
        </p:grpSpPr>
        <p:sp>
          <p:nvSpPr>
            <p:cNvPr id="322" name=""/>
            <p:cNvSpPr/>
            <p:nvPr/>
          </p:nvSpPr>
          <p:spPr>
            <a:xfrm flipH="1" flipV="1">
              <a:off x="6717960" y="4417560"/>
              <a:ext cx="57924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73960" y="4273560"/>
              <a:ext cx="19188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91" y="91"/>
                  </a:moveTo>
                  <a:lnTo>
                    <a:pt x="121" y="50"/>
                  </a:lnTo>
                  <a:lnTo>
                    <a:pt x="0" y="0"/>
                  </a:lnTo>
                  <a:lnTo>
                    <a:pt x="50" y="131"/>
                  </a:lnTo>
                  <a:lnTo>
                    <a:pt x="9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442280" y="2894040"/>
            <a:ext cx="199440" cy="2059920"/>
            <a:chOff x="7442280" y="2894040"/>
            <a:chExt cx="199440" cy="2059920"/>
          </a:xfrm>
        </p:grpSpPr>
        <p:sp>
          <p:nvSpPr>
            <p:cNvPr id="325" name=""/>
            <p:cNvSpPr/>
            <p:nvPr/>
          </p:nvSpPr>
          <p:spPr>
            <a:xfrm flipV="1">
              <a:off x="7543080" y="3089520"/>
              <a:ext cx="1440" cy="1864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2280" y="2894040"/>
              <a:ext cx="199440" cy="195840"/>
            </a:xfrm>
            <a:custGeom>
              <a:avLst/>
              <a:gdLst/>
              <a:ahLst/>
              <a:rect l="l" t="t" r="r" b="b"/>
              <a:pathLst>
                <a:path w="101" h="121">
                  <a:moveTo>
                    <a:pt x="51" y="121"/>
                  </a:moveTo>
                  <a:lnTo>
                    <a:pt x="101" y="121"/>
                  </a:lnTo>
                  <a:lnTo>
                    <a:pt x="51" y="0"/>
                  </a:lnTo>
                  <a:lnTo>
                    <a:pt x="0" y="121"/>
                  </a:lnTo>
                  <a:lnTo>
                    <a:pt x="51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303800" y="2733840"/>
            <a:ext cx="1917000" cy="1051920"/>
            <a:chOff x="4303800" y="2733840"/>
            <a:chExt cx="1917000" cy="1051920"/>
          </a:xfrm>
        </p:grpSpPr>
        <p:sp>
          <p:nvSpPr>
            <p:cNvPr id="328" name=""/>
            <p:cNvSpPr/>
            <p:nvPr/>
          </p:nvSpPr>
          <p:spPr>
            <a:xfrm flipH="1" flipV="1">
              <a:off x="4485960" y="2825280"/>
              <a:ext cx="1734840" cy="960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03800" y="2733840"/>
              <a:ext cx="214920" cy="169560"/>
            </a:xfrm>
            <a:custGeom>
              <a:avLst/>
              <a:gdLst/>
              <a:ahLst/>
              <a:rect l="l" t="t" r="r" b="b"/>
              <a:pathLst>
                <a:path w="132" h="111">
                  <a:moveTo>
                    <a:pt x="112" y="60"/>
                  </a:moveTo>
                  <a:lnTo>
                    <a:pt x="132" y="20"/>
                  </a:lnTo>
                  <a:lnTo>
                    <a:pt x="0" y="0"/>
                  </a:lnTo>
                  <a:lnTo>
                    <a:pt x="81" y="111"/>
                  </a:lnTo>
                  <a:lnTo>
                    <a:pt x="1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4640" y="2797200"/>
            <a:ext cx="772920" cy="995400"/>
            <a:chOff x="6524640" y="2797200"/>
            <a:chExt cx="772920" cy="995400"/>
          </a:xfrm>
        </p:grpSpPr>
        <p:sp>
          <p:nvSpPr>
            <p:cNvPr id="331" name=""/>
            <p:cNvSpPr/>
            <p:nvPr/>
          </p:nvSpPr>
          <p:spPr>
            <a:xfrm flipV="1">
              <a:off x="6524640" y="2957400"/>
              <a:ext cx="644400" cy="835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04240" y="2797200"/>
              <a:ext cx="193320" cy="20808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41" y="101"/>
                  </a:moveTo>
                  <a:lnTo>
                    <a:pt x="91" y="131"/>
                  </a:lnTo>
                  <a:lnTo>
                    <a:pt x="122" y="0"/>
                  </a:lnTo>
                  <a:lnTo>
                    <a:pt x="0" y="61"/>
                  </a:lnTo>
                  <a:lnTo>
                    <a:pt x="4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287960" y="2620800"/>
            <a:ext cx="2928960" cy="1266840"/>
            <a:chOff x="4287960" y="2620800"/>
            <a:chExt cx="2928960" cy="1266840"/>
          </a:xfrm>
        </p:grpSpPr>
        <p:sp>
          <p:nvSpPr>
            <p:cNvPr id="334" name=""/>
            <p:cNvSpPr/>
            <p:nvPr/>
          </p:nvSpPr>
          <p:spPr>
            <a:xfrm flipV="1">
              <a:off x="4287960" y="2700360"/>
              <a:ext cx="2751120" cy="118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07400" y="2620800"/>
              <a:ext cx="209520" cy="160560"/>
            </a:xfrm>
            <a:custGeom>
              <a:avLst/>
              <a:gdLst/>
              <a:ahLst/>
              <a:rect l="l" t="t" r="r" b="b"/>
              <a:pathLst>
                <a:path w="132" h="101">
                  <a:moveTo>
                    <a:pt x="20" y="50"/>
                  </a:moveTo>
                  <a:lnTo>
                    <a:pt x="41" y="101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319640" y="3913200"/>
            <a:ext cx="1766520" cy="160200"/>
            <a:chOff x="4319640" y="3913200"/>
            <a:chExt cx="1766520" cy="160200"/>
          </a:xfrm>
        </p:grpSpPr>
        <p:sp>
          <p:nvSpPr>
            <p:cNvPr id="337" name=""/>
            <p:cNvSpPr/>
            <p:nvPr/>
          </p:nvSpPr>
          <p:spPr>
            <a:xfrm>
              <a:off x="4319640" y="3993840"/>
              <a:ext cx="15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92840" y="3913200"/>
              <a:ext cx="193320" cy="16020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51"/>
                  </a:moveTo>
                  <a:lnTo>
                    <a:pt x="0" y="101"/>
                  </a:lnTo>
                  <a:lnTo>
                    <a:pt x="121" y="51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965400" y="2894040"/>
            <a:ext cx="162000" cy="864720"/>
            <a:chOff x="3965400" y="2894040"/>
            <a:chExt cx="162000" cy="864720"/>
          </a:xfrm>
        </p:grpSpPr>
        <p:sp>
          <p:nvSpPr>
            <p:cNvPr id="340" name=""/>
            <p:cNvSpPr/>
            <p:nvPr/>
          </p:nvSpPr>
          <p:spPr>
            <a:xfrm flipV="1">
              <a:off x="4046400" y="3085920"/>
              <a:ext cx="1800" cy="67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65400" y="2894040"/>
              <a:ext cx="162000" cy="19224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51" y="121"/>
                  </a:moveTo>
                  <a:lnTo>
                    <a:pt x="102" y="121"/>
                  </a:lnTo>
                  <a:lnTo>
                    <a:pt x="51" y="0"/>
                  </a:lnTo>
                  <a:lnTo>
                    <a:pt x="0" y="121"/>
                  </a:lnTo>
                  <a:lnTo>
                    <a:pt x="51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268880" y="4227480"/>
            <a:ext cx="2960280" cy="997920"/>
            <a:chOff x="4268880" y="4227480"/>
            <a:chExt cx="2960280" cy="997920"/>
          </a:xfrm>
        </p:grpSpPr>
        <p:sp>
          <p:nvSpPr>
            <p:cNvPr id="343" name=""/>
            <p:cNvSpPr/>
            <p:nvPr/>
          </p:nvSpPr>
          <p:spPr>
            <a:xfrm flipH="1" flipV="1">
              <a:off x="4466520" y="4291200"/>
              <a:ext cx="2762640" cy="93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68880" y="4227480"/>
              <a:ext cx="213840" cy="14256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122" y="4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02" y="91"/>
                  </a:lnTo>
                  <a:lnTo>
                    <a:pt x="1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759000" y="388944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-15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35200" y="548640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47280" y="419400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-3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7560" y="51134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240" y="390528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-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90560" y="225252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-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29720" y="4160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66200" y="373680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598840" y="2973240"/>
            <a:ext cx="3565080" cy="928440"/>
            <a:chOff x="2598840" y="2973240"/>
            <a:chExt cx="3565080" cy="928440"/>
          </a:xfrm>
        </p:grpSpPr>
        <p:sp>
          <p:nvSpPr>
            <p:cNvPr id="354" name=""/>
            <p:cNvSpPr/>
            <p:nvPr/>
          </p:nvSpPr>
          <p:spPr>
            <a:xfrm>
              <a:off x="2598840" y="2973240"/>
              <a:ext cx="3370320" cy="85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52960" y="3750120"/>
              <a:ext cx="210960" cy="151560"/>
            </a:xfrm>
            <a:custGeom>
              <a:avLst/>
              <a:gdLst/>
              <a:ahLst/>
              <a:rect l="l" t="t" r="r" b="b"/>
              <a:pathLst>
                <a:path w="132" h="101">
                  <a:moveTo>
                    <a:pt x="10" y="50"/>
                  </a:moveTo>
                  <a:lnTo>
                    <a:pt x="0" y="101"/>
                  </a:lnTo>
                  <a:lnTo>
                    <a:pt x="132" y="81"/>
                  </a:lnTo>
                  <a:lnTo>
                    <a:pt x="30" y="0"/>
                  </a:lnTo>
                  <a:lnTo>
                    <a:pt x="1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540600" y="297504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82920" y="228456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-25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77520" y="262080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7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14440" y="1473120"/>
            <a:ext cx="2028600" cy="866880"/>
            <a:chOff x="514440" y="1473120"/>
            <a:chExt cx="2028600" cy="866880"/>
          </a:xfrm>
        </p:grpSpPr>
        <p:sp>
          <p:nvSpPr>
            <p:cNvPr id="360" name=""/>
            <p:cNvSpPr/>
            <p:nvPr/>
          </p:nvSpPr>
          <p:spPr>
            <a:xfrm>
              <a:off x="514440" y="1473120"/>
              <a:ext cx="2028600" cy="866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7600" y="1562040"/>
              <a:ext cx="118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[external flow]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14800" y="1787400"/>
              <a:ext cx="48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cost)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5720" y="2011320"/>
              <a:ext cx="175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ower = 0, upper = 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8459280" y="55594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2480" y="6283440"/>
            <a:ext cx="1514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82480" y="1357200"/>
            <a:ext cx="78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network with node se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arc se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6720" y="2013120"/>
            <a:ext cx="763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ce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denote nodes and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denote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" y="2854440"/>
            <a:ext cx="8168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riginating set of arcs for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tails a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is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forward star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87040" y="3755880"/>
            <a:ext cx="323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: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543560"/>
            <a:ext cx="6897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minating set of arcs for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s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everse sta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= {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: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Minimum Cost Flow Probl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468160" y="758880"/>
            <a:ext cx="449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S(1) = { (1,2), (1,3), (1,4), (1, 5)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20920" y="1379520"/>
            <a:ext cx="128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S(1) =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49800" y="1969920"/>
            <a:ext cx="434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S(4) = { (4,2), (4,3), (4,5), (4,6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5760" y="2627280"/>
            <a:ext cx="492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S(4) = { (1,4), (5, 4), (7,4), (8,4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7560" y="3309840"/>
            <a:ext cx="7336080" cy="2997720"/>
            <a:chOff x="547560" y="3309840"/>
            <a:chExt cx="7336080" cy="2997720"/>
          </a:xfrm>
        </p:grpSpPr>
        <p:sp>
          <p:nvSpPr>
            <p:cNvPr id="377" name=""/>
            <p:cNvSpPr/>
            <p:nvPr/>
          </p:nvSpPr>
          <p:spPr>
            <a:xfrm>
              <a:off x="2841480" y="3924360"/>
              <a:ext cx="3797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ij</a:t>
              </a: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   –  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ji</a:t>
              </a:r>
              <a:r>
                <a:rPr b="0" lang="en-US" sz="2800" spc="-1" strike="noStrike">
                  <a:solidFill>
                    <a:srgbClr val="ffffff"/>
                  </a:solidFill>
                  <a:latin typeface="Bookman Old Style"/>
                </a:rPr>
                <a:t>  = 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Bookman Old Style"/>
                </a:rPr>
                <a:t>b</a:t>
              </a:r>
              <a:r>
                <a:rPr b="0" i="1" lang="en-US" sz="2800" spc="-1" strike="noStrike" baseline="-25000">
                  <a:solidFill>
                    <a:srgbClr val="ffffff"/>
                  </a:solidFill>
                  <a:latin typeface="Bookman Old Style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79160" y="4462560"/>
              <a:ext cx="119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,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FS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63640" y="5159520"/>
              <a:ext cx="7020000" cy="11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22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wher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b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</a:t>
              </a: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positive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for supply nod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22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</a:t>
              </a: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negative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for demand nod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22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= 0 otherw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44320" y="4467240"/>
              <a:ext cx="118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,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RS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1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7560" y="3309840"/>
              <a:ext cx="54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Flow balance equation for node </a:t>
              </a:r>
              <a:r>
                <a:rPr b="0" i="1" lang="en-US" sz="2400" spc="-1" strike="noStrike">
                  <a:solidFill>
                    <a:srgbClr val="ff9900"/>
                  </a:solidFill>
                  <a:latin typeface="Bookman Old Style"/>
                </a:rPr>
                <a:t>i </a:t>
              </a:r>
              <a:r>
                <a:rPr b="0" lang="en-US" sz="2400" spc="-1" strike="noStrike">
                  <a:solidFill>
                    <a:srgbClr val="ff9900"/>
                  </a:solidFill>
                  <a:latin typeface="Bookman Old Style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50880" y="216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our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58560" y="1108080"/>
            <a:ext cx="171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ces/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60240" y="1432080"/>
            <a:ext cx="91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82040" y="1457280"/>
            <a:ext cx="2300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ward star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erse star o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9120" y="1847880"/>
            <a:ext cx="10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00880" y="177804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54120" y="2379600"/>
            <a:ext cx="63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48720" y="280188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6080" y="3414600"/>
            <a:ext cx="67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18040" y="336060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91200" y="3643200"/>
            <a:ext cx="230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21280" y="3722760"/>
            <a:ext cx="36856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it cost of flow on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ower bound on flow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pper bound on flow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ternal flow at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16760" y="4095720"/>
            <a:ext cx="17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90480" y="461160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81480" y="5129280"/>
            <a:ext cx="223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6560" y="22032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Min-Cost Flow Model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98" name=""/>
          <p:cNvSpPr/>
          <p:nvPr/>
        </p:nvSpPr>
        <p:spPr>
          <a:xfrm>
            <a:off x="1197000" y="5853240"/>
            <a:ext cx="60120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tal supply = total demand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838080" y="326880"/>
            <a:ext cx="2798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17600" y="941400"/>
            <a:ext cx="2962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= flow on arc (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9640" y="1789200"/>
            <a:ext cx="7175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Formulation for pure min-cost flow 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80440" y="2401920"/>
            <a:ext cx="59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14440" y="2381400"/>
            <a:ext cx="13161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31120" y="2846520"/>
            <a:ext cx="74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36960" y="3475080"/>
            <a:ext cx="4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208240" y="3436920"/>
            <a:ext cx="5216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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  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j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83440" y="3936960"/>
            <a:ext cx="112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6600" y="3962520"/>
            <a:ext cx="11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57040" y="4764240"/>
            <a:ext cx="3909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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60600" y="343080"/>
            <a:ext cx="6057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cision variables are the flow variable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2640" y="1514520"/>
            <a:ext cx="75740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By examining the flow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alance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constraints we see tha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appears in exactly two of them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52520" y="2343240"/>
            <a:ext cx="240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77520" y="247644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52520" y="2782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28480" y="295596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0480" y="29559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28480" y="304956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00480" y="30495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28480" y="314172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10920" y="310500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52520" y="3370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17040" y="337032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36200" y="3676680"/>
            <a:ext cx="79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+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86880" y="367668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6400" y="3676680"/>
            <a:ext cx="78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node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1160" y="4079880"/>
            <a:ext cx="2076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( or in the other order if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&gt;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52520" y="39830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15600" y="398304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28480" y="415440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00480" y="4154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28480" y="424800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00480" y="42480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28480" y="434016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10920" y="430524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52520" y="456876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040" y="456876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00320" y="487692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6520" y="489276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72840" y="489276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6400" y="4892760"/>
            <a:ext cx="78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node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2520" y="5197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17040" y="519732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28480" y="536904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00480" y="5369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28480" y="546408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0480" y="54640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28480" y="5554800"/>
            <a:ext cx="6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10920" y="551988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52520" y="57834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51200" y="954000"/>
            <a:ext cx="323640" cy="325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193920" y="1049400"/>
            <a:ext cx="1318680" cy="183600"/>
            <a:chOff x="3193920" y="1049400"/>
            <a:chExt cx="1318680" cy="183600"/>
          </a:xfrm>
        </p:grpSpPr>
        <p:sp>
          <p:nvSpPr>
            <p:cNvPr id="452" name=""/>
            <p:cNvSpPr/>
            <p:nvPr/>
          </p:nvSpPr>
          <p:spPr>
            <a:xfrm>
              <a:off x="3193920" y="1139040"/>
              <a:ext cx="1160640" cy="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49160" y="1049400"/>
              <a:ext cx="163440" cy="1836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0" y="92"/>
                  </a:moveTo>
                  <a:lnTo>
                    <a:pt x="93" y="45"/>
                  </a:lnTo>
                  <a:lnTo>
                    <a:pt x="0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2996640" y="10000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89160" y="973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45000" y="954000"/>
            <a:ext cx="322200" cy="3254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29160" y="885960"/>
            <a:ext cx="465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03760" y="996840"/>
            <a:ext cx="11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07000" y="5608800"/>
            <a:ext cx="41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This structure is called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otal unimodularity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 and guarantees integer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35080" y="1103400"/>
            <a:ext cx="839628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f we add the constraints we obtain zero on the left-hand side so the right-hand side must also be zero for feasibilit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n particular, this mea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um of </a:t>
            </a:r>
            <a:r>
              <a:rPr b="0" lang="en-US" sz="2300" spc="-1" strike="noStrike">
                <a:solidFill>
                  <a:srgbClr val="ff9900"/>
                </a:solidFill>
                <a:latin typeface="Bookman Old Style"/>
              </a:rPr>
              <a:t>supplies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= sum of </a:t>
            </a:r>
            <a:r>
              <a:rPr b="0" lang="en-US" sz="2300" spc="-1" strike="noStrike">
                <a:solidFill>
                  <a:srgbClr val="ff9900"/>
                </a:solidFill>
                <a:latin typeface="Bookman Old Style"/>
              </a:rPr>
              <a:t>demands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7040" y="3598920"/>
            <a:ext cx="830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Mathematically, we hav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ne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redundant constrai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Must be careful in interpreting shadow prices on the flow balance constraint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Cannot change </a:t>
            </a:r>
            <a:r>
              <a:rPr b="0" lang="en-US" sz="2300" spc="-1" strike="noStrike">
                <a:solidFill>
                  <a:srgbClr val="ff9900"/>
                </a:solidFill>
                <a:latin typeface="Bookman Old Style"/>
              </a:rPr>
              <a:t>only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a supply or demand and have model make sens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6560" y="202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Observations from LP Model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99960" y="1925640"/>
            <a:ext cx="8407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4520" indent="-34452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nly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modification to “pure” for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possible gain (or loss) on each arc, denoted by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4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0.95 then 100 units of flow leaves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95 units arrive at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7260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eneralized Minimum Cost Network Flow Model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752480" y="1506600"/>
            <a:ext cx="54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7200" y="1374840"/>
            <a:ext cx="1315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03720" y="1630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83520" y="1839960"/>
            <a:ext cx="74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70560" y="2627280"/>
            <a:ext cx="4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05600" y="326700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22680" y="3884760"/>
            <a:ext cx="4273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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5120" y="4832280"/>
            <a:ext cx="76183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te that 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then we obtain the “pure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00920" y="474012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843280" y="2589120"/>
            <a:ext cx="57103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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ji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j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97600" y="3138480"/>
            <a:ext cx="112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76360" y="3138480"/>
            <a:ext cx="11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Generalized Formula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01480" y="984240"/>
            <a:ext cx="788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5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ight experience 5% spoilage of a perishable good during transportation on a particular ar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 0.95 for the associated arc 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8880" y="2478240"/>
            <a:ext cx="835668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 production of manufacturing formulations we might incur  losses due to production de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 financial examples we can have gains due to currency exchange or gains due to returns on invest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160640" y="4514760"/>
            <a:ext cx="6099480" cy="1675440"/>
            <a:chOff x="1160640" y="4514760"/>
            <a:chExt cx="6099480" cy="1675440"/>
          </a:xfrm>
        </p:grpSpPr>
        <p:sp>
          <p:nvSpPr>
            <p:cNvPr id="481" name=""/>
            <p:cNvSpPr/>
            <p:nvPr/>
          </p:nvSpPr>
          <p:spPr>
            <a:xfrm>
              <a:off x="1174680" y="4592520"/>
              <a:ext cx="789120" cy="534960"/>
            </a:xfrm>
            <a:prstGeom prst="ellipse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75040" y="4762440"/>
              <a:ext cx="1827000" cy="202680"/>
              <a:chOff x="2075040" y="4762440"/>
              <a:chExt cx="1827000" cy="202680"/>
            </a:xfrm>
          </p:grpSpPr>
          <p:sp>
            <p:nvSpPr>
              <p:cNvPr id="483" name=""/>
              <p:cNvSpPr/>
              <p:nvPr/>
            </p:nvSpPr>
            <p:spPr>
              <a:xfrm>
                <a:off x="2075040" y="4860720"/>
                <a:ext cx="168876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55880" y="4762440"/>
                <a:ext cx="146160" cy="2026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0" y="95"/>
                    </a:moveTo>
                    <a:lnTo>
                      <a:pt x="92" y="46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975120" y="4579560"/>
              <a:ext cx="785880" cy="533520"/>
            </a:xfrm>
            <a:prstGeom prst="ellipse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60640" y="5621040"/>
              <a:ext cx="790560" cy="533520"/>
            </a:xfrm>
            <a:prstGeom prst="ellipse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2060640" y="5789520"/>
              <a:ext cx="1827000" cy="150840"/>
              <a:chOff x="2060640" y="5789520"/>
              <a:chExt cx="1827000" cy="150840"/>
            </a:xfrm>
          </p:grpSpPr>
          <p:sp>
            <p:nvSpPr>
              <p:cNvPr id="488" name=""/>
              <p:cNvSpPr/>
              <p:nvPr/>
            </p:nvSpPr>
            <p:spPr>
              <a:xfrm>
                <a:off x="2060640" y="5862600"/>
                <a:ext cx="169056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741840" y="5789520"/>
                <a:ext cx="145800" cy="15084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0" y="95"/>
                    </a:moveTo>
                    <a:lnTo>
                      <a:pt x="92" y="46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3956040" y="5606640"/>
              <a:ext cx="790560" cy="535320"/>
            </a:xfrm>
            <a:prstGeom prst="ellipse">
              <a:avLst/>
            </a:prstGeom>
            <a:noFill/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28760" y="4565520"/>
              <a:ext cx="6350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67000" y="46288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66640" y="484812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16520" y="4538520"/>
              <a:ext cx="830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52960" y="4597200"/>
              <a:ext cx="47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wi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3320" y="4825800"/>
              <a:ext cx="49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fran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87280" y="5706720"/>
              <a:ext cx="8463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5880" y="57798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ea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83040" y="5662440"/>
              <a:ext cx="878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21640" y="573552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Yea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63160" y="4514760"/>
              <a:ext cx="1157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Curr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44720" y="5580000"/>
              <a:ext cx="1715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5% 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on inves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70160" y="4519440"/>
              <a:ext cx="1306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8400" y="4584600"/>
              <a:ext cx="96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ain = 1.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9240" y="5533920"/>
              <a:ext cx="1187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21000" y="5606640"/>
              <a:ext cx="96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ain = 1.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ains and Loss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167360" y="4465800"/>
            <a:ext cx="156960" cy="846000"/>
            <a:chOff x="4167360" y="4465800"/>
            <a:chExt cx="156960" cy="846000"/>
          </a:xfrm>
        </p:grpSpPr>
        <p:sp>
          <p:nvSpPr>
            <p:cNvPr id="44" name=""/>
            <p:cNvSpPr/>
            <p:nvPr/>
          </p:nvSpPr>
          <p:spPr>
            <a:xfrm flipV="1">
              <a:off x="4246560" y="4653000"/>
              <a:ext cx="1440" cy="65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67360" y="4465800"/>
              <a:ext cx="156960" cy="18720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50" y="118"/>
                  </a:moveTo>
                  <a:lnTo>
                    <a:pt x="99" y="118"/>
                  </a:lnTo>
                  <a:lnTo>
                    <a:pt x="50" y="0"/>
                  </a:lnTo>
                  <a:lnTo>
                    <a:pt x="0" y="1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554960" y="3038400"/>
            <a:ext cx="156960" cy="1976040"/>
            <a:chOff x="7554960" y="3038400"/>
            <a:chExt cx="156960" cy="1976040"/>
          </a:xfrm>
        </p:grpSpPr>
        <p:sp>
          <p:nvSpPr>
            <p:cNvPr id="47" name=""/>
            <p:cNvSpPr/>
            <p:nvPr/>
          </p:nvSpPr>
          <p:spPr>
            <a:xfrm flipV="1">
              <a:off x="7632720" y="3225600"/>
              <a:ext cx="1440" cy="178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54960" y="3038400"/>
              <a:ext cx="156960" cy="18756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49" y="118"/>
                  </a:moveTo>
                  <a:lnTo>
                    <a:pt x="99" y="118"/>
                  </a:lnTo>
                  <a:lnTo>
                    <a:pt x="49" y="0"/>
                  </a:lnTo>
                  <a:lnTo>
                    <a:pt x="0" y="118"/>
                  </a:lnTo>
                  <a:lnTo>
                    <a:pt x="49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116080" y="3305160"/>
            <a:ext cx="310320" cy="607680"/>
            <a:chOff x="2116080" y="3305160"/>
            <a:chExt cx="310320" cy="607680"/>
          </a:xfrm>
        </p:grpSpPr>
        <p:sp>
          <p:nvSpPr>
            <p:cNvPr id="50" name=""/>
            <p:cNvSpPr/>
            <p:nvPr/>
          </p:nvSpPr>
          <p:spPr>
            <a:xfrm flipH="1">
              <a:off x="2198520" y="3305160"/>
              <a:ext cx="227880" cy="43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16080" y="3705480"/>
              <a:ext cx="163800" cy="20736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0" y="20"/>
                  </a:moveTo>
                  <a:lnTo>
                    <a:pt x="0" y="0"/>
                  </a:lnTo>
                  <a:lnTo>
                    <a:pt x="0" y="128"/>
                  </a:lnTo>
                  <a:lnTo>
                    <a:pt x="99" y="39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210280" y="1744560"/>
            <a:ext cx="2257200" cy="563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58040" y="5022720"/>
            <a:ext cx="565200" cy="563760"/>
          </a:xfrm>
          <a:prstGeom prst="ellipse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5080" y="5159520"/>
            <a:ext cx="444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29440" y="3892680"/>
            <a:ext cx="565200" cy="5652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73800" y="4027320"/>
            <a:ext cx="287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T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58040" y="2481120"/>
            <a:ext cx="565200" cy="565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69360" y="2603520"/>
            <a:ext cx="20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71880" y="3892680"/>
            <a:ext cx="563760" cy="5652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1560" y="4014720"/>
            <a:ext cx="294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1880" y="2481120"/>
            <a:ext cx="563760" cy="565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79160" y="2617920"/>
            <a:ext cx="366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H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71880" y="5305320"/>
            <a:ext cx="563760" cy="563760"/>
          </a:xfrm>
          <a:prstGeom prst="ellipse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25960" y="5413320"/>
            <a:ext cx="279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3892680"/>
            <a:ext cx="563400" cy="565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22040" y="3986280"/>
            <a:ext cx="194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8080" y="2763720"/>
            <a:ext cx="565200" cy="565200"/>
          </a:xfrm>
          <a:prstGeom prst="ellipse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81400" y="2886120"/>
            <a:ext cx="398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HO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42240" y="25671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26080" y="33037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55040" y="38685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1440" y="48099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08920" y="31939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1400" y="466884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9640" y="297504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95160" y="363384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23240" y="49975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920" y="48099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36280" y="45115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63400" y="40719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91840" y="303696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51680" y="33670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86000" y="4089240"/>
            <a:ext cx="1677960" cy="157320"/>
            <a:chOff x="2286000" y="4089240"/>
            <a:chExt cx="1677960" cy="157320"/>
          </a:xfrm>
        </p:grpSpPr>
        <p:sp>
          <p:nvSpPr>
            <p:cNvPr id="84" name=""/>
            <p:cNvSpPr/>
            <p:nvPr/>
          </p:nvSpPr>
          <p:spPr>
            <a:xfrm flipH="1">
              <a:off x="2475000" y="4167360"/>
              <a:ext cx="1488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0" y="4089240"/>
              <a:ext cx="189000" cy="157320"/>
            </a:xfrm>
            <a:custGeom>
              <a:avLst/>
              <a:gdLst/>
              <a:ahLst/>
              <a:rect l="l" t="t" r="r" b="b"/>
              <a:pathLst>
                <a:path w="119" h="99">
                  <a:moveTo>
                    <a:pt x="119" y="49"/>
                  </a:moveTo>
                  <a:lnTo>
                    <a:pt x="119" y="0"/>
                  </a:lnTo>
                  <a:lnTo>
                    <a:pt x="0" y="49"/>
                  </a:lnTo>
                  <a:lnTo>
                    <a:pt x="119" y="99"/>
                  </a:lnTo>
                  <a:lnTo>
                    <a:pt x="1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239920" y="4324320"/>
            <a:ext cx="1739520" cy="1128240"/>
            <a:chOff x="2239920" y="4324320"/>
            <a:chExt cx="1739520" cy="1128240"/>
          </a:xfrm>
        </p:grpSpPr>
        <p:sp>
          <p:nvSpPr>
            <p:cNvPr id="87" name=""/>
            <p:cNvSpPr/>
            <p:nvPr/>
          </p:nvSpPr>
          <p:spPr>
            <a:xfrm flipH="1" flipV="1">
              <a:off x="2395080" y="4433400"/>
              <a:ext cx="1584360" cy="1019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39920" y="4324320"/>
              <a:ext cx="20340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98" y="69"/>
                  </a:moveTo>
                  <a:lnTo>
                    <a:pt x="128" y="20"/>
                  </a:lnTo>
                  <a:lnTo>
                    <a:pt x="0" y="0"/>
                  </a:lnTo>
                  <a:lnTo>
                    <a:pt x="69" y="109"/>
                  </a:lnTo>
                  <a:lnTo>
                    <a:pt x="9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835360" y="2724120"/>
            <a:ext cx="1128600" cy="250920"/>
            <a:chOff x="2835360" y="2724120"/>
            <a:chExt cx="1128600" cy="250920"/>
          </a:xfrm>
        </p:grpSpPr>
        <p:sp>
          <p:nvSpPr>
            <p:cNvPr id="90" name=""/>
            <p:cNvSpPr/>
            <p:nvPr/>
          </p:nvSpPr>
          <p:spPr>
            <a:xfrm flipV="1">
              <a:off x="2835360" y="2803680"/>
              <a:ext cx="939600" cy="17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60920" y="2724120"/>
              <a:ext cx="20304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9" y="50"/>
                  </a:moveTo>
                  <a:lnTo>
                    <a:pt x="19" y="109"/>
                  </a:lnTo>
                  <a:lnTo>
                    <a:pt x="128" y="30"/>
                  </a:lnTo>
                  <a:lnTo>
                    <a:pt x="0" y="0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87480" y="3209760"/>
            <a:ext cx="1238400" cy="785880"/>
            <a:chOff x="2787480" y="3209760"/>
            <a:chExt cx="1238400" cy="785880"/>
          </a:xfrm>
        </p:grpSpPr>
        <p:sp>
          <p:nvSpPr>
            <p:cNvPr id="93" name=""/>
            <p:cNvSpPr/>
            <p:nvPr/>
          </p:nvSpPr>
          <p:spPr>
            <a:xfrm>
              <a:off x="2787480" y="3209760"/>
              <a:ext cx="1082880" cy="675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22840" y="3822840"/>
              <a:ext cx="203040" cy="17280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30" y="39"/>
                  </a:moveTo>
                  <a:lnTo>
                    <a:pt x="0" y="89"/>
                  </a:lnTo>
                  <a:lnTo>
                    <a:pt x="128" y="109"/>
                  </a:lnTo>
                  <a:lnTo>
                    <a:pt x="59" y="0"/>
                  </a:lnTo>
                  <a:lnTo>
                    <a:pt x="3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497480" y="4292640"/>
            <a:ext cx="1739880" cy="1144080"/>
            <a:chOff x="4497480" y="4292640"/>
            <a:chExt cx="1739880" cy="1144080"/>
          </a:xfrm>
        </p:grpSpPr>
        <p:sp>
          <p:nvSpPr>
            <p:cNvPr id="96" name=""/>
            <p:cNvSpPr/>
            <p:nvPr/>
          </p:nvSpPr>
          <p:spPr>
            <a:xfrm flipV="1">
              <a:off x="4497480" y="4401720"/>
              <a:ext cx="1582560" cy="1035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3960" y="4292640"/>
              <a:ext cx="203400" cy="17316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29" y="69"/>
                  </a:moveTo>
                  <a:lnTo>
                    <a:pt x="59" y="109"/>
                  </a:lnTo>
                  <a:lnTo>
                    <a:pt x="128" y="0"/>
                  </a:lnTo>
                  <a:lnTo>
                    <a:pt x="0" y="20"/>
                  </a:lnTo>
                  <a:lnTo>
                    <a:pt x="2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7160" y="4387680"/>
            <a:ext cx="705960" cy="720360"/>
            <a:chOff x="6707160" y="4387680"/>
            <a:chExt cx="705960" cy="720360"/>
          </a:xfrm>
        </p:grpSpPr>
        <p:sp>
          <p:nvSpPr>
            <p:cNvPr id="99" name=""/>
            <p:cNvSpPr/>
            <p:nvPr/>
          </p:nvSpPr>
          <p:spPr>
            <a:xfrm flipH="1" flipV="1">
              <a:off x="6848280" y="4527360"/>
              <a:ext cx="564840" cy="580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7160" y="4387680"/>
              <a:ext cx="189000" cy="20340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89" y="88"/>
                  </a:moveTo>
                  <a:lnTo>
                    <a:pt x="119" y="49"/>
                  </a:lnTo>
                  <a:lnTo>
                    <a:pt x="0" y="0"/>
                  </a:lnTo>
                  <a:lnTo>
                    <a:pt x="50" y="128"/>
                  </a:lnTo>
                  <a:lnTo>
                    <a:pt x="89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97480" y="2881440"/>
            <a:ext cx="1906200" cy="1028160"/>
            <a:chOff x="4497480" y="2881440"/>
            <a:chExt cx="1906200" cy="1028160"/>
          </a:xfrm>
        </p:grpSpPr>
        <p:sp>
          <p:nvSpPr>
            <p:cNvPr id="102" name=""/>
            <p:cNvSpPr/>
            <p:nvPr/>
          </p:nvSpPr>
          <p:spPr>
            <a:xfrm flipH="1" flipV="1">
              <a:off x="4677120" y="2971440"/>
              <a:ext cx="1726560" cy="9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7480" y="2881440"/>
              <a:ext cx="212760" cy="166320"/>
            </a:xfrm>
            <a:custGeom>
              <a:avLst/>
              <a:gdLst/>
              <a:ahLst/>
              <a:rect l="l" t="t" r="r" b="b"/>
              <a:pathLst>
                <a:path w="128" h="109">
                  <a:moveTo>
                    <a:pt x="108" y="59"/>
                  </a:moveTo>
                  <a:lnTo>
                    <a:pt x="128" y="20"/>
                  </a:lnTo>
                  <a:lnTo>
                    <a:pt x="0" y="0"/>
                  </a:lnTo>
                  <a:lnTo>
                    <a:pt x="79" y="109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38520" y="4122720"/>
            <a:ext cx="1701720" cy="157320"/>
            <a:chOff x="4538520" y="4122720"/>
            <a:chExt cx="1701720" cy="157320"/>
          </a:xfrm>
        </p:grpSpPr>
        <p:sp>
          <p:nvSpPr>
            <p:cNvPr id="105" name=""/>
            <p:cNvSpPr/>
            <p:nvPr/>
          </p:nvSpPr>
          <p:spPr>
            <a:xfrm flipH="1">
              <a:off x="4728240" y="4202280"/>
              <a:ext cx="151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8520" y="4122720"/>
              <a:ext cx="189720" cy="157320"/>
            </a:xfrm>
            <a:custGeom>
              <a:avLst/>
              <a:gdLst/>
              <a:ahLst/>
              <a:rect l="l" t="t" r="r" b="b"/>
              <a:pathLst>
                <a:path w="118" h="99">
                  <a:moveTo>
                    <a:pt x="118" y="50"/>
                  </a:moveTo>
                  <a:lnTo>
                    <a:pt x="118" y="0"/>
                  </a:lnTo>
                  <a:lnTo>
                    <a:pt x="0" y="50"/>
                  </a:lnTo>
                  <a:lnTo>
                    <a:pt x="118" y="99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661080" y="2944800"/>
            <a:ext cx="752400" cy="971280"/>
            <a:chOff x="6661080" y="2944800"/>
            <a:chExt cx="752400" cy="971280"/>
          </a:xfrm>
        </p:grpSpPr>
        <p:sp>
          <p:nvSpPr>
            <p:cNvPr id="108" name=""/>
            <p:cNvSpPr/>
            <p:nvPr/>
          </p:nvSpPr>
          <p:spPr>
            <a:xfrm flipV="1">
              <a:off x="6661080" y="3099960"/>
              <a:ext cx="627120" cy="8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24840" y="2944800"/>
              <a:ext cx="188640" cy="2030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40" y="98"/>
                  </a:moveTo>
                  <a:lnTo>
                    <a:pt x="89" y="128"/>
                  </a:lnTo>
                  <a:lnTo>
                    <a:pt x="119" y="0"/>
                  </a:lnTo>
                  <a:lnTo>
                    <a:pt x="0" y="59"/>
                  </a:lnTo>
                  <a:lnTo>
                    <a:pt x="4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81640" y="2771640"/>
            <a:ext cx="2852640" cy="1238400"/>
            <a:chOff x="4481640" y="2771640"/>
            <a:chExt cx="2852640" cy="1238400"/>
          </a:xfrm>
        </p:grpSpPr>
        <p:sp>
          <p:nvSpPr>
            <p:cNvPr id="111" name=""/>
            <p:cNvSpPr/>
            <p:nvPr/>
          </p:nvSpPr>
          <p:spPr>
            <a:xfrm flipV="1">
              <a:off x="4481640" y="2849400"/>
              <a:ext cx="2681280" cy="1160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30880" y="2771640"/>
              <a:ext cx="203400" cy="15732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20" y="49"/>
                  </a:moveTo>
                  <a:lnTo>
                    <a:pt x="40" y="99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513320" y="4010040"/>
            <a:ext cx="1708200" cy="157320"/>
            <a:chOff x="4513320" y="4010040"/>
            <a:chExt cx="1708200" cy="157320"/>
          </a:xfrm>
        </p:grpSpPr>
        <p:sp>
          <p:nvSpPr>
            <p:cNvPr id="114" name=""/>
            <p:cNvSpPr/>
            <p:nvPr/>
          </p:nvSpPr>
          <p:spPr>
            <a:xfrm>
              <a:off x="4513320" y="4089240"/>
              <a:ext cx="15206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33960" y="4010040"/>
              <a:ext cx="187560" cy="157320"/>
            </a:xfrm>
            <a:custGeom>
              <a:avLst/>
              <a:gdLst/>
              <a:ahLst/>
              <a:rect l="l" t="t" r="r" b="b"/>
              <a:pathLst>
                <a:path w="118" h="99">
                  <a:moveTo>
                    <a:pt x="0" y="50"/>
                  </a:moveTo>
                  <a:lnTo>
                    <a:pt x="0" y="99"/>
                  </a:lnTo>
                  <a:lnTo>
                    <a:pt x="118" y="5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167360" y="3038400"/>
            <a:ext cx="156960" cy="846360"/>
            <a:chOff x="4167360" y="3038400"/>
            <a:chExt cx="156960" cy="846360"/>
          </a:xfrm>
        </p:grpSpPr>
        <p:sp>
          <p:nvSpPr>
            <p:cNvPr id="117" name=""/>
            <p:cNvSpPr/>
            <p:nvPr/>
          </p:nvSpPr>
          <p:spPr>
            <a:xfrm flipV="1">
              <a:off x="4246560" y="3225960"/>
              <a:ext cx="1440" cy="65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67360" y="3038400"/>
              <a:ext cx="156960" cy="18756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50" y="118"/>
                  </a:moveTo>
                  <a:lnTo>
                    <a:pt x="99" y="118"/>
                  </a:lnTo>
                  <a:lnTo>
                    <a:pt x="50" y="0"/>
                  </a:lnTo>
                  <a:lnTo>
                    <a:pt x="0" y="1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13320" y="4302000"/>
            <a:ext cx="2833200" cy="991800"/>
            <a:chOff x="4513320" y="4302000"/>
            <a:chExt cx="2833200" cy="991800"/>
          </a:xfrm>
        </p:grpSpPr>
        <p:sp>
          <p:nvSpPr>
            <p:cNvPr id="120" name=""/>
            <p:cNvSpPr/>
            <p:nvPr/>
          </p:nvSpPr>
          <p:spPr>
            <a:xfrm flipH="1" flipV="1">
              <a:off x="4701240" y="4380120"/>
              <a:ext cx="2645280" cy="91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13320" y="4302000"/>
              <a:ext cx="203760" cy="15480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118" y="50"/>
                  </a:moveTo>
                  <a:lnTo>
                    <a:pt x="128" y="0"/>
                  </a:lnTo>
                  <a:lnTo>
                    <a:pt x="0" y="10"/>
                  </a:lnTo>
                  <a:lnTo>
                    <a:pt x="98" y="99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81400" y="402588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–15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32120" y="557208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5240" y="432432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–3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21160" y="520848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8240" y="404172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–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3840" y="242568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–2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720" y="42292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29640" y="3836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860560" y="3052800"/>
            <a:ext cx="3449520" cy="957240"/>
            <a:chOff x="2860560" y="3052800"/>
            <a:chExt cx="3449520" cy="957240"/>
          </a:xfrm>
        </p:grpSpPr>
        <p:sp>
          <p:nvSpPr>
            <p:cNvPr id="131" name=""/>
            <p:cNvSpPr/>
            <p:nvPr/>
          </p:nvSpPr>
          <p:spPr>
            <a:xfrm>
              <a:off x="2860560" y="3052800"/>
              <a:ext cx="3260520" cy="87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05240" y="3853080"/>
              <a:ext cx="204840" cy="1569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0" y="50"/>
                  </a:moveTo>
                  <a:lnTo>
                    <a:pt x="0" y="99"/>
                  </a:lnTo>
                  <a:lnTo>
                    <a:pt x="129" y="79"/>
                  </a:lnTo>
                  <a:lnTo>
                    <a:pt x="30" y="0"/>
                  </a:lnTo>
                  <a:lnTo>
                    <a:pt x="1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640680" y="305280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32320" y="264492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–25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3920" y="24573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700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0800" y="1744560"/>
            <a:ext cx="197496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51280" y="178272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supply / deman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74760" y="200196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shipping cos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1782720"/>
            <a:ext cx="166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c lower bounds = 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1320" y="1971720"/>
            <a:ext cx="180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rc upper bounds = 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98960" y="5649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8744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Distribution Proble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532800" y="1641600"/>
            <a:ext cx="66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F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8120" y="1504800"/>
            <a:ext cx="7093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e integer-valued then all extreme points of the feasible region for a pure network flow problem give integer values for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2400" y="3462480"/>
            <a:ext cx="78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Sam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be said for generalized network model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2480" y="4270320"/>
            <a:ext cx="8178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is integer property means that if we use the simplex method to solve a pure network flow problem then we are guaranteed that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will be integer at optim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ure Network Problems vs. General Network Problem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87360" y="762120"/>
            <a:ext cx="875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This is critical when we formulate the assignment, shortest path problems, and other network probl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5760" y="1830240"/>
            <a:ext cx="68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Bookman Old Style"/>
              </a:rPr>
              <a:t>Special cases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of the </a:t>
            </a:r>
            <a:r>
              <a:rPr b="0" lang="en-US" sz="2500" spc="-1" strike="noStrike">
                <a:solidFill>
                  <a:srgbClr val="ff9900"/>
                </a:solidFill>
                <a:latin typeface="Bookman Old Style"/>
              </a:rPr>
              <a:t>pure min-cost flow model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68280" y="2619360"/>
            <a:ext cx="8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22200" y="2498760"/>
            <a:ext cx="37846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62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Transportation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62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Assignment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62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Shortest path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Maximum flow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094200" y="13129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US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82040" y="1312920"/>
            <a:ext cx="93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Yen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41120" y="13129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48040" y="1312920"/>
            <a:ext cx="7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-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16400" y="131292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rit 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06480" y="17161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70200" y="16891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US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11560" y="17161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88680" y="17161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15920" y="17161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97080" y="17161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89120" y="17161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06480" y="19908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72120" y="1986120"/>
            <a:ext cx="93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Yen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0120" y="199080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43480" y="19908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15920" y="19908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97080" y="19908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89120" y="199080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06480" y="2266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3960" y="22669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0120" y="22669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50600" y="22669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70360" y="2266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97080" y="22669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120" y="22669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06480" y="2536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31520" y="2536920"/>
            <a:ext cx="7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-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0120" y="25369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50600" y="25369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41480" y="25639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0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0080" y="2536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989120" y="2536920"/>
            <a:ext cx="32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.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06480" y="28116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35200" y="2793960"/>
            <a:ext cx="76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rit 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58560" y="28116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8680" y="28116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15920" y="28116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97080" y="28116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76960" y="28116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0520" y="3429000"/>
            <a:ext cx="823428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7200">
              <a:lnSpc>
                <a:spcPct val="15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table is to be read as follow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1.45 in row 1 column 3 means that $1 US will purchase 1.45 Swiss Francs (CHF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7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addition, there is a 1% fee that is charged on each ex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2080" y="1639800"/>
            <a:ext cx="7235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2080" y="1639800"/>
            <a:ext cx="0" cy="149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888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hecking for Arbitrage Opportuniti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61" name=""/>
          <p:cNvSpPr/>
          <p:nvPr/>
        </p:nvSpPr>
        <p:spPr>
          <a:xfrm>
            <a:off x="1419120" y="3138480"/>
            <a:ext cx="723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52560" y="1639800"/>
            <a:ext cx="0" cy="149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645400" y="1639800"/>
            <a:ext cx="0" cy="149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114200" y="5697360"/>
            <a:ext cx="4631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ach arc has a gain of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.  For examp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99480" y="5662440"/>
            <a:ext cx="1913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(1.05)(0.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(0.48)(0.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08480" y="1870200"/>
            <a:ext cx="249120" cy="2649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65720" y="4645080"/>
            <a:ext cx="252360" cy="2667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21000" y="4719600"/>
            <a:ext cx="252360" cy="2667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92760" y="3124080"/>
            <a:ext cx="249120" cy="27000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95480" y="3154320"/>
            <a:ext cx="249120" cy="2667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98520" y="2071800"/>
            <a:ext cx="2068560" cy="1096920"/>
            <a:chOff x="1298520" y="2071800"/>
            <a:chExt cx="2068560" cy="1096920"/>
          </a:xfrm>
        </p:grpSpPr>
        <p:sp>
          <p:nvSpPr>
            <p:cNvPr id="572" name=""/>
            <p:cNvSpPr/>
            <p:nvPr/>
          </p:nvSpPr>
          <p:spPr>
            <a:xfrm>
              <a:off x="1298520" y="2071800"/>
              <a:ext cx="2068560" cy="1096920"/>
            </a:xfrm>
            <a:custGeom>
              <a:avLst/>
              <a:gdLst/>
              <a:ahLst/>
              <a:rect l="l" t="t" r="r" b="b"/>
              <a:pathLst>
                <a:path w="1303" h="691">
                  <a:moveTo>
                    <a:pt x="1303" y="0"/>
                  </a:moveTo>
                  <a:lnTo>
                    <a:pt x="1123" y="40"/>
                  </a:lnTo>
                  <a:lnTo>
                    <a:pt x="1033" y="64"/>
                  </a:lnTo>
                  <a:lnTo>
                    <a:pt x="945" y="87"/>
                  </a:lnTo>
                  <a:lnTo>
                    <a:pt x="857" y="116"/>
                  </a:lnTo>
                  <a:lnTo>
                    <a:pt x="772" y="146"/>
                  </a:lnTo>
                  <a:lnTo>
                    <a:pt x="688" y="182"/>
                  </a:lnTo>
                  <a:lnTo>
                    <a:pt x="605" y="222"/>
                  </a:lnTo>
                  <a:lnTo>
                    <a:pt x="563" y="245"/>
                  </a:lnTo>
                  <a:lnTo>
                    <a:pt x="520" y="271"/>
                  </a:lnTo>
                  <a:lnTo>
                    <a:pt x="477" y="302"/>
                  </a:lnTo>
                  <a:lnTo>
                    <a:pt x="432" y="333"/>
                  </a:lnTo>
                  <a:lnTo>
                    <a:pt x="344" y="401"/>
                  </a:lnTo>
                  <a:lnTo>
                    <a:pt x="259" y="472"/>
                  </a:lnTo>
                  <a:lnTo>
                    <a:pt x="178" y="538"/>
                  </a:lnTo>
                  <a:lnTo>
                    <a:pt x="140" y="571"/>
                  </a:lnTo>
                  <a:lnTo>
                    <a:pt x="107" y="602"/>
                  </a:lnTo>
                  <a:lnTo>
                    <a:pt x="74" y="630"/>
                  </a:lnTo>
                  <a:lnTo>
                    <a:pt x="45" y="654"/>
                  </a:lnTo>
                  <a:lnTo>
                    <a:pt x="22" y="675"/>
                  </a:lnTo>
                  <a:lnTo>
                    <a:pt x="0" y="69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8520" y="3042000"/>
              <a:ext cx="131760" cy="12672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34" y="0"/>
                  </a:moveTo>
                  <a:lnTo>
                    <a:pt x="0" y="80"/>
                  </a:lnTo>
                  <a:lnTo>
                    <a:pt x="83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710160" y="2033640"/>
            <a:ext cx="2068200" cy="1135080"/>
            <a:chOff x="3710160" y="2033640"/>
            <a:chExt cx="2068200" cy="1135080"/>
          </a:xfrm>
        </p:grpSpPr>
        <p:sp>
          <p:nvSpPr>
            <p:cNvPr id="575" name=""/>
            <p:cNvSpPr/>
            <p:nvPr/>
          </p:nvSpPr>
          <p:spPr>
            <a:xfrm>
              <a:off x="3710160" y="2071800"/>
              <a:ext cx="2068200" cy="1096920"/>
            </a:xfrm>
            <a:custGeom>
              <a:avLst/>
              <a:gdLst/>
              <a:ahLst/>
              <a:rect l="l" t="t" r="r" b="b"/>
              <a:pathLst>
                <a:path w="1303" h="691">
                  <a:moveTo>
                    <a:pt x="0" y="0"/>
                  </a:moveTo>
                  <a:lnTo>
                    <a:pt x="180" y="40"/>
                  </a:lnTo>
                  <a:lnTo>
                    <a:pt x="268" y="64"/>
                  </a:lnTo>
                  <a:lnTo>
                    <a:pt x="358" y="87"/>
                  </a:lnTo>
                  <a:lnTo>
                    <a:pt x="446" y="116"/>
                  </a:lnTo>
                  <a:lnTo>
                    <a:pt x="532" y="146"/>
                  </a:lnTo>
                  <a:lnTo>
                    <a:pt x="615" y="182"/>
                  </a:lnTo>
                  <a:lnTo>
                    <a:pt x="698" y="222"/>
                  </a:lnTo>
                  <a:lnTo>
                    <a:pt x="740" y="245"/>
                  </a:lnTo>
                  <a:lnTo>
                    <a:pt x="783" y="271"/>
                  </a:lnTo>
                  <a:lnTo>
                    <a:pt x="826" y="302"/>
                  </a:lnTo>
                  <a:lnTo>
                    <a:pt x="871" y="333"/>
                  </a:lnTo>
                  <a:lnTo>
                    <a:pt x="959" y="401"/>
                  </a:lnTo>
                  <a:lnTo>
                    <a:pt x="1044" y="472"/>
                  </a:lnTo>
                  <a:lnTo>
                    <a:pt x="1125" y="538"/>
                  </a:lnTo>
                  <a:lnTo>
                    <a:pt x="1160" y="571"/>
                  </a:lnTo>
                  <a:lnTo>
                    <a:pt x="1196" y="602"/>
                  </a:lnTo>
                  <a:lnTo>
                    <a:pt x="1227" y="630"/>
                  </a:lnTo>
                  <a:lnTo>
                    <a:pt x="1258" y="654"/>
                  </a:lnTo>
                  <a:lnTo>
                    <a:pt x="1281" y="675"/>
                  </a:lnTo>
                  <a:lnTo>
                    <a:pt x="1303" y="69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10160" y="2033640"/>
              <a:ext cx="131400" cy="1238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83" y="0"/>
                  </a:moveTo>
                  <a:lnTo>
                    <a:pt x="0" y="24"/>
                  </a:lnTo>
                  <a:lnTo>
                    <a:pt x="66" y="7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626000" y="3416400"/>
            <a:ext cx="1287360" cy="1303200"/>
            <a:chOff x="4626000" y="3416400"/>
            <a:chExt cx="1287360" cy="1303200"/>
          </a:xfrm>
        </p:grpSpPr>
        <p:sp>
          <p:nvSpPr>
            <p:cNvPr id="578" name=""/>
            <p:cNvSpPr/>
            <p:nvPr/>
          </p:nvSpPr>
          <p:spPr>
            <a:xfrm>
              <a:off x="4626000" y="3416400"/>
              <a:ext cx="1287360" cy="1303200"/>
            </a:xfrm>
            <a:custGeom>
              <a:avLst/>
              <a:gdLst/>
              <a:ahLst/>
              <a:rect l="l" t="t" r="r" b="b"/>
              <a:pathLst>
                <a:path w="811" h="821">
                  <a:moveTo>
                    <a:pt x="811" y="0"/>
                  </a:moveTo>
                  <a:lnTo>
                    <a:pt x="766" y="104"/>
                  </a:lnTo>
                  <a:lnTo>
                    <a:pt x="742" y="154"/>
                  </a:lnTo>
                  <a:lnTo>
                    <a:pt x="714" y="205"/>
                  </a:lnTo>
                  <a:lnTo>
                    <a:pt x="683" y="257"/>
                  </a:lnTo>
                  <a:lnTo>
                    <a:pt x="647" y="309"/>
                  </a:lnTo>
                  <a:lnTo>
                    <a:pt x="607" y="359"/>
                  </a:lnTo>
                  <a:lnTo>
                    <a:pt x="560" y="411"/>
                  </a:lnTo>
                  <a:lnTo>
                    <a:pt x="531" y="437"/>
                  </a:lnTo>
                  <a:lnTo>
                    <a:pt x="500" y="465"/>
                  </a:lnTo>
                  <a:lnTo>
                    <a:pt x="467" y="493"/>
                  </a:lnTo>
                  <a:lnTo>
                    <a:pt x="429" y="524"/>
                  </a:lnTo>
                  <a:lnTo>
                    <a:pt x="348" y="583"/>
                  </a:lnTo>
                  <a:lnTo>
                    <a:pt x="265" y="642"/>
                  </a:lnTo>
                  <a:lnTo>
                    <a:pt x="182" y="699"/>
                  </a:lnTo>
                  <a:lnTo>
                    <a:pt x="144" y="725"/>
                  </a:lnTo>
                  <a:lnTo>
                    <a:pt x="109" y="748"/>
                  </a:lnTo>
                  <a:lnTo>
                    <a:pt x="76" y="769"/>
                  </a:lnTo>
                  <a:lnTo>
                    <a:pt x="45" y="791"/>
                  </a:lnTo>
                  <a:lnTo>
                    <a:pt x="21" y="807"/>
                  </a:lnTo>
                  <a:lnTo>
                    <a:pt x="0" y="82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26000" y="4600440"/>
              <a:ext cx="131760" cy="1188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38" y="0"/>
                  </a:moveTo>
                  <a:lnTo>
                    <a:pt x="0" y="75"/>
                  </a:lnTo>
                  <a:lnTo>
                    <a:pt x="83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43080" y="3432240"/>
            <a:ext cx="1193760" cy="1344600"/>
            <a:chOff x="1243080" y="3432240"/>
            <a:chExt cx="1193760" cy="1344600"/>
          </a:xfrm>
        </p:grpSpPr>
        <p:sp>
          <p:nvSpPr>
            <p:cNvPr id="581" name=""/>
            <p:cNvSpPr/>
            <p:nvPr/>
          </p:nvSpPr>
          <p:spPr>
            <a:xfrm>
              <a:off x="1243080" y="3432240"/>
              <a:ext cx="1193760" cy="1344600"/>
            </a:xfrm>
            <a:custGeom>
              <a:avLst/>
              <a:gdLst/>
              <a:ahLst/>
              <a:rect l="l" t="t" r="r" b="b"/>
              <a:pathLst>
                <a:path w="752" h="847">
                  <a:moveTo>
                    <a:pt x="0" y="0"/>
                  </a:moveTo>
                  <a:lnTo>
                    <a:pt x="42" y="106"/>
                  </a:lnTo>
                  <a:lnTo>
                    <a:pt x="64" y="160"/>
                  </a:lnTo>
                  <a:lnTo>
                    <a:pt x="90" y="212"/>
                  </a:lnTo>
                  <a:lnTo>
                    <a:pt x="118" y="266"/>
                  </a:lnTo>
                  <a:lnTo>
                    <a:pt x="152" y="318"/>
                  </a:lnTo>
                  <a:lnTo>
                    <a:pt x="192" y="372"/>
                  </a:lnTo>
                  <a:lnTo>
                    <a:pt x="235" y="424"/>
                  </a:lnTo>
                  <a:lnTo>
                    <a:pt x="261" y="453"/>
                  </a:lnTo>
                  <a:lnTo>
                    <a:pt x="289" y="481"/>
                  </a:lnTo>
                  <a:lnTo>
                    <a:pt x="320" y="509"/>
                  </a:lnTo>
                  <a:lnTo>
                    <a:pt x="356" y="540"/>
                  </a:lnTo>
                  <a:lnTo>
                    <a:pt x="429" y="601"/>
                  </a:lnTo>
                  <a:lnTo>
                    <a:pt x="508" y="663"/>
                  </a:lnTo>
                  <a:lnTo>
                    <a:pt x="583" y="719"/>
                  </a:lnTo>
                  <a:lnTo>
                    <a:pt x="619" y="745"/>
                  </a:lnTo>
                  <a:lnTo>
                    <a:pt x="652" y="771"/>
                  </a:lnTo>
                  <a:lnTo>
                    <a:pt x="683" y="795"/>
                  </a:lnTo>
                  <a:lnTo>
                    <a:pt x="709" y="814"/>
                  </a:lnTo>
                  <a:lnTo>
                    <a:pt x="733" y="833"/>
                  </a:lnTo>
                  <a:lnTo>
                    <a:pt x="752" y="84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00400" y="4656240"/>
              <a:ext cx="13644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0" y="62"/>
                  </a:moveTo>
                  <a:lnTo>
                    <a:pt x="86" y="76"/>
                  </a:lnTo>
                  <a:lnTo>
                    <a:pt x="48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639880" y="4865760"/>
            <a:ext cx="1698840" cy="162000"/>
            <a:chOff x="2639880" y="4865760"/>
            <a:chExt cx="1698840" cy="162000"/>
          </a:xfrm>
        </p:grpSpPr>
        <p:sp>
          <p:nvSpPr>
            <p:cNvPr id="584" name=""/>
            <p:cNvSpPr/>
            <p:nvPr/>
          </p:nvSpPr>
          <p:spPr>
            <a:xfrm>
              <a:off x="2639880" y="4865760"/>
              <a:ext cx="1698840" cy="162000"/>
            </a:xfrm>
            <a:custGeom>
              <a:avLst/>
              <a:gdLst/>
              <a:ahLst/>
              <a:rect l="l" t="t" r="r" b="b"/>
              <a:pathLst>
                <a:path w="1070" h="102">
                  <a:moveTo>
                    <a:pt x="1070" y="0"/>
                  </a:moveTo>
                  <a:lnTo>
                    <a:pt x="902" y="33"/>
                  </a:lnTo>
                  <a:lnTo>
                    <a:pt x="738" y="66"/>
                  </a:lnTo>
                  <a:lnTo>
                    <a:pt x="660" y="78"/>
                  </a:lnTo>
                  <a:lnTo>
                    <a:pt x="584" y="90"/>
                  </a:lnTo>
                  <a:lnTo>
                    <a:pt x="510" y="97"/>
                  </a:lnTo>
                  <a:lnTo>
                    <a:pt x="441" y="102"/>
                  </a:lnTo>
                  <a:lnTo>
                    <a:pt x="377" y="102"/>
                  </a:lnTo>
                  <a:lnTo>
                    <a:pt x="316" y="99"/>
                  </a:lnTo>
                  <a:lnTo>
                    <a:pt x="259" y="95"/>
                  </a:lnTo>
                  <a:lnTo>
                    <a:pt x="204" y="88"/>
                  </a:lnTo>
                  <a:lnTo>
                    <a:pt x="100" y="69"/>
                  </a:lnTo>
                  <a:lnTo>
                    <a:pt x="0" y="45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39880" y="4900680"/>
              <a:ext cx="131760" cy="122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83" y="0"/>
                  </a:moveTo>
                  <a:lnTo>
                    <a:pt x="0" y="23"/>
                  </a:lnTo>
                  <a:lnTo>
                    <a:pt x="67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681280" y="4694400"/>
            <a:ext cx="1673280" cy="272520"/>
            <a:chOff x="2681280" y="4694400"/>
            <a:chExt cx="1673280" cy="272520"/>
          </a:xfrm>
        </p:grpSpPr>
        <p:sp>
          <p:nvSpPr>
            <p:cNvPr id="587" name=""/>
            <p:cNvSpPr/>
            <p:nvPr/>
          </p:nvSpPr>
          <p:spPr>
            <a:xfrm>
              <a:off x="2681280" y="4738680"/>
              <a:ext cx="1673280" cy="228240"/>
            </a:xfrm>
            <a:custGeom>
              <a:avLst/>
              <a:gdLst/>
              <a:ahLst/>
              <a:rect l="l" t="t" r="r" b="b"/>
              <a:pathLst>
                <a:path w="1054" h="144">
                  <a:moveTo>
                    <a:pt x="0" y="144"/>
                  </a:moveTo>
                  <a:lnTo>
                    <a:pt x="119" y="104"/>
                  </a:lnTo>
                  <a:lnTo>
                    <a:pt x="237" y="66"/>
                  </a:lnTo>
                  <a:lnTo>
                    <a:pt x="358" y="36"/>
                  </a:lnTo>
                  <a:lnTo>
                    <a:pt x="423" y="24"/>
                  </a:lnTo>
                  <a:lnTo>
                    <a:pt x="487" y="14"/>
                  </a:lnTo>
                  <a:lnTo>
                    <a:pt x="553" y="7"/>
                  </a:lnTo>
                  <a:lnTo>
                    <a:pt x="622" y="2"/>
                  </a:lnTo>
                  <a:lnTo>
                    <a:pt x="691" y="0"/>
                  </a:lnTo>
                  <a:lnTo>
                    <a:pt x="762" y="0"/>
                  </a:lnTo>
                  <a:lnTo>
                    <a:pt x="907" y="7"/>
                  </a:lnTo>
                  <a:lnTo>
                    <a:pt x="1054" y="14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28920" y="4694400"/>
              <a:ext cx="125640" cy="12348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8"/>
                  </a:moveTo>
                  <a:lnTo>
                    <a:pt x="79" y="42"/>
                  </a:lnTo>
                  <a:lnTo>
                    <a:pt x="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325520" y="3402000"/>
            <a:ext cx="1152360" cy="1328400"/>
            <a:chOff x="1325520" y="3402000"/>
            <a:chExt cx="1152360" cy="1328400"/>
          </a:xfrm>
        </p:grpSpPr>
        <p:sp>
          <p:nvSpPr>
            <p:cNvPr id="590" name=""/>
            <p:cNvSpPr/>
            <p:nvPr/>
          </p:nvSpPr>
          <p:spPr>
            <a:xfrm>
              <a:off x="1325520" y="3402000"/>
              <a:ext cx="1152360" cy="1328400"/>
            </a:xfrm>
            <a:custGeom>
              <a:avLst/>
              <a:gdLst/>
              <a:ahLst/>
              <a:rect l="l" t="t" r="r" b="b"/>
              <a:pathLst>
                <a:path w="726" h="837">
                  <a:moveTo>
                    <a:pt x="726" y="837"/>
                  </a:moveTo>
                  <a:lnTo>
                    <a:pt x="674" y="738"/>
                  </a:lnTo>
                  <a:lnTo>
                    <a:pt x="645" y="689"/>
                  </a:lnTo>
                  <a:lnTo>
                    <a:pt x="617" y="639"/>
                  </a:lnTo>
                  <a:lnTo>
                    <a:pt x="584" y="587"/>
                  </a:lnTo>
                  <a:lnTo>
                    <a:pt x="550" y="538"/>
                  </a:lnTo>
                  <a:lnTo>
                    <a:pt x="510" y="486"/>
                  </a:lnTo>
                  <a:lnTo>
                    <a:pt x="467" y="434"/>
                  </a:lnTo>
                  <a:lnTo>
                    <a:pt x="444" y="408"/>
                  </a:lnTo>
                  <a:lnTo>
                    <a:pt x="415" y="377"/>
                  </a:lnTo>
                  <a:lnTo>
                    <a:pt x="387" y="349"/>
                  </a:lnTo>
                  <a:lnTo>
                    <a:pt x="353" y="318"/>
                  </a:lnTo>
                  <a:lnTo>
                    <a:pt x="287" y="255"/>
                  </a:lnTo>
                  <a:lnTo>
                    <a:pt x="218" y="193"/>
                  </a:lnTo>
                  <a:lnTo>
                    <a:pt x="149" y="132"/>
                  </a:lnTo>
                  <a:lnTo>
                    <a:pt x="119" y="106"/>
                  </a:lnTo>
                  <a:lnTo>
                    <a:pt x="90" y="80"/>
                  </a:lnTo>
                  <a:lnTo>
                    <a:pt x="62" y="54"/>
                  </a:lnTo>
                  <a:lnTo>
                    <a:pt x="38" y="33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25520" y="3402000"/>
              <a:ext cx="131760" cy="12348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83" y="21"/>
                  </a:moveTo>
                  <a:lnTo>
                    <a:pt x="0" y="0"/>
                  </a:lnTo>
                  <a:lnTo>
                    <a:pt x="31" y="7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325520" y="2116080"/>
            <a:ext cx="2098800" cy="1109520"/>
            <a:chOff x="1325520" y="2116080"/>
            <a:chExt cx="2098800" cy="1109520"/>
          </a:xfrm>
        </p:grpSpPr>
        <p:sp>
          <p:nvSpPr>
            <p:cNvPr id="593" name=""/>
            <p:cNvSpPr/>
            <p:nvPr/>
          </p:nvSpPr>
          <p:spPr>
            <a:xfrm>
              <a:off x="1325520" y="2116080"/>
              <a:ext cx="2098800" cy="1109520"/>
            </a:xfrm>
            <a:custGeom>
              <a:avLst/>
              <a:gdLst/>
              <a:ahLst/>
              <a:rect l="l" t="t" r="r" b="b"/>
              <a:pathLst>
                <a:path w="1322" h="699">
                  <a:moveTo>
                    <a:pt x="0" y="699"/>
                  </a:moveTo>
                  <a:lnTo>
                    <a:pt x="100" y="642"/>
                  </a:lnTo>
                  <a:lnTo>
                    <a:pt x="154" y="611"/>
                  </a:lnTo>
                  <a:lnTo>
                    <a:pt x="209" y="581"/>
                  </a:lnTo>
                  <a:lnTo>
                    <a:pt x="268" y="548"/>
                  </a:lnTo>
                  <a:lnTo>
                    <a:pt x="334" y="512"/>
                  </a:lnTo>
                  <a:lnTo>
                    <a:pt x="406" y="475"/>
                  </a:lnTo>
                  <a:lnTo>
                    <a:pt x="484" y="432"/>
                  </a:lnTo>
                  <a:lnTo>
                    <a:pt x="572" y="387"/>
                  </a:lnTo>
                  <a:lnTo>
                    <a:pt x="664" y="338"/>
                  </a:lnTo>
                  <a:lnTo>
                    <a:pt x="764" y="286"/>
                  </a:lnTo>
                  <a:lnTo>
                    <a:pt x="868" y="232"/>
                  </a:lnTo>
                  <a:lnTo>
                    <a:pt x="978" y="175"/>
                  </a:lnTo>
                  <a:lnTo>
                    <a:pt x="1091" y="118"/>
                  </a:lnTo>
                  <a:lnTo>
                    <a:pt x="132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87520" y="2116080"/>
              <a:ext cx="136800" cy="11268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36" y="71"/>
                  </a:move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627360" y="2101680"/>
            <a:ext cx="2135160" cy="1123920"/>
            <a:chOff x="3627360" y="2101680"/>
            <a:chExt cx="2135160" cy="1123920"/>
          </a:xfrm>
        </p:grpSpPr>
        <p:sp>
          <p:nvSpPr>
            <p:cNvPr id="596" name=""/>
            <p:cNvSpPr/>
            <p:nvPr/>
          </p:nvSpPr>
          <p:spPr>
            <a:xfrm>
              <a:off x="3627360" y="2101680"/>
              <a:ext cx="2135160" cy="1123920"/>
            </a:xfrm>
            <a:custGeom>
              <a:avLst/>
              <a:gdLst/>
              <a:ahLst/>
              <a:rect l="l" t="t" r="r" b="b"/>
              <a:pathLst>
                <a:path w="1345" h="708">
                  <a:moveTo>
                    <a:pt x="0" y="0"/>
                  </a:moveTo>
                  <a:lnTo>
                    <a:pt x="190" y="101"/>
                  </a:lnTo>
                  <a:lnTo>
                    <a:pt x="377" y="203"/>
                  </a:lnTo>
                  <a:lnTo>
                    <a:pt x="557" y="300"/>
                  </a:lnTo>
                  <a:lnTo>
                    <a:pt x="645" y="347"/>
                  </a:lnTo>
                  <a:lnTo>
                    <a:pt x="731" y="392"/>
                  </a:lnTo>
                  <a:lnTo>
                    <a:pt x="816" y="436"/>
                  </a:lnTo>
                  <a:lnTo>
                    <a:pt x="906" y="484"/>
                  </a:lnTo>
                  <a:lnTo>
                    <a:pt x="996" y="531"/>
                  </a:lnTo>
                  <a:lnTo>
                    <a:pt x="1084" y="576"/>
                  </a:lnTo>
                  <a:lnTo>
                    <a:pt x="1165" y="616"/>
                  </a:lnTo>
                  <a:lnTo>
                    <a:pt x="1203" y="635"/>
                  </a:lnTo>
                  <a:lnTo>
                    <a:pt x="1238" y="654"/>
                  </a:lnTo>
                  <a:lnTo>
                    <a:pt x="1269" y="670"/>
                  </a:lnTo>
                  <a:lnTo>
                    <a:pt x="1298" y="684"/>
                  </a:lnTo>
                  <a:lnTo>
                    <a:pt x="1324" y="696"/>
                  </a:lnTo>
                  <a:lnTo>
                    <a:pt x="1345" y="70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27520" y="311616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69"/>
                  </a:moveTo>
                  <a:lnTo>
                    <a:pt x="85" y="69"/>
                  </a:lnTo>
                  <a:lnTo>
                    <a:pt x="3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614840" y="3375000"/>
            <a:ext cx="1216080" cy="1269720"/>
            <a:chOff x="4614840" y="3375000"/>
            <a:chExt cx="1216080" cy="1269720"/>
          </a:xfrm>
        </p:grpSpPr>
        <p:sp>
          <p:nvSpPr>
            <p:cNvPr id="599" name=""/>
            <p:cNvSpPr/>
            <p:nvPr/>
          </p:nvSpPr>
          <p:spPr>
            <a:xfrm>
              <a:off x="4614840" y="3375000"/>
              <a:ext cx="1216080" cy="1269720"/>
            </a:xfrm>
            <a:custGeom>
              <a:avLst/>
              <a:gdLst/>
              <a:ahLst/>
              <a:rect l="l" t="t" r="r" b="b"/>
              <a:pathLst>
                <a:path w="766" h="800">
                  <a:moveTo>
                    <a:pt x="0" y="800"/>
                  </a:moveTo>
                  <a:lnTo>
                    <a:pt x="11" y="786"/>
                  </a:lnTo>
                  <a:lnTo>
                    <a:pt x="23" y="769"/>
                  </a:lnTo>
                  <a:lnTo>
                    <a:pt x="40" y="753"/>
                  </a:lnTo>
                  <a:lnTo>
                    <a:pt x="59" y="729"/>
                  </a:lnTo>
                  <a:lnTo>
                    <a:pt x="80" y="703"/>
                  </a:lnTo>
                  <a:lnTo>
                    <a:pt x="111" y="673"/>
                  </a:lnTo>
                  <a:lnTo>
                    <a:pt x="147" y="635"/>
                  </a:lnTo>
                  <a:lnTo>
                    <a:pt x="189" y="588"/>
                  </a:lnTo>
                  <a:lnTo>
                    <a:pt x="215" y="559"/>
                  </a:lnTo>
                  <a:lnTo>
                    <a:pt x="246" y="529"/>
                  </a:lnTo>
                  <a:lnTo>
                    <a:pt x="282" y="493"/>
                  </a:lnTo>
                  <a:lnTo>
                    <a:pt x="320" y="453"/>
                  </a:lnTo>
                  <a:lnTo>
                    <a:pt x="360" y="413"/>
                  </a:lnTo>
                  <a:lnTo>
                    <a:pt x="403" y="368"/>
                  </a:lnTo>
                  <a:lnTo>
                    <a:pt x="491" y="281"/>
                  </a:lnTo>
                  <a:lnTo>
                    <a:pt x="576" y="194"/>
                  </a:lnTo>
                  <a:lnTo>
                    <a:pt x="616" y="154"/>
                  </a:lnTo>
                  <a:lnTo>
                    <a:pt x="654" y="113"/>
                  </a:lnTo>
                  <a:lnTo>
                    <a:pt x="688" y="78"/>
                  </a:lnTo>
                  <a:lnTo>
                    <a:pt x="719" y="47"/>
                  </a:lnTo>
                  <a:lnTo>
                    <a:pt x="745" y="21"/>
                  </a:lnTo>
                  <a:lnTo>
                    <a:pt x="766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02400" y="3375000"/>
              <a:ext cx="128520" cy="131760"/>
            </a:xfrm>
            <a:custGeom>
              <a:avLst/>
              <a:gdLst/>
              <a:ahLst/>
              <a:rect l="l" t="t" r="r" b="b"/>
              <a:pathLst>
                <a:path w="81" h="83">
                  <a:moveTo>
                    <a:pt x="55" y="83"/>
                  </a:moveTo>
                  <a:lnTo>
                    <a:pt x="81" y="0"/>
                  </a:lnTo>
                  <a:lnTo>
                    <a:pt x="0" y="26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627360" y="2131920"/>
            <a:ext cx="847800" cy="2498760"/>
            <a:chOff x="3627360" y="2131920"/>
            <a:chExt cx="847800" cy="2498760"/>
          </a:xfrm>
        </p:grpSpPr>
        <p:sp>
          <p:nvSpPr>
            <p:cNvPr id="602" name=""/>
            <p:cNvSpPr/>
            <p:nvPr/>
          </p:nvSpPr>
          <p:spPr>
            <a:xfrm>
              <a:off x="3627360" y="2131920"/>
              <a:ext cx="847800" cy="2498760"/>
            </a:xfrm>
            <a:custGeom>
              <a:avLst/>
              <a:gdLst/>
              <a:ahLst/>
              <a:rect l="l" t="t" r="r" b="b"/>
              <a:pathLst>
                <a:path w="534" h="1574">
                  <a:moveTo>
                    <a:pt x="534" y="1574"/>
                  </a:moveTo>
                  <a:lnTo>
                    <a:pt x="534" y="1439"/>
                  </a:lnTo>
                  <a:lnTo>
                    <a:pt x="531" y="1371"/>
                  </a:lnTo>
                  <a:lnTo>
                    <a:pt x="527" y="1298"/>
                  </a:lnTo>
                  <a:lnTo>
                    <a:pt x="515" y="1222"/>
                  </a:lnTo>
                  <a:lnTo>
                    <a:pt x="500" y="1140"/>
                  </a:lnTo>
                  <a:lnTo>
                    <a:pt x="479" y="1052"/>
                  </a:lnTo>
                  <a:lnTo>
                    <a:pt x="448" y="958"/>
                  </a:lnTo>
                  <a:lnTo>
                    <a:pt x="429" y="906"/>
                  </a:lnTo>
                  <a:lnTo>
                    <a:pt x="408" y="847"/>
                  </a:lnTo>
                  <a:lnTo>
                    <a:pt x="382" y="786"/>
                  </a:lnTo>
                  <a:lnTo>
                    <a:pt x="351" y="719"/>
                  </a:lnTo>
                  <a:lnTo>
                    <a:pt x="320" y="651"/>
                  </a:lnTo>
                  <a:lnTo>
                    <a:pt x="287" y="580"/>
                  </a:lnTo>
                  <a:lnTo>
                    <a:pt x="220" y="441"/>
                  </a:lnTo>
                  <a:lnTo>
                    <a:pt x="185" y="370"/>
                  </a:lnTo>
                  <a:lnTo>
                    <a:pt x="152" y="304"/>
                  </a:lnTo>
                  <a:lnTo>
                    <a:pt x="121" y="240"/>
                  </a:lnTo>
                  <a:lnTo>
                    <a:pt x="90" y="179"/>
                  </a:lnTo>
                  <a:lnTo>
                    <a:pt x="61" y="125"/>
                  </a:lnTo>
                  <a:lnTo>
                    <a:pt x="38" y="75"/>
                  </a:lnTo>
                  <a:lnTo>
                    <a:pt x="16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27360" y="2131920"/>
              <a:ext cx="10944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69" y="49"/>
                  </a:moveTo>
                  <a:lnTo>
                    <a:pt x="0" y="0"/>
                  </a:lnTo>
                  <a:lnTo>
                    <a:pt x="0" y="85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532320" y="2146320"/>
            <a:ext cx="904680" cy="2484360"/>
            <a:chOff x="3532320" y="2146320"/>
            <a:chExt cx="904680" cy="2484360"/>
          </a:xfrm>
        </p:grpSpPr>
        <p:sp>
          <p:nvSpPr>
            <p:cNvPr id="605" name=""/>
            <p:cNvSpPr/>
            <p:nvPr/>
          </p:nvSpPr>
          <p:spPr>
            <a:xfrm>
              <a:off x="3532320" y="2146320"/>
              <a:ext cx="904680" cy="2484360"/>
            </a:xfrm>
            <a:custGeom>
              <a:avLst/>
              <a:gdLst/>
              <a:ahLst/>
              <a:rect l="l" t="t" r="r" b="b"/>
              <a:pathLst>
                <a:path w="570" h="1565">
                  <a:moveTo>
                    <a:pt x="0" y="0"/>
                  </a:moveTo>
                  <a:lnTo>
                    <a:pt x="34" y="208"/>
                  </a:lnTo>
                  <a:lnTo>
                    <a:pt x="53" y="312"/>
                  </a:lnTo>
                  <a:lnTo>
                    <a:pt x="72" y="416"/>
                  </a:lnTo>
                  <a:lnTo>
                    <a:pt x="95" y="519"/>
                  </a:lnTo>
                  <a:lnTo>
                    <a:pt x="121" y="621"/>
                  </a:lnTo>
                  <a:lnTo>
                    <a:pt x="150" y="720"/>
                  </a:lnTo>
                  <a:lnTo>
                    <a:pt x="183" y="819"/>
                  </a:lnTo>
                  <a:lnTo>
                    <a:pt x="221" y="916"/>
                  </a:lnTo>
                  <a:lnTo>
                    <a:pt x="264" y="1010"/>
                  </a:lnTo>
                  <a:lnTo>
                    <a:pt x="309" y="1105"/>
                  </a:lnTo>
                  <a:lnTo>
                    <a:pt x="356" y="1199"/>
                  </a:lnTo>
                  <a:lnTo>
                    <a:pt x="409" y="1291"/>
                  </a:lnTo>
                  <a:lnTo>
                    <a:pt x="461" y="1383"/>
                  </a:lnTo>
                  <a:lnTo>
                    <a:pt x="570" y="1565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19640" y="4495680"/>
              <a:ext cx="117000" cy="13464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0" y="40"/>
                  </a:moveTo>
                  <a:lnTo>
                    <a:pt x="74" y="85"/>
                  </a:lnTo>
                  <a:lnTo>
                    <a:pt x="67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116080"/>
            <a:ext cx="985680" cy="2589120"/>
            <a:chOff x="2475000" y="2116080"/>
            <a:chExt cx="985680" cy="2589120"/>
          </a:xfrm>
        </p:grpSpPr>
        <p:sp>
          <p:nvSpPr>
            <p:cNvPr id="608" name=""/>
            <p:cNvSpPr/>
            <p:nvPr/>
          </p:nvSpPr>
          <p:spPr>
            <a:xfrm>
              <a:off x="2530440" y="2116080"/>
              <a:ext cx="930240" cy="2589120"/>
            </a:xfrm>
            <a:custGeom>
              <a:avLst/>
              <a:gdLst/>
              <a:ahLst/>
              <a:rect l="l" t="t" r="r" b="b"/>
              <a:pathLst>
                <a:path w="586" h="1631">
                  <a:moveTo>
                    <a:pt x="586" y="0"/>
                  </a:moveTo>
                  <a:lnTo>
                    <a:pt x="451" y="241"/>
                  </a:lnTo>
                  <a:lnTo>
                    <a:pt x="385" y="359"/>
                  </a:lnTo>
                  <a:lnTo>
                    <a:pt x="323" y="475"/>
                  </a:lnTo>
                  <a:lnTo>
                    <a:pt x="264" y="588"/>
                  </a:lnTo>
                  <a:lnTo>
                    <a:pt x="209" y="699"/>
                  </a:lnTo>
                  <a:lnTo>
                    <a:pt x="162" y="807"/>
                  </a:lnTo>
                  <a:lnTo>
                    <a:pt x="121" y="911"/>
                  </a:lnTo>
                  <a:lnTo>
                    <a:pt x="88" y="1010"/>
                  </a:lnTo>
                  <a:lnTo>
                    <a:pt x="62" y="1107"/>
                  </a:lnTo>
                  <a:lnTo>
                    <a:pt x="43" y="1199"/>
                  </a:lnTo>
                  <a:lnTo>
                    <a:pt x="29" y="1289"/>
                  </a:lnTo>
                  <a:lnTo>
                    <a:pt x="19" y="1376"/>
                  </a:lnTo>
                  <a:lnTo>
                    <a:pt x="10" y="1461"/>
                  </a:lnTo>
                  <a:lnTo>
                    <a:pt x="0" y="163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75000" y="458136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0"/>
                  </a:moveTo>
                  <a:lnTo>
                    <a:pt x="35" y="78"/>
                  </a:lnTo>
                  <a:lnTo>
                    <a:pt x="78" y="5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587680" y="2146320"/>
            <a:ext cx="941400" cy="2573280"/>
            <a:chOff x="2587680" y="2146320"/>
            <a:chExt cx="941400" cy="2573280"/>
          </a:xfrm>
        </p:grpSpPr>
        <p:sp>
          <p:nvSpPr>
            <p:cNvPr id="611" name=""/>
            <p:cNvSpPr/>
            <p:nvPr/>
          </p:nvSpPr>
          <p:spPr>
            <a:xfrm>
              <a:off x="2587680" y="2146320"/>
              <a:ext cx="888840" cy="2573280"/>
            </a:xfrm>
            <a:custGeom>
              <a:avLst/>
              <a:gdLst/>
              <a:ahLst/>
              <a:rect l="l" t="t" r="r" b="b"/>
              <a:pathLst>
                <a:path w="560" h="1621">
                  <a:moveTo>
                    <a:pt x="0" y="1621"/>
                  </a:moveTo>
                  <a:lnTo>
                    <a:pt x="121" y="1409"/>
                  </a:lnTo>
                  <a:lnTo>
                    <a:pt x="180" y="1303"/>
                  </a:lnTo>
                  <a:lnTo>
                    <a:pt x="237" y="1197"/>
                  </a:lnTo>
                  <a:lnTo>
                    <a:pt x="292" y="1090"/>
                  </a:lnTo>
                  <a:lnTo>
                    <a:pt x="339" y="987"/>
                  </a:lnTo>
                  <a:lnTo>
                    <a:pt x="384" y="883"/>
                  </a:lnTo>
                  <a:lnTo>
                    <a:pt x="422" y="781"/>
                  </a:lnTo>
                  <a:lnTo>
                    <a:pt x="453" y="682"/>
                  </a:lnTo>
                  <a:lnTo>
                    <a:pt x="479" y="581"/>
                  </a:lnTo>
                  <a:lnTo>
                    <a:pt x="501" y="484"/>
                  </a:lnTo>
                  <a:lnTo>
                    <a:pt x="517" y="385"/>
                  </a:lnTo>
                  <a:lnTo>
                    <a:pt x="531" y="288"/>
                  </a:lnTo>
                  <a:lnTo>
                    <a:pt x="543" y="191"/>
                  </a:lnTo>
                  <a:lnTo>
                    <a:pt x="56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05240" y="214632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45" y="0"/>
                  </a:lnTo>
                  <a:lnTo>
                    <a:pt x="0" y="7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355760" y="3206880"/>
            <a:ext cx="3024000" cy="1497960"/>
            <a:chOff x="1355760" y="3206880"/>
            <a:chExt cx="3024000" cy="1497960"/>
          </a:xfrm>
        </p:grpSpPr>
        <p:sp>
          <p:nvSpPr>
            <p:cNvPr id="614" name=""/>
            <p:cNvSpPr/>
            <p:nvPr/>
          </p:nvSpPr>
          <p:spPr>
            <a:xfrm>
              <a:off x="1355760" y="3255840"/>
              <a:ext cx="3024000" cy="1449000"/>
            </a:xfrm>
            <a:custGeom>
              <a:avLst/>
              <a:gdLst/>
              <a:ahLst/>
              <a:rect l="l" t="t" r="r" b="b"/>
              <a:pathLst>
                <a:path w="1905" h="913">
                  <a:moveTo>
                    <a:pt x="1905" y="913"/>
                  </a:moveTo>
                  <a:lnTo>
                    <a:pt x="1808" y="804"/>
                  </a:lnTo>
                  <a:lnTo>
                    <a:pt x="1711" y="696"/>
                  </a:lnTo>
                  <a:lnTo>
                    <a:pt x="1611" y="592"/>
                  </a:lnTo>
                  <a:lnTo>
                    <a:pt x="1509" y="493"/>
                  </a:lnTo>
                  <a:lnTo>
                    <a:pt x="1405" y="398"/>
                  </a:lnTo>
                  <a:lnTo>
                    <a:pt x="1350" y="356"/>
                  </a:lnTo>
                  <a:lnTo>
                    <a:pt x="1296" y="314"/>
                  </a:lnTo>
                  <a:lnTo>
                    <a:pt x="1241" y="276"/>
                  </a:lnTo>
                  <a:lnTo>
                    <a:pt x="1184" y="240"/>
                  </a:lnTo>
                  <a:lnTo>
                    <a:pt x="1127" y="207"/>
                  </a:lnTo>
                  <a:lnTo>
                    <a:pt x="1068" y="177"/>
                  </a:lnTo>
                  <a:lnTo>
                    <a:pt x="1006" y="151"/>
                  </a:lnTo>
                  <a:lnTo>
                    <a:pt x="937" y="127"/>
                  </a:lnTo>
                  <a:lnTo>
                    <a:pt x="866" y="106"/>
                  </a:lnTo>
                  <a:lnTo>
                    <a:pt x="792" y="89"/>
                  </a:lnTo>
                  <a:lnTo>
                    <a:pt x="714" y="73"/>
                  </a:lnTo>
                  <a:lnTo>
                    <a:pt x="638" y="61"/>
                  </a:lnTo>
                  <a:lnTo>
                    <a:pt x="482" y="42"/>
                  </a:lnTo>
                  <a:lnTo>
                    <a:pt x="406" y="35"/>
                  </a:lnTo>
                  <a:lnTo>
                    <a:pt x="332" y="28"/>
                  </a:lnTo>
                  <a:lnTo>
                    <a:pt x="263" y="23"/>
                  </a:lnTo>
                  <a:lnTo>
                    <a:pt x="197" y="19"/>
                  </a:lnTo>
                  <a:lnTo>
                    <a:pt x="138" y="14"/>
                  </a:lnTo>
                  <a:lnTo>
                    <a:pt x="83" y="9"/>
                  </a:lnTo>
                  <a:lnTo>
                    <a:pt x="38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55760" y="3206880"/>
              <a:ext cx="128520" cy="12348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81" y="0"/>
                  </a:moveTo>
                  <a:lnTo>
                    <a:pt x="0" y="31"/>
                  </a:lnTo>
                  <a:lnTo>
                    <a:pt x="71" y="7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55760" y="3330720"/>
            <a:ext cx="2859120" cy="1336680"/>
            <a:chOff x="1355760" y="3330720"/>
            <a:chExt cx="2859120" cy="1336680"/>
          </a:xfrm>
        </p:grpSpPr>
        <p:sp>
          <p:nvSpPr>
            <p:cNvPr id="617" name=""/>
            <p:cNvSpPr/>
            <p:nvPr/>
          </p:nvSpPr>
          <p:spPr>
            <a:xfrm>
              <a:off x="1355760" y="3330720"/>
              <a:ext cx="2859120" cy="1330200"/>
            </a:xfrm>
            <a:custGeom>
              <a:avLst/>
              <a:gdLst/>
              <a:ahLst/>
              <a:rect l="l" t="t" r="r" b="b"/>
              <a:pathLst>
                <a:path w="1801" h="838">
                  <a:moveTo>
                    <a:pt x="0" y="0"/>
                  </a:moveTo>
                  <a:lnTo>
                    <a:pt x="209" y="99"/>
                  </a:lnTo>
                  <a:lnTo>
                    <a:pt x="420" y="198"/>
                  </a:lnTo>
                  <a:lnTo>
                    <a:pt x="633" y="297"/>
                  </a:lnTo>
                  <a:lnTo>
                    <a:pt x="854" y="401"/>
                  </a:lnTo>
                  <a:lnTo>
                    <a:pt x="913" y="427"/>
                  </a:lnTo>
                  <a:lnTo>
                    <a:pt x="975" y="458"/>
                  </a:lnTo>
                  <a:lnTo>
                    <a:pt x="1039" y="486"/>
                  </a:lnTo>
                  <a:lnTo>
                    <a:pt x="1108" y="517"/>
                  </a:lnTo>
                  <a:lnTo>
                    <a:pt x="1246" y="580"/>
                  </a:lnTo>
                  <a:lnTo>
                    <a:pt x="1381" y="644"/>
                  </a:lnTo>
                  <a:lnTo>
                    <a:pt x="1447" y="675"/>
                  </a:lnTo>
                  <a:lnTo>
                    <a:pt x="1511" y="703"/>
                  </a:lnTo>
                  <a:lnTo>
                    <a:pt x="1573" y="731"/>
                  </a:lnTo>
                  <a:lnTo>
                    <a:pt x="1630" y="757"/>
                  </a:lnTo>
                  <a:lnTo>
                    <a:pt x="1682" y="783"/>
                  </a:lnTo>
                  <a:lnTo>
                    <a:pt x="1727" y="805"/>
                  </a:lnTo>
                  <a:lnTo>
                    <a:pt x="1768" y="821"/>
                  </a:lnTo>
                  <a:lnTo>
                    <a:pt x="1801" y="83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9880" y="4554720"/>
              <a:ext cx="135000" cy="112680"/>
            </a:xfrm>
            <a:custGeom>
              <a:avLst/>
              <a:gdLst/>
              <a:ahLst/>
              <a:rect l="l" t="t" r="r" b="b"/>
              <a:pathLst>
                <a:path w="85" h="71">
                  <a:moveTo>
                    <a:pt x="0" y="71"/>
                  </a:moveTo>
                  <a:lnTo>
                    <a:pt x="85" y="67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558800" y="2978280"/>
            <a:ext cx="4219560" cy="322200"/>
            <a:chOff x="1558800" y="2978280"/>
            <a:chExt cx="4219560" cy="322200"/>
          </a:xfrm>
        </p:grpSpPr>
        <p:sp>
          <p:nvSpPr>
            <p:cNvPr id="620" name=""/>
            <p:cNvSpPr/>
            <p:nvPr/>
          </p:nvSpPr>
          <p:spPr>
            <a:xfrm>
              <a:off x="1558800" y="2978280"/>
              <a:ext cx="4219560" cy="322200"/>
            </a:xfrm>
            <a:custGeom>
              <a:avLst/>
              <a:gdLst/>
              <a:ahLst/>
              <a:rect l="l" t="t" r="r" b="b"/>
              <a:pathLst>
                <a:path w="2658" h="203">
                  <a:moveTo>
                    <a:pt x="2658" y="203"/>
                  </a:moveTo>
                  <a:lnTo>
                    <a:pt x="2266" y="132"/>
                  </a:lnTo>
                  <a:lnTo>
                    <a:pt x="2072" y="99"/>
                  </a:lnTo>
                  <a:lnTo>
                    <a:pt x="1879" y="68"/>
                  </a:lnTo>
                  <a:lnTo>
                    <a:pt x="1694" y="43"/>
                  </a:lnTo>
                  <a:lnTo>
                    <a:pt x="1512" y="21"/>
                  </a:lnTo>
                  <a:lnTo>
                    <a:pt x="1334" y="7"/>
                  </a:lnTo>
                  <a:lnTo>
                    <a:pt x="1165" y="0"/>
                  </a:lnTo>
                  <a:lnTo>
                    <a:pt x="1001" y="2"/>
                  </a:lnTo>
                  <a:lnTo>
                    <a:pt x="847" y="10"/>
                  </a:lnTo>
                  <a:lnTo>
                    <a:pt x="698" y="26"/>
                  </a:lnTo>
                  <a:lnTo>
                    <a:pt x="551" y="45"/>
                  </a:lnTo>
                  <a:lnTo>
                    <a:pt x="411" y="71"/>
                  </a:lnTo>
                  <a:lnTo>
                    <a:pt x="273" y="97"/>
                  </a:lnTo>
                  <a:lnTo>
                    <a:pt x="0" y="15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58800" y="3143520"/>
              <a:ext cx="131760" cy="1188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66" y="0"/>
                  </a:moveTo>
                  <a:lnTo>
                    <a:pt x="0" y="54"/>
                  </a:lnTo>
                  <a:lnTo>
                    <a:pt x="83" y="75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314360" y="3308400"/>
            <a:ext cx="4327560" cy="123840"/>
            <a:chOff x="1314360" y="3308400"/>
            <a:chExt cx="4327560" cy="123840"/>
          </a:xfrm>
        </p:grpSpPr>
        <p:sp>
          <p:nvSpPr>
            <p:cNvPr id="623" name=""/>
            <p:cNvSpPr/>
            <p:nvPr/>
          </p:nvSpPr>
          <p:spPr>
            <a:xfrm>
              <a:off x="1314360" y="3330720"/>
              <a:ext cx="4327560" cy="101520"/>
            </a:xfrm>
            <a:custGeom>
              <a:avLst/>
              <a:gdLst/>
              <a:ahLst/>
              <a:rect l="l" t="t" r="r" b="b"/>
              <a:pathLst>
                <a:path w="2726" h="64">
                  <a:moveTo>
                    <a:pt x="0" y="0"/>
                  </a:moveTo>
                  <a:lnTo>
                    <a:pt x="251" y="12"/>
                  </a:lnTo>
                  <a:lnTo>
                    <a:pt x="498" y="23"/>
                  </a:lnTo>
                  <a:lnTo>
                    <a:pt x="743" y="33"/>
                  </a:lnTo>
                  <a:lnTo>
                    <a:pt x="861" y="38"/>
                  </a:lnTo>
                  <a:lnTo>
                    <a:pt x="977" y="42"/>
                  </a:lnTo>
                  <a:lnTo>
                    <a:pt x="1091" y="47"/>
                  </a:lnTo>
                  <a:lnTo>
                    <a:pt x="1203" y="49"/>
                  </a:lnTo>
                  <a:lnTo>
                    <a:pt x="1310" y="54"/>
                  </a:lnTo>
                  <a:lnTo>
                    <a:pt x="1416" y="57"/>
                  </a:lnTo>
                  <a:lnTo>
                    <a:pt x="1516" y="59"/>
                  </a:lnTo>
                  <a:lnTo>
                    <a:pt x="1613" y="61"/>
                  </a:lnTo>
                  <a:lnTo>
                    <a:pt x="1706" y="64"/>
                  </a:lnTo>
                  <a:lnTo>
                    <a:pt x="1794" y="64"/>
                  </a:lnTo>
                  <a:lnTo>
                    <a:pt x="1877" y="64"/>
                  </a:lnTo>
                  <a:lnTo>
                    <a:pt x="1957" y="64"/>
                  </a:lnTo>
                  <a:lnTo>
                    <a:pt x="2036" y="61"/>
                  </a:lnTo>
                  <a:lnTo>
                    <a:pt x="2109" y="59"/>
                  </a:lnTo>
                  <a:lnTo>
                    <a:pt x="2181" y="57"/>
                  </a:lnTo>
                  <a:lnTo>
                    <a:pt x="2247" y="52"/>
                  </a:lnTo>
                  <a:lnTo>
                    <a:pt x="2311" y="49"/>
                  </a:lnTo>
                  <a:lnTo>
                    <a:pt x="2370" y="45"/>
                  </a:lnTo>
                  <a:lnTo>
                    <a:pt x="2427" y="40"/>
                  </a:lnTo>
                  <a:lnTo>
                    <a:pt x="2482" y="38"/>
                  </a:lnTo>
                  <a:lnTo>
                    <a:pt x="2532" y="33"/>
                  </a:lnTo>
                  <a:lnTo>
                    <a:pt x="2579" y="28"/>
                  </a:lnTo>
                  <a:lnTo>
                    <a:pt x="2622" y="26"/>
                  </a:lnTo>
                  <a:lnTo>
                    <a:pt x="2660" y="23"/>
                  </a:lnTo>
                  <a:lnTo>
                    <a:pt x="2695" y="21"/>
                  </a:lnTo>
                  <a:lnTo>
                    <a:pt x="2726" y="19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18080" y="33084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" y="78"/>
                  </a:moveTo>
                  <a:lnTo>
                    <a:pt x="78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681280" y="3548160"/>
            <a:ext cx="2809800" cy="1303200"/>
            <a:chOff x="2681280" y="3548160"/>
            <a:chExt cx="2809800" cy="1303200"/>
          </a:xfrm>
        </p:grpSpPr>
        <p:sp>
          <p:nvSpPr>
            <p:cNvPr id="626" name=""/>
            <p:cNvSpPr/>
            <p:nvPr/>
          </p:nvSpPr>
          <p:spPr>
            <a:xfrm>
              <a:off x="2681280" y="3548160"/>
              <a:ext cx="2809800" cy="1303200"/>
            </a:xfrm>
            <a:custGeom>
              <a:avLst/>
              <a:gdLst/>
              <a:ahLst/>
              <a:rect l="l" t="t" r="r" b="b"/>
              <a:pathLst>
                <a:path w="1770" h="821">
                  <a:moveTo>
                    <a:pt x="0" y="821"/>
                  </a:moveTo>
                  <a:lnTo>
                    <a:pt x="278" y="767"/>
                  </a:lnTo>
                  <a:lnTo>
                    <a:pt x="413" y="738"/>
                  </a:lnTo>
                  <a:lnTo>
                    <a:pt x="546" y="708"/>
                  </a:lnTo>
                  <a:lnTo>
                    <a:pt x="676" y="675"/>
                  </a:lnTo>
                  <a:lnTo>
                    <a:pt x="802" y="637"/>
                  </a:lnTo>
                  <a:lnTo>
                    <a:pt x="923" y="592"/>
                  </a:lnTo>
                  <a:lnTo>
                    <a:pt x="1037" y="545"/>
                  </a:lnTo>
                  <a:lnTo>
                    <a:pt x="1144" y="491"/>
                  </a:lnTo>
                  <a:lnTo>
                    <a:pt x="1246" y="432"/>
                  </a:lnTo>
                  <a:lnTo>
                    <a:pt x="1341" y="365"/>
                  </a:lnTo>
                  <a:lnTo>
                    <a:pt x="1431" y="297"/>
                  </a:lnTo>
                  <a:lnTo>
                    <a:pt x="1519" y="226"/>
                  </a:lnTo>
                  <a:lnTo>
                    <a:pt x="1604" y="153"/>
                  </a:lnTo>
                  <a:lnTo>
                    <a:pt x="177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4000" y="3548160"/>
              <a:ext cx="127080" cy="126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52" y="80"/>
                  </a:moveTo>
                  <a:lnTo>
                    <a:pt x="80" y="0"/>
                  </a:lnTo>
                  <a:lnTo>
                    <a:pt x="0" y="23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681280" y="3360600"/>
            <a:ext cx="3097080" cy="1393920"/>
            <a:chOff x="2681280" y="3360600"/>
            <a:chExt cx="3097080" cy="1393920"/>
          </a:xfrm>
        </p:grpSpPr>
        <p:sp>
          <p:nvSpPr>
            <p:cNvPr id="629" name=""/>
            <p:cNvSpPr/>
            <p:nvPr/>
          </p:nvSpPr>
          <p:spPr>
            <a:xfrm>
              <a:off x="2681280" y="3360600"/>
              <a:ext cx="3097080" cy="1386000"/>
            </a:xfrm>
            <a:custGeom>
              <a:avLst/>
              <a:gdLst/>
              <a:ahLst/>
              <a:rect l="l" t="t" r="r" b="b"/>
              <a:pathLst>
                <a:path w="1951" h="873">
                  <a:moveTo>
                    <a:pt x="1951" y="0"/>
                  </a:moveTo>
                  <a:lnTo>
                    <a:pt x="1775" y="80"/>
                  </a:lnTo>
                  <a:lnTo>
                    <a:pt x="1600" y="158"/>
                  </a:lnTo>
                  <a:lnTo>
                    <a:pt x="1426" y="236"/>
                  </a:lnTo>
                  <a:lnTo>
                    <a:pt x="1260" y="311"/>
                  </a:lnTo>
                  <a:lnTo>
                    <a:pt x="1101" y="382"/>
                  </a:lnTo>
                  <a:lnTo>
                    <a:pt x="1025" y="417"/>
                  </a:lnTo>
                  <a:lnTo>
                    <a:pt x="949" y="450"/>
                  </a:lnTo>
                  <a:lnTo>
                    <a:pt x="878" y="481"/>
                  </a:lnTo>
                  <a:lnTo>
                    <a:pt x="809" y="514"/>
                  </a:lnTo>
                  <a:lnTo>
                    <a:pt x="743" y="542"/>
                  </a:lnTo>
                  <a:lnTo>
                    <a:pt x="681" y="571"/>
                  </a:lnTo>
                  <a:lnTo>
                    <a:pt x="563" y="623"/>
                  </a:lnTo>
                  <a:lnTo>
                    <a:pt x="453" y="672"/>
                  </a:lnTo>
                  <a:lnTo>
                    <a:pt x="354" y="717"/>
                  </a:lnTo>
                  <a:lnTo>
                    <a:pt x="306" y="738"/>
                  </a:lnTo>
                  <a:lnTo>
                    <a:pt x="261" y="757"/>
                  </a:lnTo>
                  <a:lnTo>
                    <a:pt x="218" y="776"/>
                  </a:lnTo>
                  <a:lnTo>
                    <a:pt x="181" y="793"/>
                  </a:lnTo>
                  <a:lnTo>
                    <a:pt x="143" y="809"/>
                  </a:lnTo>
                  <a:lnTo>
                    <a:pt x="109" y="826"/>
                  </a:lnTo>
                  <a:lnTo>
                    <a:pt x="78" y="840"/>
                  </a:lnTo>
                  <a:lnTo>
                    <a:pt x="50" y="852"/>
                  </a:lnTo>
                  <a:lnTo>
                    <a:pt x="24" y="863"/>
                  </a:lnTo>
                  <a:lnTo>
                    <a:pt x="0" y="873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81280" y="4636800"/>
              <a:ext cx="136440" cy="11772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52" y="0"/>
                  </a:moveTo>
                  <a:lnTo>
                    <a:pt x="0" y="69"/>
                  </a:lnTo>
                  <a:lnTo>
                    <a:pt x="86" y="74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67560" y="3110040"/>
            <a:ext cx="334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01840" y="3176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32240" y="4630680"/>
            <a:ext cx="368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81280" y="4683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14520" y="4713120"/>
            <a:ext cx="39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6320" y="4778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9920" y="3132000"/>
            <a:ext cx="368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91960" y="3182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00560" y="1843200"/>
            <a:ext cx="276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24040" y="19080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17760" y="144792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[-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76800" y="317664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Brit 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79760" y="1670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US 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7520" y="474984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D-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95520" y="48434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4520" y="307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Y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61240" y="1046160"/>
            <a:ext cx="318276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rc co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$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first column of 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1.05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0.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Arbitrage Network: Generalized Min-Cos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Flow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2206800" y="1327320"/>
            <a:ext cx="609480" cy="58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46440" y="2473200"/>
            <a:ext cx="609840" cy="58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692520" y="3619440"/>
            <a:ext cx="609480" cy="58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70080" y="3414600"/>
            <a:ext cx="609480" cy="58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191120" y="3006720"/>
            <a:ext cx="5443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809720" y="2863440"/>
            <a:ext cx="2730600" cy="70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823760" y="3860280"/>
            <a:ext cx="1881000" cy="155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2805120" y="1698480"/>
            <a:ext cx="1814400" cy="87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60440" y="1419120"/>
            <a:ext cx="5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63800" y="3714840"/>
            <a:ext cx="4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19520" y="2581200"/>
            <a:ext cx="4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59000" y="3535200"/>
            <a:ext cx="4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20781000">
            <a:off x="2436840" y="28270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Bookman Old Style"/>
              </a:rPr>
              <a:t>30.4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1561800">
            <a:off x="3411000" y="1807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Bookman Old Style"/>
              </a:rPr>
              <a:t>0.6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310800">
            <a:off x="2312640" y="4041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Bookman Old Style"/>
              </a:rPr>
              <a:t>34.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9640" y="5194440"/>
            <a:ext cx="5604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tart with 13.801 £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34.986 D-Mark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30.473 CHF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14.475 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emove 0.674 £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$1 leaving 13.801 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97400" y="243036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Brit 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418040" y="13334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US 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3840" y="3551400"/>
            <a:ext cx="82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05160" y="4118040"/>
            <a:ext cx="12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D-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18431400">
            <a:off x="4034520" y="333828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Bookman Old Style"/>
              </a:rPr>
              <a:t>13.8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13640" y="2050920"/>
            <a:ext cx="19731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5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2.5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0.8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0.4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14920" y="4757760"/>
            <a:ext cx="1727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Note (£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$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5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1.4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43640" y="1363680"/>
            <a:ext cx="18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rc gain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ptimal cyc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75320" y="3554280"/>
            <a:ext cx="21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otal cycle ga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 1.04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= 4.8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lution to Arbitrage Network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You Should Known About General Network Flow Problem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view flow on an arch with a gain or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formulate a general network flow problem as a linea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he implications are for a network flow problem with g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solve general network flow problems using the Excel add-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5200" y="1420920"/>
            <a:ext cx="8316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7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arehouses store a particular commodity in Phoenix, Austin and Gainesvil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47080" y="2195640"/>
            <a:ext cx="7794360" cy="1478520"/>
            <a:chOff x="847080" y="2195640"/>
            <a:chExt cx="7794360" cy="1478520"/>
          </a:xfrm>
        </p:grpSpPr>
        <p:sp>
          <p:nvSpPr>
            <p:cNvPr id="145" name=""/>
            <p:cNvSpPr/>
            <p:nvPr/>
          </p:nvSpPr>
          <p:spPr>
            <a:xfrm>
              <a:off x="847080" y="2195640"/>
              <a:ext cx="779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Customers - Chicago, LA, Dallas, Atlanta, &amp; New Yor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26960" y="2689200"/>
              <a:ext cx="466416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Supply [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s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 ] at each warehouse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Demand [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man Old Style"/>
                </a:rPr>
                <a:t>] of each customer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47840" y="3701880"/>
            <a:ext cx="8245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hipping links depicted by arcs, flow on each arc is limited to 200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" y="4519440"/>
            <a:ext cx="593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allas and Atlanta - transshipment h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8320" y="4944960"/>
            <a:ext cx="6544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r unit transportation cost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for each a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541840"/>
            <a:ext cx="779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34960" indent="-1434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rmine optimal shipping plan that minimizes transportation 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280" y="87948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Distribu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20304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Min-Cost Flow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2280" y="1281240"/>
            <a:ext cx="69595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6574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general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[supply/demand] o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6574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shipping cost per unit) on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6574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6574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example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 arcs have an upper bound o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744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des labeled with a number 1,...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9720" y="3790800"/>
            <a:ext cx="78454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7280" indent="-2872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ust indicate notation that is included in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12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unit flow cost on arc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1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capacity (or simple upper bound) on arc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12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gain or loss on arc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 3 could be included: 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1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1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12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otation for Min-Cost Flow Probl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840" y="1278000"/>
            <a:ext cx="89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28880" y="1278000"/>
            <a:ext cx="1695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2360" y="1643040"/>
            <a:ext cx="3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76880" y="1643040"/>
            <a:ext cx="6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6520" y="164304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7240" y="1278000"/>
            <a:ext cx="846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44800" y="1278000"/>
            <a:ext cx="938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1680" y="1278000"/>
            <a:ext cx="938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560" y="2084400"/>
            <a:ext cx="301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58560" y="208440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21160" y="2084400"/>
            <a:ext cx="9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83200" y="2084400"/>
            <a:ext cx="253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8320" y="3894120"/>
            <a:ext cx="802656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origin node is the arc’s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termination node is called th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pplies ar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positiv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demands are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ternal flow balance: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total supply = total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48040" y="2978280"/>
            <a:ext cx="2828880" cy="69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27480" y="3024360"/>
            <a:ext cx="309600" cy="309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2973240"/>
            <a:ext cx="4399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66440" y="3041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7680" y="3024360"/>
            <a:ext cx="309600" cy="309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15080" y="2960640"/>
            <a:ext cx="4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41080" y="3029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83160" y="3117960"/>
            <a:ext cx="1163520" cy="139680"/>
            <a:chOff x="3683160" y="3117960"/>
            <a:chExt cx="1163520" cy="139680"/>
          </a:xfrm>
        </p:grpSpPr>
        <p:sp>
          <p:nvSpPr>
            <p:cNvPr id="177" name=""/>
            <p:cNvSpPr/>
            <p:nvPr/>
          </p:nvSpPr>
          <p:spPr>
            <a:xfrm>
              <a:off x="3683160" y="3184920"/>
              <a:ext cx="1036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11680" y="3117960"/>
              <a:ext cx="135000" cy="139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88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243480" y="2084400"/>
            <a:ext cx="549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73880" y="2084400"/>
            <a:ext cx="347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24760" y="2084400"/>
            <a:ext cx="347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41920" y="2981160"/>
            <a:ext cx="1181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r -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6560" y="22068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preadsheet Input Data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67480" y="608328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here is the solutio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640" y="236520"/>
            <a:ext cx="849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Data Entry Using Jensen Network Solver</a:t>
            </a:r>
            <a:endParaRPr b="0" lang="en-US" sz="24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17520" y="1473120"/>
          <a:ext cx="8628120" cy="38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473120"/>
                    <a:ext cx="862812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412040" y="4986360"/>
            <a:ext cx="614520" cy="614520"/>
          </a:xfrm>
          <a:prstGeom prst="ellipse">
            <a:avLst/>
          </a:prstGeom>
          <a:solidFill>
            <a:srgbClr val="b2b2b2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73600" y="520704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86600" y="3760920"/>
            <a:ext cx="614160" cy="614160"/>
          </a:xfrm>
          <a:prstGeom prst="ellipse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46080" y="396252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12040" y="2227320"/>
            <a:ext cx="614520" cy="614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9480" y="244476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760920"/>
            <a:ext cx="614160" cy="614160"/>
          </a:xfrm>
          <a:prstGeom prst="ellipse">
            <a:avLst/>
          </a:prstGeom>
          <a:solidFill>
            <a:srgbClr val="ffff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08520" y="401148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227320"/>
            <a:ext cx="614160" cy="614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4920" y="247176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92720"/>
            <a:ext cx="614160" cy="614520"/>
          </a:xfrm>
          <a:prstGeom prst="ellipse">
            <a:avLst/>
          </a:prstGeom>
          <a:solidFill>
            <a:srgbClr val="b2b2b2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1160" y="5497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81240" y="3760920"/>
            <a:ext cx="614160" cy="614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07680" y="3962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93960" y="2533680"/>
            <a:ext cx="614160" cy="614160"/>
          </a:xfrm>
          <a:prstGeom prst="ellipse">
            <a:avLst/>
          </a:prstGeom>
          <a:solidFill>
            <a:srgbClr val="b2b2b2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5400" y="279072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36640" y="3117960"/>
            <a:ext cx="343800" cy="667800"/>
            <a:chOff x="1736640" y="3117960"/>
            <a:chExt cx="343800" cy="667800"/>
          </a:xfrm>
        </p:grpSpPr>
        <p:sp>
          <p:nvSpPr>
            <p:cNvPr id="205" name=""/>
            <p:cNvSpPr/>
            <p:nvPr/>
          </p:nvSpPr>
          <p:spPr>
            <a:xfrm flipH="1">
              <a:off x="1869840" y="3117960"/>
              <a:ext cx="210600" cy="415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6640" y="3479760"/>
              <a:ext cx="249480" cy="306000"/>
            </a:xfrm>
            <a:custGeom>
              <a:avLst/>
              <a:gdLst/>
              <a:ahLst/>
              <a:rect l="l" t="t" r="r" b="b"/>
              <a:pathLst>
                <a:path w="140" h="182">
                  <a:moveTo>
                    <a:pt x="75" y="32"/>
                  </a:moveTo>
                  <a:lnTo>
                    <a:pt x="11" y="0"/>
                  </a:lnTo>
                  <a:lnTo>
                    <a:pt x="0" y="182"/>
                  </a:lnTo>
                  <a:lnTo>
                    <a:pt x="140" y="64"/>
                  </a:lnTo>
                  <a:lnTo>
                    <a:pt x="7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50480" y="2338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4440" y="308772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77800" y="4791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75000" y="39560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84640" y="27464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96760" y="34797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6040" y="2492280"/>
            <a:ext cx="1227240" cy="289080"/>
            <a:chOff x="2516040" y="2492280"/>
            <a:chExt cx="1227240" cy="289080"/>
          </a:xfrm>
        </p:grpSpPr>
        <p:sp>
          <p:nvSpPr>
            <p:cNvPr id="214" name=""/>
            <p:cNvSpPr/>
            <p:nvPr/>
          </p:nvSpPr>
          <p:spPr>
            <a:xfrm flipV="1">
              <a:off x="2516040" y="2611440"/>
              <a:ext cx="954360" cy="169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2760" y="2492280"/>
              <a:ext cx="290520" cy="238320"/>
            </a:xfrm>
            <a:custGeom>
              <a:avLst/>
              <a:gdLst/>
              <a:ahLst/>
              <a:rect l="l" t="t" r="r" b="b"/>
              <a:pathLst>
                <a:path w="183" h="150">
                  <a:moveTo>
                    <a:pt x="11" y="75"/>
                  </a:moveTo>
                  <a:lnTo>
                    <a:pt x="32" y="150"/>
                  </a:lnTo>
                  <a:lnTo>
                    <a:pt x="183" y="43"/>
                  </a:lnTo>
                  <a:lnTo>
                    <a:pt x="0" y="0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452680" y="3024360"/>
            <a:ext cx="1358640" cy="862920"/>
            <a:chOff x="2452680" y="3024360"/>
            <a:chExt cx="1358640" cy="862920"/>
          </a:xfrm>
        </p:grpSpPr>
        <p:sp>
          <p:nvSpPr>
            <p:cNvPr id="217" name=""/>
            <p:cNvSpPr/>
            <p:nvPr/>
          </p:nvSpPr>
          <p:spPr>
            <a:xfrm>
              <a:off x="2452680" y="3024360"/>
              <a:ext cx="1134360" cy="7264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8280" y="3646080"/>
              <a:ext cx="293040" cy="241200"/>
            </a:xfrm>
            <a:custGeom>
              <a:avLst/>
              <a:gdLst/>
              <a:ahLst/>
              <a:rect l="l" t="t" r="r" b="b"/>
              <a:pathLst>
                <a:path w="183" h="150">
                  <a:moveTo>
                    <a:pt x="43" y="65"/>
                  </a:moveTo>
                  <a:lnTo>
                    <a:pt x="0" y="118"/>
                  </a:lnTo>
                  <a:lnTo>
                    <a:pt x="183" y="150"/>
                  </a:lnTo>
                  <a:lnTo>
                    <a:pt x="75" y="0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30480" y="4373640"/>
            <a:ext cx="238320" cy="920160"/>
            <a:chOff x="3930480" y="4373640"/>
            <a:chExt cx="238320" cy="920160"/>
          </a:xfrm>
        </p:grpSpPr>
        <p:sp>
          <p:nvSpPr>
            <p:cNvPr id="220" name=""/>
            <p:cNvSpPr/>
            <p:nvPr/>
          </p:nvSpPr>
          <p:spPr>
            <a:xfrm flipV="1">
              <a:off x="4049640" y="4646520"/>
              <a:ext cx="1800" cy="647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30480" y="4373640"/>
              <a:ext cx="238320" cy="272880"/>
            </a:xfrm>
            <a:custGeom>
              <a:avLst/>
              <a:gdLst/>
              <a:ahLst/>
              <a:rect l="l" t="t" r="r" b="b"/>
              <a:pathLst>
                <a:path w="150" h="172">
                  <a:moveTo>
                    <a:pt x="75" y="172"/>
                  </a:moveTo>
                  <a:lnTo>
                    <a:pt x="150" y="172"/>
                  </a:lnTo>
                  <a:lnTo>
                    <a:pt x="75" y="0"/>
                  </a:lnTo>
                  <a:lnTo>
                    <a:pt x="0" y="172"/>
                  </a:lnTo>
                  <a:lnTo>
                    <a:pt x="7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608960" y="2832120"/>
            <a:ext cx="237960" cy="2146320"/>
            <a:chOff x="7608960" y="2832120"/>
            <a:chExt cx="237960" cy="2146320"/>
          </a:xfrm>
        </p:grpSpPr>
        <p:sp>
          <p:nvSpPr>
            <p:cNvPr id="223" name=""/>
            <p:cNvSpPr/>
            <p:nvPr/>
          </p:nvSpPr>
          <p:spPr>
            <a:xfrm flipV="1">
              <a:off x="7728120" y="3105000"/>
              <a:ext cx="1440" cy="1873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8960" y="2832120"/>
              <a:ext cx="237960" cy="272880"/>
            </a:xfrm>
            <a:custGeom>
              <a:avLst/>
              <a:gdLst/>
              <a:ahLst/>
              <a:rect l="l" t="t" r="r" b="b"/>
              <a:pathLst>
                <a:path w="150" h="172">
                  <a:moveTo>
                    <a:pt x="75" y="172"/>
                  </a:moveTo>
                  <a:lnTo>
                    <a:pt x="150" y="172"/>
                  </a:lnTo>
                  <a:lnTo>
                    <a:pt x="75" y="0"/>
                  </a:lnTo>
                  <a:lnTo>
                    <a:pt x="0" y="172"/>
                  </a:lnTo>
                  <a:lnTo>
                    <a:pt x="75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05240" y="2560680"/>
            <a:ext cx="3098880" cy="1344240"/>
            <a:chOff x="4305240" y="2560680"/>
            <a:chExt cx="3098880" cy="1344240"/>
          </a:xfrm>
        </p:grpSpPr>
        <p:sp>
          <p:nvSpPr>
            <p:cNvPr id="226" name=""/>
            <p:cNvSpPr/>
            <p:nvPr/>
          </p:nvSpPr>
          <p:spPr>
            <a:xfrm flipV="1">
              <a:off x="4305240" y="2661840"/>
              <a:ext cx="2860560" cy="1243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15040" y="2560680"/>
              <a:ext cx="28908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32" y="64"/>
                  </a:moveTo>
                  <a:lnTo>
                    <a:pt x="54" y="139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38720" y="3871800"/>
            <a:ext cx="1857240" cy="238320"/>
            <a:chOff x="4338720" y="3871800"/>
            <a:chExt cx="1857240" cy="238320"/>
          </a:xfrm>
        </p:grpSpPr>
        <p:sp>
          <p:nvSpPr>
            <p:cNvPr id="229" name=""/>
            <p:cNvSpPr/>
            <p:nvPr/>
          </p:nvSpPr>
          <p:spPr>
            <a:xfrm>
              <a:off x="4338720" y="3990960"/>
              <a:ext cx="1584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3080" y="3871800"/>
              <a:ext cx="272880" cy="2383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0" y="75"/>
                  </a:moveTo>
                  <a:lnTo>
                    <a:pt x="0" y="150"/>
                  </a:lnTo>
                  <a:lnTo>
                    <a:pt x="172" y="75"/>
                  </a:lnTo>
                  <a:lnTo>
                    <a:pt x="0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904080" y="38876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-15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0400" y="550548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5720" y="40575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-3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38520" y="517860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6000" y="4449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-2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3760" y="18622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-2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95360" y="4075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503440" y="2935440"/>
            <a:ext cx="3811320" cy="941040"/>
            <a:chOff x="2503440" y="2935440"/>
            <a:chExt cx="3811320" cy="941040"/>
          </a:xfrm>
        </p:grpSpPr>
        <p:sp>
          <p:nvSpPr>
            <p:cNvPr id="239" name=""/>
            <p:cNvSpPr/>
            <p:nvPr/>
          </p:nvSpPr>
          <p:spPr>
            <a:xfrm>
              <a:off x="2503440" y="2935440"/>
              <a:ext cx="3551400" cy="834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560" y="3664440"/>
              <a:ext cx="295200" cy="212040"/>
            </a:xfrm>
            <a:custGeom>
              <a:avLst/>
              <a:gdLst/>
              <a:ahLst/>
              <a:rect l="l" t="t" r="r" b="b"/>
              <a:pathLst>
                <a:path w="183" h="150">
                  <a:moveTo>
                    <a:pt x="22" y="75"/>
                  </a:moveTo>
                  <a:lnTo>
                    <a:pt x="0" y="150"/>
                  </a:lnTo>
                  <a:lnTo>
                    <a:pt x="183" y="118"/>
                  </a:lnTo>
                  <a:lnTo>
                    <a:pt x="43" y="0"/>
                  </a:lnTo>
                  <a:lnTo>
                    <a:pt x="2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339800" y="306540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131320" y="21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-25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36040" y="247500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7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8760" y="1460520"/>
            <a:ext cx="1995480" cy="6318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680" y="1503360"/>
            <a:ext cx="15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upply / demand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1640" y="1743120"/>
            <a:ext cx="50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691120" y="56577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olution to Distribution Probl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3240" y="210600"/>
            <a:ext cx="8348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ensitivity Report for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Distribution Problem</a:t>
            </a:r>
            <a:endParaRPr b="0" lang="en-US" sz="24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22320" y="830160"/>
          <a:ext cx="737712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830160"/>
                    <a:ext cx="737712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04080" y="1384200"/>
            <a:ext cx="7464600" cy="2297520"/>
            <a:chOff x="604080" y="1384200"/>
            <a:chExt cx="7464600" cy="2297520"/>
          </a:xfrm>
        </p:grpSpPr>
        <p:sp>
          <p:nvSpPr>
            <p:cNvPr id="253" name=""/>
            <p:cNvSpPr/>
            <p:nvPr/>
          </p:nvSpPr>
          <p:spPr>
            <a:xfrm>
              <a:off x="604080" y="1384200"/>
              <a:ext cx="13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2800" y="1393920"/>
              <a:ext cx="6726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Conservation of flow at nodes.  At each node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93040" y="1773360"/>
              <a:ext cx="6418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0" lang="en-US" sz="2500" spc="-1" strike="noStrike">
                  <a:solidFill>
                    <a:srgbClr val="ff9900"/>
                  </a:solidFill>
                  <a:latin typeface="Bookman Old Style"/>
                </a:rPr>
                <a:t>flow in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 = </a:t>
              </a:r>
              <a:r>
                <a:rPr b="0" lang="en-US" sz="2500" spc="-1" strike="noStrike">
                  <a:solidFill>
                    <a:srgbClr val="ff9900"/>
                  </a:solidFill>
                  <a:latin typeface="Bookman Old Style"/>
                </a:rPr>
                <a:t>flow out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. 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At supply nodes there is an external inflow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    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lang="en-US" sz="2500" spc="-1" strike="noStrike">
                  <a:solidFill>
                    <a:srgbClr val="ff9900"/>
                  </a:solidFill>
                  <a:latin typeface="Bookman Old Style"/>
                </a:rPr>
                <a:t>positive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70360" y="2919600"/>
              <a:ext cx="689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At demand nodes there is an external outflow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    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(</a:t>
              </a:r>
              <a:r>
                <a:rPr b="0" lang="en-US" sz="2500" spc="-1" strike="noStrike">
                  <a:solidFill>
                    <a:srgbClr val="ff9900"/>
                  </a:solidFill>
                  <a:latin typeface="Bookman Old Style"/>
                </a:rPr>
                <a:t>negative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)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1000" y="3906720"/>
            <a:ext cx="7387200" cy="781200"/>
            <a:chOff x="531000" y="3906720"/>
            <a:chExt cx="7387200" cy="781200"/>
          </a:xfrm>
        </p:grpSpPr>
        <p:sp>
          <p:nvSpPr>
            <p:cNvPr id="258" name=""/>
            <p:cNvSpPr/>
            <p:nvPr/>
          </p:nvSpPr>
          <p:spPr>
            <a:xfrm>
              <a:off x="531000" y="3906720"/>
              <a:ext cx="13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67840" y="3920760"/>
              <a:ext cx="675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Flows on arcs must obey the arc bounds; i.e.,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19960" y="4306680"/>
              <a:ext cx="5973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lower bound &amp; upper bound (capacity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45400" y="4998960"/>
            <a:ext cx="8154000" cy="766800"/>
            <a:chOff x="545400" y="4998960"/>
            <a:chExt cx="8154000" cy="766800"/>
          </a:xfrm>
        </p:grpSpPr>
        <p:sp>
          <p:nvSpPr>
            <p:cNvPr id="262" name=""/>
            <p:cNvSpPr/>
            <p:nvPr/>
          </p:nvSpPr>
          <p:spPr>
            <a:xfrm>
              <a:off x="545400" y="4998960"/>
              <a:ext cx="13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23840" y="5003640"/>
              <a:ext cx="7675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Bookman Old Style"/>
                </a:rPr>
                <a:t>Each arc has a per unit cost &amp; the goal is to minimize total cost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0960" y="203040"/>
            <a:ext cx="86868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haracteristics of Network Flow Problem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8:01:22Z</dcterms:created>
  <dc:creator>nt</dc:creator>
  <dc:description/>
  <dc:language>en-US</dc:language>
  <cp:lastModifiedBy>Jonathan Bard</cp:lastModifiedBy>
  <cp:lastPrinted>2000-02-02T19:35:13Z</cp:lastPrinted>
  <dcterms:modified xsi:type="dcterms:W3CDTF">2009-09-24T18:16:49Z</dcterms:modified>
  <cp:revision>148</cp:revision>
  <dc:subject/>
  <dc:title>No Slide Title</dc:title>
</cp:coreProperties>
</file>