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736-C374-408F-AFCD-FA12CD1C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AC0-F147-4843-BF8D-BA8F0F26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4E4-D71F-4191-872B-3F280328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C7D-77AF-49ED-A44A-FCEC62E9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AD4-4A3C-4012-B995-4A9D2C56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B80-B806-4F9A-9A71-05BD4D2E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810-D1D0-43AC-9DB2-C86F0090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F9E-94E6-45E3-B922-648DCFCD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824-BC87-4104-A8A0-92EFA94A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3DF-214B-4E26-B99F-81D8F26E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2FF-8323-432A-9D7D-415E0801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0E7-0530-4E49-812C-D20C8948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C23C-BA97-4C2C-B073-0546DC244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9760" y="304560"/>
            <a:ext cx="84582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9 – Nonlinear Programming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p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vex sets and convex programm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-order optimality condi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lem 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990720"/>
            <a:ext cx="7924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mmercial optimization software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canno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guarantee that a solution is globally optimal to a nonconvex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Importance of Convex Progra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286000"/>
            <a:ext cx="80899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002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LP algorithms try to find a point where the gradient of the Lagrangian function is zero – a stationary point – and complementary slackness hol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6002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6002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w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6002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6002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3200" y="575316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For a convex program, all local solutions are global optim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330200"/>
            <a:ext cx="8077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e want to build a cylinder (with a top and a bottom) of maximum volume such that its surface area is no more than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un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57200" y="2700360"/>
            <a:ext cx="8001000" cy="2953800"/>
            <a:chOff x="457200" y="2700360"/>
            <a:chExt cx="8001000" cy="2953800"/>
          </a:xfrm>
        </p:grpSpPr>
        <p:grpSp>
          <p:nvGrpSpPr>
            <p:cNvPr id="100" name=""/>
            <p:cNvGrpSpPr/>
            <p:nvPr/>
          </p:nvGrpSpPr>
          <p:grpSpPr>
            <a:xfrm>
              <a:off x="1466640" y="2700360"/>
              <a:ext cx="5595480" cy="1584720"/>
              <a:chOff x="1466640" y="2700360"/>
              <a:chExt cx="5595480" cy="1584720"/>
            </a:xfrm>
          </p:grpSpPr>
          <p:sp>
            <p:nvSpPr>
              <p:cNvPr id="101" name=""/>
              <p:cNvSpPr/>
              <p:nvPr/>
            </p:nvSpPr>
            <p:spPr>
              <a:xfrm>
                <a:off x="1466640" y="2806560"/>
                <a:ext cx="2914920" cy="14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5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Max 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V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r,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) =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r</a:t>
                </a:r>
                <a:r>
                  <a:rPr b="0" i="1" lang="en-US" sz="2400" spc="-1" strike="noStrike" baseline="30000">
                    <a:solidFill>
                      <a:srgbClr val="ffffff"/>
                    </a:solidFill>
                    <a:latin typeface="Bookman Old Style"/>
                  </a:rPr>
                  <a:t>2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5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s.t.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	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r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Bookman Old Style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+ 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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r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=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	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r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0,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 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29240" y="2925360"/>
                <a:ext cx="1001880" cy="26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29240" y="3085920"/>
                <a:ext cx="1440" cy="685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29320" y="3068280"/>
                <a:ext cx="1800" cy="685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51600" y="3039840"/>
                <a:ext cx="247680" cy="117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529240" y="3630240"/>
                <a:ext cx="1001880" cy="26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6670800" y="2963160"/>
                <a:ext cx="99720" cy="285480"/>
                <a:chOff x="6670800" y="2963160"/>
                <a:chExt cx="99720" cy="285480"/>
              </a:xfrm>
            </p:grpSpPr>
            <p:sp>
              <p:nvSpPr>
                <p:cNvPr id="108" name=""/>
                <p:cNvSpPr/>
                <p:nvPr/>
              </p:nvSpPr>
              <p:spPr>
                <a:xfrm flipV="1">
                  <a:off x="6719760" y="29631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670800" y="2963520"/>
                  <a:ext cx="99720" cy="97920"/>
                </a:xfrm>
                <a:custGeom>
                  <a:avLst/>
                  <a:gdLst/>
                  <a:ahLst/>
                  <a:rect l="l" t="t" r="r" b="b"/>
                  <a:pathLst>
                    <a:path w="125" h="125">
                      <a:moveTo>
                        <a:pt x="125" y="125"/>
                      </a:moveTo>
                      <a:lnTo>
                        <a:pt x="62" y="0"/>
                      </a:lnTo>
                      <a:lnTo>
                        <a:pt x="0" y="125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678720" y="3504960"/>
                <a:ext cx="98280" cy="286920"/>
                <a:chOff x="6678720" y="3504960"/>
                <a:chExt cx="98280" cy="2869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729480" y="3504960"/>
                  <a:ext cx="1440" cy="2869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678720" y="3693240"/>
                  <a:ext cx="98280" cy="98280"/>
                </a:xfrm>
                <a:custGeom>
                  <a:avLst/>
                  <a:gdLst/>
                  <a:ahLst/>
                  <a:rect l="l" t="t" r="r" b="b"/>
                  <a:pathLst>
                    <a:path w="125" h="125">
                      <a:moveTo>
                        <a:pt x="0" y="0"/>
                      </a:moveTo>
                      <a:lnTo>
                        <a:pt x="63" y="125"/>
                      </a:lnTo>
                      <a:lnTo>
                        <a:pt x="125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6138720" y="2700360"/>
                <a:ext cx="23976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918040" y="2928600"/>
                <a:ext cx="11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95920" y="3081240"/>
                <a:ext cx="24948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57280" y="31874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457200" y="4648320"/>
              <a:ext cx="800100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There are a number of ways to approach this problem.  One way is to solve the surface area constraint for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h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and substitute the result into the objective function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Example: Cylinder Desig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5360" y="1752480"/>
            <a:ext cx="395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68080" y="1523880"/>
            <a:ext cx="100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6040" y="1897200"/>
            <a:ext cx="604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5760" y="1676520"/>
            <a:ext cx="215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Volume =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741320"/>
            <a:ext cx="195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[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87800" y="1447920"/>
            <a:ext cx="100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1905120"/>
            <a:ext cx="40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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37400" y="1868400"/>
            <a:ext cx="1025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5080" y="174132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]  =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73960" y="1549440"/>
            <a:ext cx="298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90880" y="188424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73960" y="1903320"/>
            <a:ext cx="2682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16760" y="1676520"/>
            <a:ext cx="66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544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4160" y="2427120"/>
            <a:ext cx="326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7680" y="2760840"/>
            <a:ext cx="284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744640"/>
            <a:ext cx="317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36160" y="2590920"/>
            <a:ext cx="835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 0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48840" y="2617920"/>
            <a:ext cx="648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(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7200" y="2427120"/>
            <a:ext cx="12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62000" y="277344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10400" y="2746440"/>
            <a:ext cx="15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47960" y="2744640"/>
            <a:ext cx="414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62320" y="2617920"/>
            <a:ext cx="8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72840" y="2482920"/>
            <a:ext cx="25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/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99360" y="2617920"/>
            <a:ext cx="687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0760" y="2427120"/>
            <a:ext cx="12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743200"/>
            <a:ext cx="54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49600" y="2744640"/>
            <a:ext cx="5382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4000" y="2617920"/>
            <a:ext cx="146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97320" y="259092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55720" y="2617920"/>
            <a:ext cx="564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=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26040" y="2617920"/>
            <a:ext cx="24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(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6200" y="2427120"/>
            <a:ext cx="12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9200" y="277344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39400" y="2746440"/>
            <a:ext cx="15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75520" y="2744640"/>
            <a:ext cx="415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91320" y="2617920"/>
            <a:ext cx="8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01840" y="2406600"/>
            <a:ext cx="25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/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400" y="3733920"/>
            <a:ext cx="179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=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2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68360" y="3695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0560" y="3722760"/>
            <a:ext cx="8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04040" y="3532320"/>
            <a:ext cx="12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88840" y="387828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37240" y="3851280"/>
            <a:ext cx="15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74800" y="3849840"/>
            <a:ext cx="414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89160" y="3722760"/>
            <a:ext cx="8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99680" y="3587760"/>
            <a:ext cx="25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3/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75400" y="3798720"/>
            <a:ext cx="50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(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42480" y="3608280"/>
            <a:ext cx="12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25480" y="395460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75680" y="3927600"/>
            <a:ext cx="153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82840" y="3414600"/>
            <a:ext cx="415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27600" y="3798720"/>
            <a:ext cx="8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78440" y="3664080"/>
            <a:ext cx="59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/2 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23000" y="3809880"/>
            <a:ext cx="71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2(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3080" y="3608280"/>
            <a:ext cx="12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64240" y="3954600"/>
            <a:ext cx="541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3440" y="3414600"/>
            <a:ext cx="4176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20000" y="3798720"/>
            <a:ext cx="8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28720" y="3664080"/>
            <a:ext cx="25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/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90920" y="3940200"/>
            <a:ext cx="414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00960" y="3940200"/>
            <a:ext cx="414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4648320"/>
            <a:ext cx="552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s this a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globa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optimal solu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olution by Substitu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905120"/>
            <a:ext cx="1025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19000" y="1981080"/>
            <a:ext cx="925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 =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1000" y="1790640"/>
            <a:ext cx="23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66520" y="213372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76240" y="2109960"/>
            <a:ext cx="306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66920" y="1955880"/>
            <a:ext cx="1055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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23680" y="1752480"/>
            <a:ext cx="605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31320" y="2085840"/>
            <a:ext cx="357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11440" y="2071800"/>
            <a:ext cx="6080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55480" y="1943280"/>
            <a:ext cx="453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3080" y="1752480"/>
            <a:ext cx="12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59120" y="208584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2071800"/>
            <a:ext cx="1839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7400" y="1917720"/>
            <a:ext cx="1154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</a:rPr>
              <a:t>2 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6920" y="1752480"/>
            <a:ext cx="738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53520" y="2209680"/>
            <a:ext cx="489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27880" y="2109960"/>
            <a:ext cx="711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54880" y="1905120"/>
            <a:ext cx="9320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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88840" y="2781360"/>
            <a:ext cx="172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5240" y="2773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1160" y="2781360"/>
            <a:ext cx="154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78040" y="3114720"/>
            <a:ext cx="489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920" y="3100320"/>
            <a:ext cx="489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51080" y="2895480"/>
            <a:ext cx="2268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0  for all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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3733920"/>
            <a:ext cx="6934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hus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is 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concave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on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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0 so the solution is a 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global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maximum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est for Convex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1028880"/>
            <a:ext cx="845964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Aft>
                <a:spcPts val="137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 company wants to advertise in two region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he marketing department says that if $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is spent in region 1, sales volume will be 6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</a:rPr>
              <a:t>1/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If $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is spent in region 2, sales volume will be 4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</a:rPr>
              <a:t>1/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he advertising budget is $100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40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Advertising (with Diminishing Return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39680" y="3481560"/>
            <a:ext cx="7371000" cy="2450160"/>
            <a:chOff x="139680" y="3481560"/>
            <a:chExt cx="7371000" cy="2450160"/>
          </a:xfrm>
        </p:grpSpPr>
        <p:sp>
          <p:nvSpPr>
            <p:cNvPr id="213" name=""/>
            <p:cNvSpPr/>
            <p:nvPr/>
          </p:nvSpPr>
          <p:spPr>
            <a:xfrm>
              <a:off x="139680" y="3481560"/>
              <a:ext cx="7371000" cy="10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206360" indent="-1206360">
                <a:lnSpc>
                  <a:spcPct val="100000"/>
                </a:lnSpc>
                <a:spcAft>
                  <a:spcPts val="1375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Bookman Old Style"/>
                </a:rPr>
                <a:t>Model:</a:t>
              </a:r>
              <a:r>
                <a:rPr b="0" lang="en-US" sz="2400" spc="-1" strike="noStrike">
                  <a:solidFill>
                    <a:srgbClr val="00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Max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) =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6(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r>
                <a:rPr b="0" lang="en-US" sz="2200" spc="-1" strike="noStrike" baseline="30000">
                  <a:solidFill>
                    <a:srgbClr val="ffffff"/>
                  </a:solidFill>
                  <a:latin typeface="Bookman Old Style"/>
                </a:rPr>
                <a:t>1/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4(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r>
                <a:rPr b="0" lang="en-US" sz="2200" spc="-1" strike="noStrike" baseline="30000">
                  <a:solidFill>
                    <a:srgbClr val="ffffff"/>
                  </a:solidFill>
                  <a:latin typeface="Bookman Old Style"/>
                </a:rPr>
                <a:t>1/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06360" indent="-120636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s.t.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100,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0,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30400" y="4788000"/>
              <a:ext cx="628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57480" indent="-1257480"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olution: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*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9.2,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*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30.8,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*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 =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72.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05040" y="5472000"/>
              <a:ext cx="37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s this a 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global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optimum?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86080" y="203040"/>
            <a:ext cx="6324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Excel Add-in Solu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10960" y="1149480"/>
            <a:ext cx="8730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36560" y="2432160"/>
            <a:ext cx="82472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Let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random variable associated with return on stock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expected return on stock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j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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variance of return for stock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4037040"/>
            <a:ext cx="79567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We are also concerned with the covariance term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cov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If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&gt; 0 then returns on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and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are positively correlate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If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&lt; 0 returns are negatively correlate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1600" y="177840"/>
            <a:ext cx="86742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Portfolio Selection with Risky Assets (Markowitz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3840" y="1117440"/>
            <a:ext cx="70992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uppose that we may invest in (up to)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stock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Investors worry about (1) 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expected gai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(2) 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risk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20640" y="355680"/>
            <a:ext cx="740916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ecision Variable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: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00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# of shares of stock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purchas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48200" y="1109520"/>
            <a:ext cx="17416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58200" y="888840"/>
            <a:ext cx="381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j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1440" y="1122480"/>
            <a:ext cx="4228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Expected return of the portfolio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78240" y="2076480"/>
            <a:ext cx="26114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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7960" y="2089080"/>
            <a:ext cx="3557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Variance (measure of risk)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59800" y="1828800"/>
            <a:ext cx="381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7760" y="1816200"/>
            <a:ext cx="381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j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96440" y="2870280"/>
            <a:ext cx="7750800" cy="3228120"/>
            <a:chOff x="496440" y="2870280"/>
            <a:chExt cx="7750800" cy="3228120"/>
          </a:xfrm>
        </p:grpSpPr>
        <p:sp>
          <p:nvSpPr>
            <p:cNvPr id="231" name=""/>
            <p:cNvSpPr/>
            <p:nvPr/>
          </p:nvSpPr>
          <p:spPr>
            <a:xfrm>
              <a:off x="496440" y="3989520"/>
              <a:ext cx="62719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635040" indent="-635040">
                <a:lnSpc>
                  <a:spcPct val="100000"/>
                </a:lnSpc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V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=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1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2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1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2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635040" indent="-635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=  1  + (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) + (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) + 1 = 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1680" y="5092560"/>
              <a:ext cx="76755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Thus we can construct a “risk-free” portfolio (from variance point of view) if we can find stocks “fully” negatively correlated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8400" y="3143160"/>
              <a:ext cx="117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Exampl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24160" y="3130560"/>
              <a:ext cx="25185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If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1, we ge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2038320" y="2870280"/>
            <a:ext cx="2657520" cy="94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8320" y="2870280"/>
                      <a:ext cx="2657520" cy="94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262440" y="1854360"/>
            <a:ext cx="8616600" cy="4492440"/>
            <a:chOff x="262440" y="1854360"/>
            <a:chExt cx="8616600" cy="4492440"/>
          </a:xfrm>
        </p:grpSpPr>
        <p:sp>
          <p:nvSpPr>
            <p:cNvPr id="238" name=""/>
            <p:cNvSpPr/>
            <p:nvPr/>
          </p:nvSpPr>
          <p:spPr>
            <a:xfrm>
              <a:off x="399600" y="1854360"/>
              <a:ext cx="5945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Bookman Old Style"/>
                </a:rPr>
                <a:t>Nonlinear optimization models …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2120" y="2435400"/>
              <a:ext cx="81169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520560" indent="-520560">
                <a:lnSpc>
                  <a:spcPct val="100000"/>
                </a:lnSpc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Let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price of stock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20560" indent="-520560">
                <a:lnSpc>
                  <a:spcPct val="100000"/>
                </a:lnSpc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b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our total budge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20560" indent="-520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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risk-aversion factor (when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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0 risk is not a factor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20560" indent="-520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20560" indent="-520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Consider 3 different models: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62440" y="4624560"/>
              <a:ext cx="8000280" cy="1722240"/>
              <a:chOff x="262440" y="4624560"/>
              <a:chExt cx="8000280" cy="1722240"/>
            </a:xfrm>
          </p:grpSpPr>
          <p:sp>
            <p:nvSpPr>
              <p:cNvPr id="241" name=""/>
              <p:cNvSpPr/>
              <p:nvPr/>
            </p:nvSpPr>
            <p:spPr>
              <a:xfrm>
                <a:off x="262440" y="4624560"/>
                <a:ext cx="8000280" cy="172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1206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1)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	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Max   </a:t>
                </a:r>
                <a:r>
                  <a:rPr b="0" i="1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f</a:t>
                </a:r>
                <a:r>
                  <a:rPr b="0" i="1" lang="en-US" sz="1200" spc="-1" strike="noStrike">
                    <a:solidFill>
                      <a:srgbClr val="ffffff"/>
                    </a:solidFill>
                    <a:latin typeface="Bookman Old Style"/>
                  </a:rPr>
                  <a:t> 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(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x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) = </a:t>
                </a:r>
                <a:r>
                  <a:rPr b="0" i="1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R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(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x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) – </a:t>
                </a:r>
                <a:r>
                  <a:rPr b="0" i="1" lang="en-US" sz="2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</a:t>
                </a:r>
                <a:r>
                  <a:rPr b="0" i="1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V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(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x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) 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1206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1206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	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s.t.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	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</a:t>
                </a:r>
                <a:r>
                  <a:rPr b="0" i="1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p</a:t>
                </a:r>
                <a:r>
                  <a:rPr b="0" i="1" lang="en-US" sz="2200" spc="-1" strike="noStrike" baseline="-25000">
                    <a:solidFill>
                      <a:srgbClr val="ffffff"/>
                    </a:solidFill>
                    <a:latin typeface="Bookman Old Style"/>
                  </a:rPr>
                  <a:t>j </a:t>
                </a:r>
                <a:r>
                  <a:rPr b="0" i="1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x</a:t>
                </a:r>
                <a:r>
                  <a:rPr b="0" i="1" lang="en-US" sz="2200" spc="-1" strike="noStrike" baseline="-25000">
                    <a:solidFill>
                      <a:srgbClr val="ffffff"/>
                    </a:solidFill>
                    <a:latin typeface="Bookman Old Style"/>
                  </a:rPr>
                  <a:t>j  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</a:t>
                </a:r>
                <a:r>
                  <a:rPr b="0" i="1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b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,  </a:t>
                </a:r>
                <a:r>
                  <a:rPr b="0" i="1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x</a:t>
                </a:r>
                <a:r>
                  <a:rPr b="0" i="1" lang="en-US" sz="2200" spc="-1" strike="noStrike" baseline="-25000">
                    <a:solidFill>
                      <a:srgbClr val="ffffff"/>
                    </a:solidFill>
                    <a:latin typeface="Bookman Old Style"/>
                  </a:rPr>
                  <a:t>j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 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 0,   </a:t>
                </a:r>
                <a:r>
                  <a:rPr b="0" i="1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j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 = 1,…,</a:t>
                </a:r>
                <a:r>
                  <a:rPr b="0" i="1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n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1206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1206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	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where </a:t>
                </a:r>
                <a:r>
                  <a:rPr b="0" i="1" lang="en-US" sz="2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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Bookman Old Style"/>
                  </a:rPr>
                  <a:t> 0 is determined by the decision maker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52920" y="5016600"/>
                <a:ext cx="38160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Bookman Old Style"/>
                  </a:rPr>
                  <a:t>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Bookman Old Style"/>
                  </a:rPr>
                  <a:t>j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Bookman Old Style"/>
                  </a:rPr>
                  <a:t>=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546120" y="152280"/>
            <a:ext cx="7950240" cy="1474920"/>
            <a:chOff x="546120" y="152280"/>
            <a:chExt cx="7950240" cy="1474920"/>
          </a:xfrm>
        </p:grpSpPr>
        <p:sp>
          <p:nvSpPr>
            <p:cNvPr id="244" name=""/>
            <p:cNvSpPr/>
            <p:nvPr/>
          </p:nvSpPr>
          <p:spPr>
            <a:xfrm>
              <a:off x="546120" y="152280"/>
              <a:ext cx="795024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If                           , then buying stock 2 is just like buying additional shares of stock 1.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934920" y="165240"/>
            <a:ext cx="2222640" cy="911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4920" y="165240"/>
                      <a:ext cx="222264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87440" y="546120"/>
            <a:ext cx="790740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man Old Style"/>
              <a:buAutoNum type="arabicParenR" startAt="2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Max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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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0, 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where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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0 is determined by the investor.  Smaller values of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represent greater risk aversio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37240" y="977760"/>
            <a:ext cx="381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j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19040" y="3225960"/>
            <a:ext cx="7302600" cy="2351880"/>
            <a:chOff x="419040" y="3225960"/>
            <a:chExt cx="7302600" cy="2351880"/>
          </a:xfrm>
        </p:grpSpPr>
        <p:sp>
          <p:nvSpPr>
            <p:cNvPr id="250" name=""/>
            <p:cNvSpPr/>
            <p:nvPr/>
          </p:nvSpPr>
          <p:spPr>
            <a:xfrm>
              <a:off x="419040" y="3225960"/>
              <a:ext cx="7302600" cy="23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12574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3)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Min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 =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V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12574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12574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s.t.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R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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, 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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p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 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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b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, 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0,  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1,…,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12574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30000"/>
                </a:lnSpc>
                <a:tabLst>
                  <a:tab algn="l" pos="0"/>
                  <a:tab algn="l" pos="12574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where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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0 is the desired rate of return 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(minimum expectation) is selected by the investor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86480" y="3695760"/>
              <a:ext cx="3816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Bookman Old Style"/>
                </a:rPr>
                <a:t>j </a:t>
              </a:r>
              <a:r>
                <a:rPr b="0" lang="en-US" sz="1800" spc="-1" strike="noStrike">
                  <a:solidFill>
                    <a:srgbClr val="ffffff"/>
                  </a:solidFill>
                  <a:latin typeface="Bookman Old Style"/>
                </a:rPr>
                <a:t>=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6094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680" y="1371600"/>
            <a:ext cx="21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6240" y="1981080"/>
            <a:ext cx="49834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.t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g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=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1,…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7480" y="2819520"/>
            <a:ext cx="726912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dimensional vector of decision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the objecti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are the constraint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ixed known cons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General NL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441360" y="3013200"/>
            <a:ext cx="8361360" cy="3329640"/>
            <a:chOff x="441360" y="3013200"/>
            <a:chExt cx="8361360" cy="3329640"/>
          </a:xfrm>
        </p:grpSpPr>
        <p:sp>
          <p:nvSpPr>
            <p:cNvPr id="253" name=""/>
            <p:cNvSpPr/>
            <p:nvPr/>
          </p:nvSpPr>
          <p:spPr>
            <a:xfrm>
              <a:off x="441360" y="3013200"/>
              <a:ext cx="8361360" cy="13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5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Bookman Old Style"/>
                </a:rPr>
                <a:t>Decision variables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: Let (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,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,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1,…,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, be the incremental horizontal and vertical displacement of each link, where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10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2440" y="4330800"/>
              <a:ext cx="724896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5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Bookman Old Style"/>
                </a:rPr>
                <a:t>Constraints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: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Aft>
                  <a:spcPts val="5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 baseline="30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 baseline="30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1,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1,…,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, each link has length 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Aft>
                  <a:spcPts val="5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Bookman Old Style"/>
                </a:rPr>
                <a:t>	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• • •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10,</a:t>
              </a:r>
              <a:r>
                <a:rPr b="0" lang="en-US" sz="2200" spc="-1" strike="noStrike">
                  <a:solidFill>
                    <a:srgbClr val="ffff00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net horizontal displacem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Bookman Old Style"/>
                </a:rPr>
                <a:t>	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• • •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0,</a:t>
              </a:r>
              <a:r>
                <a:rPr b="0" lang="en-US" sz="2200" spc="-1" strike="noStrike">
                  <a:solidFill>
                    <a:srgbClr val="ffff00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net vertical displacem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7400" y="-360"/>
            <a:ext cx="7023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Hanging Chain with Rigid Link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898640" y="851040"/>
            <a:ext cx="5429160" cy="1427400"/>
            <a:chOff x="1898640" y="851040"/>
            <a:chExt cx="5429160" cy="1427400"/>
          </a:xfrm>
        </p:grpSpPr>
        <p:grpSp>
          <p:nvGrpSpPr>
            <p:cNvPr id="257" name=""/>
            <p:cNvGrpSpPr/>
            <p:nvPr/>
          </p:nvGrpSpPr>
          <p:grpSpPr>
            <a:xfrm>
              <a:off x="2957400" y="1043280"/>
              <a:ext cx="952200" cy="99720"/>
              <a:chOff x="2957400" y="1043280"/>
              <a:chExt cx="952200" cy="9972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3054240" y="1093680"/>
                <a:ext cx="8553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57400" y="1043280"/>
                <a:ext cx="99720" cy="99720"/>
              </a:xfrm>
              <a:custGeom>
                <a:avLst/>
                <a:gdLst/>
                <a:ahLst/>
                <a:rect l="l" t="t" r="r" b="b"/>
                <a:pathLst>
                  <a:path w="125" h="125">
                    <a:moveTo>
                      <a:pt x="125" y="0"/>
                    </a:moveTo>
                    <a:lnTo>
                      <a:pt x="0" y="64"/>
                    </a:lnTo>
                    <a:lnTo>
                      <a:pt x="125" y="125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462200" y="1035000"/>
              <a:ext cx="952920" cy="100080"/>
              <a:chOff x="4462200" y="1035000"/>
              <a:chExt cx="952920" cy="10008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4462200" y="1083960"/>
                <a:ext cx="8571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16480" y="103500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124" h="125">
                    <a:moveTo>
                      <a:pt x="0" y="125"/>
                    </a:moveTo>
                    <a:lnTo>
                      <a:pt x="124" y="61"/>
                    </a:lnTo>
                    <a:lnTo>
                      <a:pt x="0" y="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967120" y="1187640"/>
              <a:ext cx="2392200" cy="1031760"/>
            </a:xfrm>
            <a:custGeom>
              <a:avLst/>
              <a:gdLst/>
              <a:ahLst/>
              <a:rect l="l" t="t" r="r" b="b"/>
              <a:pathLst>
                <a:path w="3013" h="1298">
                  <a:moveTo>
                    <a:pt x="0" y="36"/>
                  </a:moveTo>
                  <a:lnTo>
                    <a:pt x="4" y="96"/>
                  </a:lnTo>
                  <a:lnTo>
                    <a:pt x="10" y="155"/>
                  </a:lnTo>
                  <a:lnTo>
                    <a:pt x="17" y="215"/>
                  </a:lnTo>
                  <a:lnTo>
                    <a:pt x="27" y="276"/>
                  </a:lnTo>
                  <a:lnTo>
                    <a:pt x="44" y="336"/>
                  </a:lnTo>
                  <a:lnTo>
                    <a:pt x="65" y="395"/>
                  </a:lnTo>
                  <a:lnTo>
                    <a:pt x="79" y="426"/>
                  </a:lnTo>
                  <a:lnTo>
                    <a:pt x="94" y="457"/>
                  </a:lnTo>
                  <a:lnTo>
                    <a:pt x="113" y="486"/>
                  </a:lnTo>
                  <a:lnTo>
                    <a:pt x="132" y="516"/>
                  </a:lnTo>
                  <a:lnTo>
                    <a:pt x="156" y="547"/>
                  </a:lnTo>
                  <a:lnTo>
                    <a:pt x="179" y="578"/>
                  </a:lnTo>
                  <a:lnTo>
                    <a:pt x="205" y="611"/>
                  </a:lnTo>
                  <a:lnTo>
                    <a:pt x="234" y="643"/>
                  </a:lnTo>
                  <a:lnTo>
                    <a:pt x="296" y="709"/>
                  </a:lnTo>
                  <a:lnTo>
                    <a:pt x="365" y="774"/>
                  </a:lnTo>
                  <a:lnTo>
                    <a:pt x="438" y="839"/>
                  </a:lnTo>
                  <a:lnTo>
                    <a:pt x="517" y="901"/>
                  </a:lnTo>
                  <a:lnTo>
                    <a:pt x="599" y="956"/>
                  </a:lnTo>
                  <a:lnTo>
                    <a:pt x="684" y="1008"/>
                  </a:lnTo>
                  <a:lnTo>
                    <a:pt x="774" y="1058"/>
                  </a:lnTo>
                  <a:lnTo>
                    <a:pt x="872" y="1112"/>
                  </a:lnTo>
                  <a:lnTo>
                    <a:pt x="974" y="1162"/>
                  </a:lnTo>
                  <a:lnTo>
                    <a:pt x="1079" y="1210"/>
                  </a:lnTo>
                  <a:lnTo>
                    <a:pt x="1135" y="1231"/>
                  </a:lnTo>
                  <a:lnTo>
                    <a:pt x="1189" y="1248"/>
                  </a:lnTo>
                  <a:lnTo>
                    <a:pt x="1244" y="1265"/>
                  </a:lnTo>
                  <a:lnTo>
                    <a:pt x="1300" y="1279"/>
                  </a:lnTo>
                  <a:lnTo>
                    <a:pt x="1356" y="1288"/>
                  </a:lnTo>
                  <a:lnTo>
                    <a:pt x="1413" y="1296"/>
                  </a:lnTo>
                  <a:lnTo>
                    <a:pt x="1469" y="1298"/>
                  </a:lnTo>
                  <a:lnTo>
                    <a:pt x="1525" y="1296"/>
                  </a:lnTo>
                  <a:lnTo>
                    <a:pt x="1582" y="1290"/>
                  </a:lnTo>
                  <a:lnTo>
                    <a:pt x="1642" y="1279"/>
                  </a:lnTo>
                  <a:lnTo>
                    <a:pt x="1703" y="1263"/>
                  </a:lnTo>
                  <a:lnTo>
                    <a:pt x="1767" y="1244"/>
                  </a:lnTo>
                  <a:lnTo>
                    <a:pt x="1830" y="1221"/>
                  </a:lnTo>
                  <a:lnTo>
                    <a:pt x="1896" y="1194"/>
                  </a:lnTo>
                  <a:lnTo>
                    <a:pt x="1961" y="1166"/>
                  </a:lnTo>
                  <a:lnTo>
                    <a:pt x="2026" y="1137"/>
                  </a:lnTo>
                  <a:lnTo>
                    <a:pt x="2151" y="1071"/>
                  </a:lnTo>
                  <a:lnTo>
                    <a:pt x="2212" y="1039"/>
                  </a:lnTo>
                  <a:lnTo>
                    <a:pt x="2270" y="1006"/>
                  </a:lnTo>
                  <a:lnTo>
                    <a:pt x="2328" y="975"/>
                  </a:lnTo>
                  <a:lnTo>
                    <a:pt x="2380" y="945"/>
                  </a:lnTo>
                  <a:lnTo>
                    <a:pt x="2429" y="916"/>
                  </a:lnTo>
                  <a:lnTo>
                    <a:pt x="2474" y="889"/>
                  </a:lnTo>
                  <a:lnTo>
                    <a:pt x="2514" y="864"/>
                  </a:lnTo>
                  <a:lnTo>
                    <a:pt x="2552" y="839"/>
                  </a:lnTo>
                  <a:lnTo>
                    <a:pt x="2589" y="816"/>
                  </a:lnTo>
                  <a:lnTo>
                    <a:pt x="2621" y="791"/>
                  </a:lnTo>
                  <a:lnTo>
                    <a:pt x="2654" y="768"/>
                  </a:lnTo>
                  <a:lnTo>
                    <a:pt x="2683" y="743"/>
                  </a:lnTo>
                  <a:lnTo>
                    <a:pt x="2710" y="720"/>
                  </a:lnTo>
                  <a:lnTo>
                    <a:pt x="2735" y="697"/>
                  </a:lnTo>
                  <a:lnTo>
                    <a:pt x="2781" y="649"/>
                  </a:lnTo>
                  <a:lnTo>
                    <a:pt x="2821" y="599"/>
                  </a:lnTo>
                  <a:lnTo>
                    <a:pt x="2858" y="547"/>
                  </a:lnTo>
                  <a:lnTo>
                    <a:pt x="2892" y="493"/>
                  </a:lnTo>
                  <a:lnTo>
                    <a:pt x="2908" y="465"/>
                  </a:lnTo>
                  <a:lnTo>
                    <a:pt x="2923" y="434"/>
                  </a:lnTo>
                  <a:lnTo>
                    <a:pt x="2946" y="365"/>
                  </a:lnTo>
                  <a:lnTo>
                    <a:pt x="2965" y="294"/>
                  </a:lnTo>
                  <a:lnTo>
                    <a:pt x="2979" y="223"/>
                  </a:lnTo>
                  <a:lnTo>
                    <a:pt x="2990" y="154"/>
                  </a:lnTo>
                  <a:lnTo>
                    <a:pt x="2994" y="121"/>
                  </a:lnTo>
                  <a:lnTo>
                    <a:pt x="3000" y="92"/>
                  </a:lnTo>
                  <a:lnTo>
                    <a:pt x="3004" y="63"/>
                  </a:lnTo>
                  <a:lnTo>
                    <a:pt x="3006" y="38"/>
                  </a:lnTo>
                  <a:lnTo>
                    <a:pt x="3009" y="17"/>
                  </a:lnTo>
                  <a:lnTo>
                    <a:pt x="3013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19240" y="1179720"/>
              <a:ext cx="939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21160" y="115092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49800" y="1629000"/>
              <a:ext cx="92160" cy="9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02320" y="1959120"/>
              <a:ext cx="903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21160" y="1995480"/>
              <a:ext cx="903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00320" y="1629000"/>
              <a:ext cx="921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57480" y="851040"/>
              <a:ext cx="5353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47480" y="90180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0f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947960" y="1517760"/>
              <a:ext cx="533160" cy="98280"/>
              <a:chOff x="1947960" y="1517760"/>
              <a:chExt cx="533160" cy="98280"/>
            </a:xfrm>
          </p:grpSpPr>
          <p:sp>
            <p:nvSpPr>
              <p:cNvPr id="273" name=""/>
              <p:cNvSpPr/>
              <p:nvPr/>
            </p:nvSpPr>
            <p:spPr>
              <a:xfrm>
                <a:off x="1947960" y="1566720"/>
                <a:ext cx="5331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381040" y="151776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125" h="125">
                    <a:moveTo>
                      <a:pt x="0" y="125"/>
                    </a:moveTo>
                    <a:lnTo>
                      <a:pt x="125" y="6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898640" y="1567080"/>
              <a:ext cx="98280" cy="495360"/>
              <a:chOff x="1898640" y="1567080"/>
              <a:chExt cx="98280" cy="495360"/>
            </a:xfrm>
          </p:grpSpPr>
          <p:sp>
            <p:nvSpPr>
              <p:cNvPr id="276" name=""/>
              <p:cNvSpPr/>
              <p:nvPr/>
            </p:nvSpPr>
            <p:spPr>
              <a:xfrm>
                <a:off x="1947600" y="1567080"/>
                <a:ext cx="1080" cy="49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98640" y="1962360"/>
                <a:ext cx="98280" cy="100080"/>
              </a:xfrm>
              <a:custGeom>
                <a:avLst/>
                <a:gdLst/>
                <a:ahLst/>
                <a:rect l="l" t="t" r="r" b="b"/>
                <a:pathLst>
                  <a:path w="124" h="125">
                    <a:moveTo>
                      <a:pt x="0" y="0"/>
                    </a:moveTo>
                    <a:lnTo>
                      <a:pt x="63" y="125"/>
                    </a:lnTo>
                    <a:lnTo>
                      <a:pt x="12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2482920" y="1443240"/>
              <a:ext cx="33336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71480" y="14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49400" y="1928880"/>
              <a:ext cx="295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37600" y="1978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83440" y="1649520"/>
              <a:ext cx="495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8560" y="1594080"/>
              <a:ext cx="92160" cy="9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30920" y="1602000"/>
              <a:ext cx="93600" cy="9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6692760" y="1285920"/>
              <a:ext cx="152280" cy="98280"/>
              <a:chOff x="6692760" y="1285920"/>
              <a:chExt cx="152280" cy="98280"/>
            </a:xfrm>
          </p:grpSpPr>
          <p:sp>
            <p:nvSpPr>
              <p:cNvPr id="286" name=""/>
              <p:cNvSpPr/>
              <p:nvPr/>
            </p:nvSpPr>
            <p:spPr>
              <a:xfrm>
                <a:off x="6692760" y="1333440"/>
                <a:ext cx="1522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46760" y="128592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125" h="125">
                    <a:moveTo>
                      <a:pt x="0" y="125"/>
                    </a:moveTo>
                    <a:lnTo>
                      <a:pt x="125" y="6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197760" y="1284480"/>
              <a:ext cx="134640" cy="98280"/>
              <a:chOff x="6197760" y="1284480"/>
              <a:chExt cx="134640" cy="98280"/>
            </a:xfrm>
          </p:grpSpPr>
          <p:sp>
            <p:nvSpPr>
              <p:cNvPr id="289" name=""/>
              <p:cNvSpPr/>
              <p:nvPr/>
            </p:nvSpPr>
            <p:spPr>
              <a:xfrm flipH="1">
                <a:off x="6197760" y="1333440"/>
                <a:ext cx="13464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197760" y="128448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125" h="124">
                    <a:moveTo>
                      <a:pt x="125" y="0"/>
                    </a:moveTo>
                    <a:lnTo>
                      <a:pt x="0" y="63"/>
                    </a:lnTo>
                    <a:lnTo>
                      <a:pt x="125" y="124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6332400" y="1046160"/>
              <a:ext cx="4208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79200" y="1003320"/>
              <a:ext cx="313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 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29480" y="1879560"/>
              <a:ext cx="14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Bookman Old Style"/>
                </a:rPr>
                <a:t>each lin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92480" y="2175120"/>
              <a:ext cx="9072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80880" y="2552760"/>
            <a:ext cx="542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What is equilibrium shape of chain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07960" y="165240"/>
            <a:ext cx="7873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Bookman Old Style"/>
              </a:rPr>
              <a:t>Objective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:  Minimize chain’s potential ener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ssuming that the center of the mass of each link is at the center of the link.  This is equivalent to minimiz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028880" y="1689120"/>
            <a:ext cx="6996240" cy="1097280"/>
            <a:chOff x="1028880" y="1689120"/>
            <a:chExt cx="6996240" cy="1097280"/>
          </a:xfrm>
        </p:grpSpPr>
        <p:sp>
          <p:nvSpPr>
            <p:cNvPr id="298" name=""/>
            <p:cNvSpPr/>
            <p:nvPr/>
          </p:nvSpPr>
          <p:spPr>
            <a:xfrm>
              <a:off x="1033920" y="17654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63800" y="20876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28880" y="208296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37760" y="1812960"/>
              <a:ext cx="12582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 (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21320" y="17064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8600" y="2023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16280" y="200196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5840" y="1812960"/>
              <a:ext cx="11314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  +  (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25400" y="1812960"/>
              <a:ext cx="6757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 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56560" y="1812960"/>
              <a:ext cx="30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440" y="16891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15120" y="20113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05400" y="200664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80160" y="1803240"/>
              <a:ext cx="97920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3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 + </a:t>
              </a: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• • •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30920" y="2344680"/>
              <a:ext cx="23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31960" y="2336760"/>
              <a:ext cx="3070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04920" y="2336760"/>
              <a:ext cx="6757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 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65040" y="2336760"/>
              <a:ext cx="14763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 </a:t>
              </a: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• • •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-1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39400" y="21463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39400" y="24811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34360" y="2465280"/>
              <a:ext cx="171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4960" y="2336760"/>
              <a:ext cx="3801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91440" y="2832120"/>
            <a:ext cx="7172640" cy="1324440"/>
            <a:chOff x="991440" y="2832120"/>
            <a:chExt cx="7172640" cy="1324440"/>
          </a:xfrm>
        </p:grpSpPr>
        <p:sp>
          <p:nvSpPr>
            <p:cNvPr id="321" name=""/>
            <p:cNvSpPr/>
            <p:nvPr/>
          </p:nvSpPr>
          <p:spPr>
            <a:xfrm>
              <a:off x="991440" y="3022560"/>
              <a:ext cx="1252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= (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n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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 +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75280" y="28321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75280" y="3166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70240" y="3151080"/>
              <a:ext cx="171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2680" y="3022560"/>
              <a:ext cx="31464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]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05440" y="3022560"/>
              <a:ext cx="1331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  (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n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 2 +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38960" y="28321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38960" y="3166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33920" y="3151080"/>
              <a:ext cx="171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62160" y="3022560"/>
              <a:ext cx="3070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67880" y="3716280"/>
              <a:ext cx="1252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 (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n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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3 +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21280" y="3691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07160" y="3517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07160" y="3851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02120" y="3836880"/>
              <a:ext cx="1731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02360" y="3708360"/>
              <a:ext cx="12124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3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 </a:t>
              </a: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• • •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10680" y="3517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10680" y="3851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05640" y="3836880"/>
              <a:ext cx="1731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43240" y="3708360"/>
              <a:ext cx="441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-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14200" y="3708360"/>
              <a:ext cx="23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+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64760" y="3517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64760" y="3851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59720" y="3836880"/>
              <a:ext cx="171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67800" y="3708360"/>
              <a:ext cx="2962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81120" y="2997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23160" y="4229280"/>
            <a:ext cx="7428600" cy="2297880"/>
            <a:chOff x="623160" y="4229280"/>
            <a:chExt cx="7428600" cy="2297880"/>
          </a:xfrm>
        </p:grpSpPr>
        <p:sp>
          <p:nvSpPr>
            <p:cNvPr id="348" name=""/>
            <p:cNvSpPr/>
            <p:nvPr/>
          </p:nvSpPr>
          <p:spPr>
            <a:xfrm>
              <a:off x="623160" y="4229280"/>
              <a:ext cx="1290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Bookman Old Style"/>
                </a:rPr>
                <a:t>S</a:t>
              </a:r>
              <a:r>
                <a:rPr b="0" lang="en-US" sz="2200" spc="-1" strike="noStrike">
                  <a:solidFill>
                    <a:srgbClr val="00ffff"/>
                  </a:solidFill>
                  <a:latin typeface="Bookman Old Style"/>
                </a:rPr>
                <a:t>ummary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1240" y="4967280"/>
              <a:ext cx="245628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Min  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(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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½)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94200" y="4694400"/>
              <a:ext cx="3816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Bookman Old Style"/>
                </a:rPr>
                <a:t>j </a:t>
              </a:r>
              <a:r>
                <a:rPr b="0" lang="en-US" sz="1800" spc="-1" strike="noStrike">
                  <a:solidFill>
                    <a:srgbClr val="ffffff"/>
                  </a:solidFill>
                  <a:latin typeface="Bookman Old Style"/>
                </a:rPr>
                <a:t>=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59120" y="4940280"/>
              <a:ext cx="4292640" cy="15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85800" indent="-685800">
                <a:lnSpc>
                  <a:spcPct val="100000"/>
                </a:lnSpc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s.t.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 baseline="30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 baseline="30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1, 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1,…,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685800" indent="-685800">
                <a:lnSpc>
                  <a:spcPct val="100000"/>
                </a:lnSpc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• • •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1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685800" indent="-685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• • •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n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8560" y="368280"/>
            <a:ext cx="7954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s a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local optimu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guaranteed to be a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global optimu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71680" y="1549440"/>
            <a:ext cx="8242200" cy="3980880"/>
            <a:chOff x="571680" y="1549440"/>
            <a:chExt cx="8242200" cy="3980880"/>
          </a:xfrm>
        </p:grpSpPr>
        <p:grpSp>
          <p:nvGrpSpPr>
            <p:cNvPr id="354" name=""/>
            <p:cNvGrpSpPr/>
            <p:nvPr/>
          </p:nvGrpSpPr>
          <p:grpSpPr>
            <a:xfrm>
              <a:off x="1779840" y="3146400"/>
              <a:ext cx="5523840" cy="2383920"/>
              <a:chOff x="1779840" y="3146400"/>
              <a:chExt cx="5523840" cy="2383920"/>
            </a:xfrm>
          </p:grpSpPr>
          <p:sp>
            <p:nvSpPr>
              <p:cNvPr id="355" name=""/>
              <p:cNvSpPr/>
              <p:nvPr/>
            </p:nvSpPr>
            <p:spPr>
              <a:xfrm>
                <a:off x="2287800" y="3146400"/>
                <a:ext cx="4149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Consider a chain with 4 links: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79840" y="5164200"/>
                <a:ext cx="5523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Bookman Old Style"/>
                  </a:rPr>
                  <a:t>These solutions are both local minima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46520" y="4025880"/>
                <a:ext cx="161640" cy="412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62160" y="4498920"/>
                <a:ext cx="351000" cy="26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3871800" y="4010040"/>
                <a:ext cx="162000" cy="412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3481560" y="4484160"/>
                <a:ext cx="352080" cy="25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779560" y="3903840"/>
                <a:ext cx="130320" cy="14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57400" y="4362480"/>
                <a:ext cx="128880" cy="14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46560" y="4667400"/>
                <a:ext cx="129960" cy="14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67040" y="4362480"/>
                <a:ext cx="127080" cy="14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967200" y="3903840"/>
                <a:ext cx="131760" cy="14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4937040" y="4179960"/>
                <a:ext cx="162000" cy="40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5681520" y="4148280"/>
                <a:ext cx="162000" cy="412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5194440" y="4160520"/>
                <a:ext cx="161640" cy="41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5437080" y="4210200"/>
                <a:ext cx="162000" cy="412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62520" y="4133880"/>
                <a:ext cx="130320" cy="14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572080" y="4546440"/>
                <a:ext cx="131760" cy="14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15040" y="4148280"/>
                <a:ext cx="133200" cy="14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060880" y="4576680"/>
                <a:ext cx="130320" cy="14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59280" y="4148280"/>
                <a:ext cx="127080" cy="14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571680" y="1549440"/>
              <a:ext cx="82422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Constraints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1 for all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yield a nonconvex feasible region so there may be several local optima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505320" y="87624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No</a:t>
            </a: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05120" y="190440"/>
            <a:ext cx="52322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Direct Current Networ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3040" y="3848040"/>
            <a:ext cx="86742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0840" indent="-1320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obl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current flow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…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 that the total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nt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min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20840" indent="-1320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nt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0" lang="en-US" sz="2400" spc="-1" strike="noStrike" baseline="-4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i="1" lang="en-US" sz="2400" spc="-1" strike="noStrike" baseline="10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d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≥ 0 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0" i="1" lang="en-US" sz="2400" spc="-1" strike="noStrike" baseline="-40000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 baseline="10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d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963800" y="1100160"/>
            <a:ext cx="49705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8800" y="190080"/>
            <a:ext cx="7264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olution Approa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7960" y="914400"/>
            <a:ext cx="8318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lectrical Engineerin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Use Kirchoff’s laws to find currents when power source is giv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Operations Researc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Optimize performance measure in network taking flow balance into accou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560" y="2933640"/>
            <a:ext cx="73915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63840" indent="-2463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Linear resisto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oltage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3840" indent="-2463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ntent function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400" spc="-1" strike="noStrike" baseline="5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3840" indent="-2463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Batter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oltage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3840" indent="-2463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ntent function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25400" y="151920"/>
            <a:ext cx="57402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Network Flow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23960" y="3429000"/>
            <a:ext cx="7632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inimize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 –100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5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 baseline="5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5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400" spc="-1" strike="noStrike" baseline="5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10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400" spc="-1" strike="noStrike" baseline="5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10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5</a:t>
            </a:r>
            <a:r>
              <a:rPr b="0" lang="en-US" sz="2400" spc="-1" strike="noStrike" baseline="50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bject to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 –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2880" y="5334120"/>
            <a:ext cx="69087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1600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Soluti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0/9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0/9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0/9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00200" indent="-1600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–50/9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–10/9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09480" y="825480"/>
            <a:ext cx="7338960" cy="2268720"/>
            <a:chOff x="609480" y="825480"/>
            <a:chExt cx="7338960" cy="2268720"/>
          </a:xfrm>
        </p:grpSpPr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3698640" y="995400"/>
              <a:ext cx="4249800" cy="20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09480" y="825480"/>
              <a:ext cx="30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Bookman Old Style"/>
                </a:rPr>
                <a:t>Network diagram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LP Problem Cla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12880" y="1320840"/>
            <a:ext cx="755640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1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ained vs. unconstr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Aft>
                <a:spcPts val="1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x programming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Aft>
                <a:spcPts val="1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dratic programming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½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Aft>
                <a:spcPts val="1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ble programming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=1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,n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Aft>
                <a:spcPts val="1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ometric programming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=1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,T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 baseline="5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. . .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400" spc="-1" strike="noStrike" baseline="5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t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Aft>
                <a:spcPts val="1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ality constrained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253800"/>
            <a:ext cx="8394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You Should Know About Nonlinear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identify a convex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write out the first-order optimality condi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fference between a local and global sol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classify probl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30320" y="215640"/>
            <a:ext cx="51055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onvex Se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092240"/>
            <a:ext cx="7861320" cy="24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</a:t>
            </a:r>
            <a:r>
              <a:rPr b="0" i="1" lang="en-US" sz="2400" spc="-1" strike="noStrike" baseline="46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convex if every point on the line segment connecting any two point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lso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Mathematically, this is equivalent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(1–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ll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ch 0 ≤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≤ 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191120"/>
            <a:ext cx="15238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191120"/>
            <a:ext cx="1523880" cy="12189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3962520"/>
            <a:ext cx="2057400" cy="16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34" y="1340"/>
                  <a:pt x="7467" y="5080"/>
                  <a:pt x="7467" y="10800"/>
                </a:cubicBezTo>
                <a:cubicBezTo>
                  <a:pt x="7467" y="16520"/>
                  <a:pt x="14534" y="2026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419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7" name=""/>
          <p:cNvCxnSpPr/>
          <p:nvPr/>
        </p:nvCxnSpPr>
        <p:spPr>
          <a:xfrm flipH="1" flipV="1">
            <a:off x="3657240" y="4723560"/>
            <a:ext cx="783360" cy="369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8" name=""/>
          <p:cNvCxnSpPr/>
          <p:nvPr/>
        </p:nvCxnSpPr>
        <p:spPr>
          <a:xfrm flipV="1">
            <a:off x="1371240" y="4723920"/>
            <a:ext cx="76284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1752480" y="4267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4952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51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40384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4952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572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4724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4572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933960" y="4191120"/>
            <a:ext cx="1522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05400" y="1606680"/>
            <a:ext cx="4308480" cy="344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440" y="1938240"/>
            <a:ext cx="4305240" cy="11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100"/>
              </a:spcAft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{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: (0.5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0.6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≤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3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≥ 27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≥ 0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(Nonconvex) Feasible Reg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41840" y="1695600"/>
          <a:ext cx="4078440" cy="32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1840" y="1695600"/>
                    <a:ext cx="407844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190440"/>
            <a:ext cx="75308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onvex Sets and Optimiz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371600"/>
            <a:ext cx="784836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</a:t>
            </a:r>
            <a:r>
              <a:rPr b="0" i="1" lang="en-US" sz="2400" spc="-1" strike="noStrike" baseline="46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a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is a convex function for eac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convex 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3124080"/>
            <a:ext cx="769608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onvex Programming Theor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</a:t>
            </a:r>
            <a:r>
              <a:rPr b="0" i="1" lang="en-US" sz="2400" spc="-1" strike="noStrike" baseline="46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le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be a convex function defined over a convex constraint se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If a finite solution exists to th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inimize {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) :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all local optima are global optima.  I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s strictly convex, the optimum is unique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81480" y="1295280"/>
            <a:ext cx="342900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ax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s a convex program if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concav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each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conve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25160" y="4651200"/>
            <a:ext cx="1244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onvex Programm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295280"/>
            <a:ext cx="342900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in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s a convex program if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conve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each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conve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57720" y="1992240"/>
            <a:ext cx="3630600" cy="3308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1200" y="2152800"/>
            <a:ext cx="48387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r" pos="2006640"/>
                <a:tab algn="r" pos="2743200"/>
                <a:tab algn="r" pos="3086280"/>
                <a:tab algn="r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r" pos="2006640"/>
                <a:tab algn="r" pos="2743200"/>
                <a:tab algn="r" pos="3086280"/>
                <a:tab algn="r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ject 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r" pos="2006640"/>
                <a:tab algn="r" pos="2743200"/>
                <a:tab algn="r" pos="3086280"/>
                <a:tab algn="r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r" pos="2006640"/>
                <a:tab algn="r" pos="2743200"/>
                <a:tab algn="r" pos="3086280"/>
                <a:tab algn="r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6640"/>
                <a:tab algn="r" pos="2743200"/>
                <a:tab algn="r" pos="3086280"/>
                <a:tab algn="r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3920" y="240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Linearly Constrained Convex Function with Unique Global Maximu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219320" y="1523880"/>
          <a:ext cx="7238880" cy="44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723888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(Nonconvex) Optimization Probl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9800" y="228240"/>
            <a:ext cx="82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-Order Optimality Cond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549080"/>
            <a:ext cx="8115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4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{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1,…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Aft>
                <a:spcPts val="24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grangia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63920" y="2079720"/>
          <a:ext cx="428940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3920" y="2079720"/>
                    <a:ext cx="42894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"/>
          <p:cNvGrpSpPr/>
          <p:nvPr/>
        </p:nvGrpSpPr>
        <p:grpSpPr>
          <a:xfrm>
            <a:off x="596880" y="2971800"/>
            <a:ext cx="7480440" cy="3648240"/>
            <a:chOff x="596880" y="2971800"/>
            <a:chExt cx="7480440" cy="3648240"/>
          </a:xfrm>
        </p:grpSpPr>
        <p:graphicFrame>
          <p:nvGraphicFramePr>
            <p:cNvPr id="91" name=""/>
            <p:cNvGraphicFramePr/>
            <p:nvPr/>
          </p:nvGraphicFramePr>
          <p:xfrm>
            <a:off x="2840040" y="3525840"/>
            <a:ext cx="4549680" cy="94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40040" y="3525840"/>
                      <a:ext cx="4549680" cy="9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596880" y="2971800"/>
              <a:ext cx="7480440" cy="36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Optimality condi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Aft>
                  <a:spcPts val="244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tationarity: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Aft>
                  <a:spcPts val="244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omplementarity: 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) = 0,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= 1,…,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Aft>
                  <a:spcPts val="2449"/>
                </a:spcAft>
                <a:buClr>
                  <a:srgbClr val="ffffff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easibility: 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, 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= 1,…,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Aft>
                  <a:spcPts val="2449"/>
                </a:spcAft>
                <a:buClr>
                  <a:srgbClr val="ffffff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Nonnegativity: 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0,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= 1,…,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09:24Z</dcterms:created>
  <dc:creator>Administrator</dc:creator>
  <dc:description/>
  <dc:language>en-US</dc:language>
  <cp:lastModifiedBy>Jonathan Bard</cp:lastModifiedBy>
  <cp:lastPrinted>2000-02-17T17:34:58Z</cp:lastPrinted>
  <dcterms:modified xsi:type="dcterms:W3CDTF">2009-10-26T22:22:57Z</dcterms:modified>
  <cp:revision>166</cp:revision>
  <dc:subject/>
  <dc:title>No Slide Title</dc:title>
</cp:coreProperties>
</file>