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18.png" ContentType="image/png"/>
  <Override PartName="/ppt/media/image17.pct" ContentType="image/x-pict"/>
  <Override PartName="/ppt/media/image2.png" ContentType="image/png"/>
  <Override PartName="/ppt/media/image16.pct" ContentType="image/x-pict"/>
  <Override PartName="/ppt/media/image15.png" ContentType="image/png"/>
  <Override PartName="/ppt/media/image14.png" ContentType="image/png"/>
  <Override PartName="/ppt/media/image6.pct" ContentType="image/x-pict"/>
  <Override PartName="/ppt/media/image1.jpeg" ContentType="image/jpeg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F3C-6350-4469-B59E-51A3E0D7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DB2-E3AA-4080-B340-FF2D390D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E08-2B2F-4023-B279-90230E5F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853-033C-44CE-AA53-FAF11D6E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5F2B-4AE9-4F4A-AD86-F1892441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A1FE-8EA7-47D1-A448-D2566BFE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E508-4214-4431-88E3-8BC5E774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172A-E8D2-470E-A78B-55EE494A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4666-C891-4E6B-94F0-E057A687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F0DE-ABF8-41C1-9BAE-3E2DF96B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E872-1269-4BDD-A3FD-F6CFB65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66F-46D3-4E4B-ADFD-B3E58106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7008-02A0-444D-B5DF-C00A69AB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0E37-DD53-48D9-B5EC-47CFD2B4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50F3-9680-4B7D-8502-FF5CE89B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0CE7-C59E-4236-BA1C-6071F4AB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94AF-E60F-4222-A81C-16FF7D40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46DD-D7F3-4363-8173-03461274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2F9-8F3B-494E-991F-C7E991B9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768-48E1-4CC4-B6DD-B712ED74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1F4-3284-4FB1-913D-7DB1ADB2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255-C28E-4214-B2D8-48E264EF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A61-A2A0-448A-9867-761A3C00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089-6B92-4DFF-B25D-92EB4B46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D349-C000-4DDE-AEE6-C5BC30A41356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5BED-7707-4E61-9904-5187C017D7CB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pct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27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792468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Staff Scheduling at USPS Mail Processing &amp; Distribution Centers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52560" y="37339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ase Study Using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teger Programming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hift Optimization Mode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ad9b"/>
                </a:solidFill>
                <a:latin typeface="Times New Roman"/>
              </a:rPr>
              <a:t>Minimize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(Full time costs + Part time cos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ad9b"/>
                </a:solidFill>
                <a:latin typeface="Times New Roman"/>
              </a:rPr>
              <a:t>Subject t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1. Cover all time periods during the week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2. Ensure sufficient lunch breaks are assigned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. Adhere to days off requiremen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4. Meet other labor rules and polici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22" name="PE01561_" descr=""/>
          <p:cNvPicPr/>
          <p:nvPr/>
        </p:nvPicPr>
        <p:blipFill>
          <a:blip r:embed="rId2"/>
          <a:stretch/>
        </p:blipFill>
        <p:spPr>
          <a:xfrm>
            <a:off x="6553080" y="1905120"/>
            <a:ext cx="23623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ortion of IP Mode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19320" y="1828800"/>
          <a:ext cx="7124760" cy="458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828800"/>
                    <a:ext cx="712476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ize of Typical Staff 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lanning Mode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2109960"/>
            <a:ext cx="811044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umber of Constraints = 1100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umber of Integer Variables = 1500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umber of Logic Variables = 336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olution Times: seconds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year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ost-Processor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04840" y="1904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ys-Off Schedulin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Greedy algorithm for assigning days off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mall integer program for 2-days off in a row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unch Break Assignment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ransportation proble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Greedy algorith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ask Assignment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ulti-commodity network flow proble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abu search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odeling Issu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ime to run, # of runs, how ofte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Users and their skill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GUI sophistica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raining requiremen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Version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Help desk availabil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o Is The Customer 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USPS Headquarter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705040"/>
            <a:ext cx="62485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racting Office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3295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acility Manager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3943440"/>
            <a:ext cx="69343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acility Industrial Engineer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457200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formation Technology Manage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verybody Wants Something Mor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adquarter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– Implementation in 9 months system-wid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tracting Officer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00264c"/>
                </a:solidFill>
                <a:latin typeface="Times New Roman"/>
              </a:rPr>
              <a:t>Statement of Work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is just a starting point (don’t expect any more money, though, for additional work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4419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lant Manager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– More modeling featur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5105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T Manager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– It will take years to provide the data you wa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odel “Creep”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6212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10-hour shifts, 4-day a week schedul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ome schedules 2 days off in row, others not necessar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Worker assignments during the da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t least “X” workers per shif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o more than 1 shift every “Y” hour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totype written in OPL Studio to demonstrate concep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3124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Web Access – Jav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3809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PLEX is optimization engin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1600 variables (all integer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1500 constraint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410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wo Test Sites – Dallas and Philadelph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51" name="j0282606" descr=""/>
          <p:cNvPicPr/>
          <p:nvPr/>
        </p:nvPicPr>
        <p:blipFill>
          <a:blip r:embed="rId6"/>
          <a:stretch/>
        </p:blipFill>
        <p:spPr>
          <a:xfrm>
            <a:off x="7010280" y="228600"/>
            <a:ext cx="176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S Men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2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General Observ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90920" y="1828440"/>
            <a:ext cx="6248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mpanies and organizations that build, or make use of the latest technology in their business practices, rarely make use of the latest technology in planning and scheduling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6" name="BS00580_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1981080" cy="1670040"/>
          </a:xfrm>
          <a:prstGeom prst="rect">
            <a:avLst/>
          </a:prstGeom>
          <a:ln w="0">
            <a:noFill/>
          </a:ln>
        </p:spPr>
      </p:pic>
      <p:pic>
        <p:nvPicPr>
          <p:cNvPr id="97" name="PE01616_" descr=""/>
          <p:cNvPicPr/>
          <p:nvPr/>
        </p:nvPicPr>
        <p:blipFill>
          <a:blip r:embed="rId3"/>
          <a:stretch/>
        </p:blipFill>
        <p:spPr>
          <a:xfrm>
            <a:off x="5181480" y="4419720"/>
            <a:ext cx="213372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orkstation Se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utput Repor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717480" y="1905120"/>
            <a:ext cx="7708680" cy="4570200"/>
            <a:chOff x="717480" y="1905120"/>
            <a:chExt cx="7708680" cy="4570200"/>
          </a:xfrm>
        </p:grpSpPr>
        <p:grpSp>
          <p:nvGrpSpPr>
            <p:cNvPr id="259" name=""/>
            <p:cNvGrpSpPr/>
            <p:nvPr/>
          </p:nvGrpSpPr>
          <p:grpSpPr>
            <a:xfrm>
              <a:off x="722160" y="1908000"/>
              <a:ext cx="7699320" cy="4564080"/>
              <a:chOff x="722160" y="1908000"/>
              <a:chExt cx="7699320" cy="456408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722160" y="1908000"/>
                <a:ext cx="1222200" cy="729720"/>
                <a:chOff x="722160" y="1908000"/>
                <a:chExt cx="1222200" cy="7297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790560" y="1908000"/>
                  <a:ext cx="1085760" cy="72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22160" y="1908000"/>
                  <a:ext cx="1222200" cy="72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1944360" y="1908000"/>
                <a:ext cx="1108080" cy="729720"/>
                <a:chOff x="1944360" y="1908000"/>
                <a:chExt cx="1108080" cy="7297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012760" y="1908000"/>
                  <a:ext cx="971640" cy="72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Number of constraints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944360" y="1908000"/>
                  <a:ext cx="1108080" cy="72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052440" y="1908000"/>
                <a:ext cx="974880" cy="729720"/>
                <a:chOff x="3052440" y="1908000"/>
                <a:chExt cx="974880" cy="7297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20840" y="1908000"/>
                  <a:ext cx="838080" cy="72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Number of variables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052440" y="1908000"/>
                  <a:ext cx="974880" cy="72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027320" y="1908000"/>
                <a:ext cx="993960" cy="729720"/>
                <a:chOff x="4027320" y="1908000"/>
                <a:chExt cx="993960" cy="7297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095720" y="1908000"/>
                  <a:ext cx="857160" cy="72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Total cost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er week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027320" y="1908000"/>
                  <a:ext cx="993960" cy="72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021280" y="1908000"/>
                <a:ext cx="1069920" cy="729720"/>
                <a:chOff x="5021280" y="1908000"/>
                <a:chExt cx="1069920" cy="7297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089320" y="1908000"/>
                  <a:ext cx="933480" cy="72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Number of 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full-timers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021280" y="1908000"/>
                  <a:ext cx="1069920" cy="72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091200" y="1908000"/>
                <a:ext cx="1336680" cy="729720"/>
                <a:chOff x="6091200" y="1908000"/>
                <a:chExt cx="1336680" cy="7297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159240" y="1908000"/>
                  <a:ext cx="1200240" cy="72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Number  of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art-timers 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091200" y="1908000"/>
                  <a:ext cx="1336680" cy="72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427880" y="1908000"/>
                <a:ext cx="993600" cy="729720"/>
                <a:chOff x="7427880" y="1908000"/>
                <a:chExt cx="993600" cy="7297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495920" y="1908000"/>
                  <a:ext cx="857520" cy="72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% 2 days off in a row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427880" y="1908000"/>
                  <a:ext cx="993600" cy="72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22160" y="2637720"/>
                <a:ext cx="1222200" cy="588240"/>
                <a:chOff x="722160" y="2637720"/>
                <a:chExt cx="1222200" cy="5882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90560" y="2637720"/>
                  <a:ext cx="108576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Baseline  model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22160" y="2637720"/>
                  <a:ext cx="122220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944360" y="2637720"/>
                <a:ext cx="1108080" cy="588240"/>
                <a:chOff x="1944360" y="2637720"/>
                <a:chExt cx="1108080" cy="5882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012760" y="2637720"/>
                  <a:ext cx="97164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092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944360" y="2637720"/>
                  <a:ext cx="11080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052440" y="2637720"/>
                <a:ext cx="974880" cy="588240"/>
                <a:chOff x="3052440" y="2637720"/>
                <a:chExt cx="974880" cy="5882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120840" y="2637720"/>
                  <a:ext cx="83808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888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052440" y="2637720"/>
                  <a:ext cx="9748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027320" y="2637720"/>
                <a:ext cx="993960" cy="588240"/>
                <a:chOff x="4027320" y="2637720"/>
                <a:chExt cx="993960" cy="5882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095720" y="2637720"/>
                  <a:ext cx="85716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$96,280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27320" y="2637720"/>
                  <a:ext cx="99396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021280" y="2637720"/>
                <a:ext cx="1069920" cy="588240"/>
                <a:chOff x="5021280" y="2637720"/>
                <a:chExt cx="1069920" cy="5882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089320" y="2637720"/>
                  <a:ext cx="93348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01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021280" y="2637720"/>
                  <a:ext cx="106992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091200" y="2637720"/>
                <a:ext cx="1336680" cy="588240"/>
                <a:chOff x="6091200" y="2637720"/>
                <a:chExt cx="1336680" cy="5882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59240" y="2637720"/>
                  <a:ext cx="120024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091200" y="2637720"/>
                  <a:ext cx="13366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427880" y="2637720"/>
                <a:ext cx="993600" cy="588240"/>
                <a:chOff x="7427880" y="2637720"/>
                <a:chExt cx="993600" cy="5882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495920" y="2637720"/>
                  <a:ext cx="85752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68.9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427880" y="2637720"/>
                  <a:ext cx="99360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722160" y="3226320"/>
                <a:ext cx="1222200" cy="446040"/>
                <a:chOff x="722160" y="3226320"/>
                <a:chExt cx="1222200" cy="4460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790560" y="3226320"/>
                  <a:ext cx="10857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240" bIns="-1116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Ratio 3:1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22160" y="3226320"/>
                  <a:ext cx="1222200" cy="44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240" bIns="-1116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944360" y="3226320"/>
                <a:ext cx="1108080" cy="446040"/>
                <a:chOff x="1944360" y="3226320"/>
                <a:chExt cx="1108080" cy="4460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012760" y="3226320"/>
                  <a:ext cx="97164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240" bIns="-1116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092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944360" y="3226320"/>
                  <a:ext cx="1108080" cy="44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240" bIns="-1116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052440" y="3226320"/>
                <a:ext cx="974880" cy="446040"/>
                <a:chOff x="3052440" y="3226320"/>
                <a:chExt cx="974880" cy="4460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120840" y="3226320"/>
                  <a:ext cx="83808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240" bIns="-1116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888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052440" y="3226320"/>
                  <a:ext cx="974880" cy="44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240" bIns="-1116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027320" y="3226320"/>
                <a:ext cx="993960" cy="446040"/>
                <a:chOff x="4027320" y="3226320"/>
                <a:chExt cx="993960" cy="4460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095720" y="3226320"/>
                  <a:ext cx="8571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240" bIns="-1116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$95,040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027320" y="3226320"/>
                  <a:ext cx="993960" cy="44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240" bIns="-1116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021280" y="3226320"/>
                <a:ext cx="1069920" cy="446040"/>
                <a:chOff x="5021280" y="3226320"/>
                <a:chExt cx="1069920" cy="4460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089320" y="3226320"/>
                  <a:ext cx="93348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240" bIns="-1116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96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021280" y="3226320"/>
                  <a:ext cx="1069920" cy="44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240" bIns="-1116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091200" y="3226320"/>
                <a:ext cx="1336680" cy="446040"/>
                <a:chOff x="6091200" y="3226320"/>
                <a:chExt cx="1336680" cy="4460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159240" y="3226320"/>
                  <a:ext cx="120024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240" bIns="-1116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091200" y="3226320"/>
                  <a:ext cx="1336680" cy="44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240" bIns="-1116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7427880" y="3226320"/>
                <a:ext cx="993600" cy="446040"/>
                <a:chOff x="7427880" y="3226320"/>
                <a:chExt cx="993600" cy="4460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7495920" y="3226320"/>
                  <a:ext cx="85752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240" bIns="-1116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65.6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427880" y="3226320"/>
                  <a:ext cx="993600" cy="44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240" bIns="-1116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22160" y="3672360"/>
                <a:ext cx="1222200" cy="446400"/>
                <a:chOff x="722160" y="3672360"/>
                <a:chExt cx="1222200" cy="4464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90560" y="3672360"/>
                  <a:ext cx="1085760" cy="44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0" bIns="-10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Ratio 5:1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22160" y="3672360"/>
                  <a:ext cx="1222200" cy="44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0" bIns="-10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944360" y="3672360"/>
                <a:ext cx="1108080" cy="446400"/>
                <a:chOff x="1944360" y="3672360"/>
                <a:chExt cx="1108080" cy="446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012760" y="3672360"/>
                  <a:ext cx="971640" cy="44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0" bIns="-10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092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944360" y="3672360"/>
                  <a:ext cx="1108080" cy="44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0" bIns="-10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3052440" y="3672360"/>
                <a:ext cx="974880" cy="446400"/>
                <a:chOff x="3052440" y="3672360"/>
                <a:chExt cx="974880" cy="4464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120840" y="3672360"/>
                  <a:ext cx="838080" cy="44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0" bIns="-10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888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052440" y="3672360"/>
                  <a:ext cx="974880" cy="44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0" bIns="-10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027320" y="3672360"/>
                <a:ext cx="993960" cy="446400"/>
                <a:chOff x="4027320" y="3672360"/>
                <a:chExt cx="993960" cy="4464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095720" y="3672360"/>
                  <a:ext cx="857160" cy="44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0" bIns="-10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$97,880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027320" y="3672360"/>
                  <a:ext cx="993960" cy="44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0" bIns="-10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5021280" y="3672360"/>
                <a:ext cx="1069920" cy="446400"/>
                <a:chOff x="5021280" y="3672360"/>
                <a:chExt cx="1069920" cy="4464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089320" y="3672360"/>
                  <a:ext cx="933480" cy="44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0" bIns="-10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05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021280" y="3672360"/>
                  <a:ext cx="1069920" cy="44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0" bIns="-10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091200" y="3672360"/>
                <a:ext cx="1336680" cy="446400"/>
                <a:chOff x="6091200" y="3672360"/>
                <a:chExt cx="1336680" cy="4464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159240" y="3672360"/>
                  <a:ext cx="1200240" cy="44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0" bIns="-10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091200" y="3672360"/>
                  <a:ext cx="1336680" cy="44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0" bIns="-10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7427880" y="3672360"/>
                <a:ext cx="993600" cy="446400"/>
                <a:chOff x="7427880" y="3672360"/>
                <a:chExt cx="993600" cy="4464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7495920" y="3672360"/>
                  <a:ext cx="857520" cy="44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0" bIns="-10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63.5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427880" y="3672360"/>
                  <a:ext cx="993600" cy="44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0" bIns="-10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722160" y="4118760"/>
                <a:ext cx="1222200" cy="588240"/>
                <a:chOff x="722160" y="4118760"/>
                <a:chExt cx="1222200" cy="5882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790560" y="4118760"/>
                  <a:ext cx="108576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Consecutive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off-days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22160" y="4118760"/>
                  <a:ext cx="122220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944360" y="4118760"/>
                <a:ext cx="1108080" cy="588240"/>
                <a:chOff x="1944360" y="4118760"/>
                <a:chExt cx="1108080" cy="5882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012760" y="4118760"/>
                  <a:ext cx="97164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2127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944360" y="4118760"/>
                  <a:ext cx="11080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3052440" y="4118760"/>
                <a:ext cx="974880" cy="588240"/>
                <a:chOff x="3052440" y="4118760"/>
                <a:chExt cx="974880" cy="5882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120840" y="4118760"/>
                  <a:ext cx="83808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440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052440" y="4118760"/>
                  <a:ext cx="9748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027320" y="4118760"/>
                <a:ext cx="993960" cy="588240"/>
                <a:chOff x="4027320" y="4118760"/>
                <a:chExt cx="993960" cy="5882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095720" y="4118760"/>
                  <a:ext cx="85716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$103,600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027320" y="4118760"/>
                  <a:ext cx="99396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5021280" y="4118760"/>
                <a:ext cx="1069920" cy="588240"/>
                <a:chOff x="5021280" y="4118760"/>
                <a:chExt cx="1069920" cy="5882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5089320" y="4118760"/>
                  <a:ext cx="93348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08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021280" y="4118760"/>
                  <a:ext cx="106992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6091200" y="4118760"/>
                <a:ext cx="1336680" cy="588240"/>
                <a:chOff x="6091200" y="4118760"/>
                <a:chExt cx="1336680" cy="5882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159240" y="4118760"/>
                  <a:ext cx="120024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091200" y="4118760"/>
                  <a:ext cx="13366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7427880" y="4118760"/>
                <a:ext cx="993600" cy="588240"/>
                <a:chOff x="7427880" y="4118760"/>
                <a:chExt cx="993600" cy="5882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7495920" y="4118760"/>
                  <a:ext cx="85752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27880" y="4118760"/>
                  <a:ext cx="99360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722160" y="4707360"/>
                <a:ext cx="1222200" cy="588240"/>
                <a:chOff x="722160" y="4707360"/>
                <a:chExt cx="1222200" cy="5882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90560" y="4707360"/>
                  <a:ext cx="108576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6 hr/6 day workers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22160" y="4707360"/>
                  <a:ext cx="122220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1944360" y="4707360"/>
                <a:ext cx="1108080" cy="588240"/>
                <a:chOff x="1944360" y="4707360"/>
                <a:chExt cx="1108080" cy="5882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012760" y="4707360"/>
                  <a:ext cx="97164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140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944360" y="4707360"/>
                  <a:ext cx="11080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052440" y="4707360"/>
                <a:ext cx="974880" cy="588240"/>
                <a:chOff x="3052440" y="4707360"/>
                <a:chExt cx="974880" cy="5882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120840" y="4707360"/>
                  <a:ext cx="83808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936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052440" y="4707360"/>
                  <a:ext cx="9748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4027320" y="4707360"/>
                <a:ext cx="993960" cy="588240"/>
                <a:chOff x="4027320" y="4707360"/>
                <a:chExt cx="993960" cy="5882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095720" y="4707360"/>
                  <a:ext cx="85716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$95,952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027320" y="4707360"/>
                  <a:ext cx="99396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5021280" y="4707360"/>
                <a:ext cx="1069920" cy="588240"/>
                <a:chOff x="5021280" y="4707360"/>
                <a:chExt cx="1069920" cy="5882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089320" y="4707360"/>
                  <a:ext cx="93348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021280" y="4707360"/>
                  <a:ext cx="106992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6091200" y="4707360"/>
                <a:ext cx="1336680" cy="588240"/>
                <a:chOff x="6091200" y="4707360"/>
                <a:chExt cx="1336680" cy="5882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159240" y="4707360"/>
                  <a:ext cx="120024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091200" y="4707360"/>
                  <a:ext cx="13366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7427880" y="4707360"/>
                <a:ext cx="993600" cy="588240"/>
                <a:chOff x="7427880" y="4707360"/>
                <a:chExt cx="993600" cy="5882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7495920" y="4707360"/>
                  <a:ext cx="85752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72.4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427880" y="4707360"/>
                  <a:ext cx="99360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722160" y="5295600"/>
                <a:ext cx="1222200" cy="588240"/>
                <a:chOff x="722160" y="5295600"/>
                <a:chExt cx="1222200" cy="5882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90560" y="5295600"/>
                  <a:ext cx="108576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Variable start time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22160" y="5295600"/>
                  <a:ext cx="122220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944360" y="5295600"/>
                <a:ext cx="1108080" cy="588240"/>
                <a:chOff x="1944360" y="5295600"/>
                <a:chExt cx="1108080" cy="5882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012760" y="5295600"/>
                  <a:ext cx="97164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684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944360" y="5295600"/>
                  <a:ext cx="11080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3052440" y="5295600"/>
                <a:ext cx="974880" cy="588240"/>
                <a:chOff x="3052440" y="5295600"/>
                <a:chExt cx="974880" cy="5882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3120840" y="5295600"/>
                  <a:ext cx="83808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837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052440" y="5295600"/>
                  <a:ext cx="9748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4027320" y="5295600"/>
                <a:ext cx="993960" cy="588240"/>
                <a:chOff x="4027320" y="5295600"/>
                <a:chExt cx="993960" cy="588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4095720" y="5295600"/>
                  <a:ext cx="85716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$95,800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027320" y="5295600"/>
                  <a:ext cx="99396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5021280" y="5295600"/>
                <a:ext cx="1069920" cy="588240"/>
                <a:chOff x="5021280" y="5295600"/>
                <a:chExt cx="1069920" cy="5882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5089320" y="5295600"/>
                  <a:ext cx="93348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01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021280" y="5295600"/>
                  <a:ext cx="106992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6091200" y="5295600"/>
                <a:ext cx="1336680" cy="588240"/>
                <a:chOff x="6091200" y="5295600"/>
                <a:chExt cx="1336680" cy="5882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6159240" y="5295600"/>
                  <a:ext cx="120024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091200" y="5295600"/>
                  <a:ext cx="13366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427880" y="5295600"/>
                <a:ext cx="993600" cy="588240"/>
                <a:chOff x="7427880" y="5295600"/>
                <a:chExt cx="993600" cy="5882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7495920" y="5295600"/>
                  <a:ext cx="85752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62.1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427880" y="5295600"/>
                  <a:ext cx="99360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722160" y="5883840"/>
                <a:ext cx="1222200" cy="588240"/>
                <a:chOff x="722160" y="5883840"/>
                <a:chExt cx="1222200" cy="5882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790560" y="5883840"/>
                  <a:ext cx="108576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Part-time flexible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22160" y="5883840"/>
                  <a:ext cx="122220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1944360" y="5883840"/>
                <a:ext cx="1108080" cy="588240"/>
                <a:chOff x="1944360" y="5883840"/>
                <a:chExt cx="1108080" cy="5882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012760" y="5883840"/>
                  <a:ext cx="97164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092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944360" y="5883840"/>
                  <a:ext cx="11080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052440" y="5883840"/>
                <a:ext cx="974880" cy="588240"/>
                <a:chOff x="3052440" y="5883840"/>
                <a:chExt cx="974880" cy="5882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120840" y="5883840"/>
                  <a:ext cx="83808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308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052440" y="5883840"/>
                  <a:ext cx="9748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4027320" y="5883840"/>
                <a:ext cx="993960" cy="588240"/>
                <a:chOff x="4027320" y="5883840"/>
                <a:chExt cx="993960" cy="5882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4095720" y="5883840"/>
                  <a:ext cx="85716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$94,976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027320" y="5883840"/>
                  <a:ext cx="99396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021280" y="5883840"/>
                <a:ext cx="1069920" cy="588240"/>
                <a:chOff x="5021280" y="5883840"/>
                <a:chExt cx="1069920" cy="588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089320" y="5883840"/>
                  <a:ext cx="93348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021280" y="5883840"/>
                  <a:ext cx="106992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091200" y="5883840"/>
                <a:ext cx="1336680" cy="588240"/>
                <a:chOff x="6091200" y="5883840"/>
                <a:chExt cx="1336680" cy="5882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159240" y="5883840"/>
                  <a:ext cx="120024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--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091200" y="5883840"/>
                  <a:ext cx="133668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7427880" y="5883840"/>
                <a:ext cx="993600" cy="588240"/>
                <a:chOff x="7427880" y="5883840"/>
                <a:chExt cx="993600" cy="5882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7495920" y="5883840"/>
                  <a:ext cx="857520" cy="58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72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64c"/>
                      </a:solidFill>
                      <a:latin typeface="Times New Roman"/>
                      <a:ea typeface="Times New Roman"/>
                    </a:rPr>
                    <a:t>67.8</a:t>
                  </a: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427880" y="5883840"/>
                  <a:ext cx="993600" cy="58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7200" bIns="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>
              <a:off x="717480" y="1905120"/>
              <a:ext cx="7708680" cy="4570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7200" bIns="46800" anchor="ctr" anchorCtr="1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putational Resul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arametric Analysi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762120" y="2133720"/>
          <a:ext cx="7619760" cy="4190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133720"/>
                    <a:ext cx="761976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enefits of Flexibili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990720" y="1981080"/>
          <a:ext cx="7086600" cy="439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981080"/>
                    <a:ext cx="708660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bservations and Less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 Customer is Not Always Righ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ometimes a Good Product will Sell Itself but it Pays to Have a Champ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3962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on’t Expect the Customer to Understand his Business from Your Point of View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ata are Always a Proble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bservations and Lessons (cont.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o not Try to Explain Optimization to Anyone Who Does not Have an Advanced Degr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2133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obody Reads Manuals so Make Sure the Interfaces are Simple and Clea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457200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However, Don’t Underestimate the Intuition of the Custome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kill Categorie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598bbd"/>
                </a:solidFill>
                <a:uFillTx/>
                <a:latin typeface="Wingdings"/>
                <a:ea typeface="Wingdings"/>
                <a:hlinkClick r:id="rId2" action="ppaction://hlinksldjump"/>
              </a:rPr>
              <a:t>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0516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1773360" y="1752480"/>
            <a:ext cx="559584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rvice Area in Ci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312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4100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rocessing &amp; Distribution Center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3880" y="1752480"/>
          <a:ext cx="6324840" cy="460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752480"/>
                    <a:ext cx="6324840" cy="46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934320" y="3429000"/>
            <a:ext cx="53316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3429000"/>
            <a:ext cx="137160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743200"/>
            <a:ext cx="0" cy="38088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USPS Scheduling Probl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124080"/>
            <a:ext cx="1565280" cy="709560"/>
          </a:xfrm>
          <a:prstGeom prst="rect">
            <a:avLst/>
          </a:prstGeom>
          <a:solidFill>
            <a:srgbClr val="ffffe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4720" y="3124080"/>
            <a:ext cx="1119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3320" y="3100320"/>
            <a:ext cx="1567080" cy="709560"/>
          </a:xfrm>
          <a:prstGeom prst="rect">
            <a:avLst/>
          </a:prstGeom>
          <a:solidFill>
            <a:srgbClr val="ffffe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3124080"/>
            <a:ext cx="1190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ff schedule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8560" y="2395440"/>
            <a:ext cx="2158560" cy="30528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y configuratio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2280" y="3038400"/>
            <a:ext cx="1207800" cy="30528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l arriv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9400" y="3289320"/>
            <a:ext cx="1041480" cy="30528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les &amp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8000" y="3540240"/>
            <a:ext cx="765720" cy="30528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0880" y="3581280"/>
            <a:ext cx="808560" cy="61020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e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6720" y="2708280"/>
            <a:ext cx="1800" cy="2937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02440" y="2994120"/>
            <a:ext cx="88920" cy="106200"/>
          </a:xfrm>
          <a:custGeom>
            <a:avLst/>
            <a:gdLst/>
            <a:ahLst/>
            <a:rect l="l" t="t" r="r" b="b"/>
            <a:pathLst>
              <a:path w="56" h="67">
                <a:moveTo>
                  <a:pt x="56" y="0"/>
                </a:moveTo>
                <a:lnTo>
                  <a:pt x="28" y="67"/>
                </a:lnTo>
                <a:lnTo>
                  <a:pt x="0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96840" y="2144880"/>
            <a:ext cx="1460880" cy="30528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on rules &amp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53720" y="2395440"/>
            <a:ext cx="1349640" cy="30528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polici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429000"/>
            <a:ext cx="68580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4343400"/>
          <a:ext cx="3048120" cy="20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4343400"/>
                    <a:ext cx="304812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411280" y="2144880"/>
            <a:ext cx="1657440" cy="30528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patterns &amp;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3124080"/>
            <a:ext cx="1452600" cy="61020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staff assignment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aff Planning and Scheduling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87320" y="1981080"/>
            <a:ext cx="47246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ong-term planning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: Fix size and composition of permanent workforc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49440" y="3168720"/>
            <a:ext cx="47242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d-term scheduling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: Determine days off and shift assignment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2540160" y="4394160"/>
            <a:ext cx="47750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-term scheduling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: Overtime, individual tasks, requests, part-timer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3378240" y="5530680"/>
            <a:ext cx="4788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al-time control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: Emergencies, absenteeism, and other disruptio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2006640" y="2825640"/>
            <a:ext cx="0" cy="35568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073320" y="4013280"/>
            <a:ext cx="0" cy="39348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3835440" y="5238720"/>
            <a:ext cx="0" cy="30492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6" name="Picture 16" descr="BS02064_"/>
          <p:cNvPicPr/>
          <p:nvPr/>
        </p:nvPicPr>
        <p:blipFill>
          <a:blip r:embed="rId2"/>
          <a:stretch/>
        </p:blipFill>
        <p:spPr>
          <a:xfrm>
            <a:off x="6807240" y="2077920"/>
            <a:ext cx="18064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ong-Term Staff Scheduling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tegori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ull-Time Regulars, Part-Time Regular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Part-Time Flexibl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16765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8bbd"/>
                </a:solidFill>
                <a:latin typeface="Times New Roman"/>
              </a:rPr>
              <a:t>Goal : Minimize labor cos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962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kill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(15 Categories)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598bbd"/>
                </a:solidFill>
                <a:uFillTx/>
                <a:latin typeface="Wingdings"/>
                <a:ea typeface="Wingdings"/>
                <a:hlinkClick r:id="rId4" action="ppaction://hlinksldjump"/>
              </a:rPr>
              <a:t>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5720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put Dat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Labor Requirements (1/2 hour increment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Labor Costs by Worker Typ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3680" y="151920"/>
            <a:ext cx="77724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odel Components for Long-Term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aff Scheduling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1840" y="3998880"/>
            <a:ext cx="1215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224400" y="4059360"/>
            <a:ext cx="941040" cy="630360"/>
            <a:chOff x="6224400" y="4059360"/>
            <a:chExt cx="941040" cy="630360"/>
          </a:xfrm>
        </p:grpSpPr>
        <p:sp>
          <p:nvSpPr>
            <p:cNvPr id="145" name=""/>
            <p:cNvSpPr/>
            <p:nvPr/>
          </p:nvSpPr>
          <p:spPr>
            <a:xfrm>
              <a:off x="6240960" y="4059360"/>
              <a:ext cx="92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47520" y="4269600"/>
              <a:ext cx="69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24400" y="447624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867280" y="2038320"/>
            <a:ext cx="141156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07680" y="2160720"/>
            <a:ext cx="1270440" cy="585720"/>
            <a:chOff x="6007680" y="2160720"/>
            <a:chExt cx="1270440" cy="585720"/>
          </a:xfrm>
        </p:grpSpPr>
        <p:sp>
          <p:nvSpPr>
            <p:cNvPr id="150" name=""/>
            <p:cNvSpPr/>
            <p:nvPr/>
          </p:nvSpPr>
          <p:spPr>
            <a:xfrm>
              <a:off x="6007680" y="2343960"/>
              <a:ext cx="127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mal amoun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008040" y="2160720"/>
              <a:ext cx="1082880" cy="585720"/>
              <a:chOff x="6008040" y="2160720"/>
              <a:chExt cx="1082880" cy="585720"/>
            </a:xfrm>
          </p:grpSpPr>
          <p:sp>
            <p:nvSpPr>
              <p:cNvPr id="152" name=""/>
              <p:cNvSpPr/>
              <p:nvPr/>
            </p:nvSpPr>
            <p:spPr>
              <a:xfrm>
                <a:off x="6009120" y="2160720"/>
                <a:ext cx="872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termine </a:t>
                </a:r>
                <a:endParaRPr b="0" lang="en-US" sz="1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08040" y="2532960"/>
                <a:ext cx="1082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equipmen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2060640" y="2038320"/>
            <a:ext cx="2080800" cy="703440"/>
            <a:chOff x="2060640" y="2038320"/>
            <a:chExt cx="2080800" cy="703440"/>
          </a:xfrm>
        </p:grpSpPr>
        <p:sp>
          <p:nvSpPr>
            <p:cNvPr id="155" name=""/>
            <p:cNvSpPr/>
            <p:nvPr/>
          </p:nvSpPr>
          <p:spPr>
            <a:xfrm>
              <a:off x="2060640" y="2038320"/>
              <a:ext cx="2080800" cy="70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1040" y="2082240"/>
              <a:ext cx="156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ily mail arrival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1040" y="2271600"/>
              <a:ext cx="192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l flow configura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02480" y="2466720"/>
              <a:ext cx="173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chine parameters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2133720" y="1752480"/>
            <a:ext cx="833400" cy="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262d4c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NPUT</a:t>
            </a:r>
            <a:endParaRPr b="0" i="1" lang="en-US" sz="2400" spc="1" strike="noStrike">
              <a:ln w="9360">
                <a:solidFill>
                  <a:srgbClr val="262d4c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2563920" y="3139920"/>
            <a:ext cx="107784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32320" y="320184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32680" y="3446640"/>
            <a:ext cx="96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or ratio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38480" y="3936960"/>
            <a:ext cx="129240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354480" y="3646440"/>
            <a:ext cx="88920" cy="231840"/>
            <a:chOff x="3354480" y="3646440"/>
            <a:chExt cx="88920" cy="231840"/>
          </a:xfrm>
        </p:grpSpPr>
        <p:sp>
          <p:nvSpPr>
            <p:cNvPr id="165" name=""/>
            <p:cNvSpPr/>
            <p:nvPr/>
          </p:nvSpPr>
          <p:spPr>
            <a:xfrm>
              <a:off x="3399480" y="3646440"/>
              <a:ext cx="1080" cy="176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54480" y="3822480"/>
              <a:ext cx="88920" cy="5580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30" y="0"/>
                  </a:moveTo>
                  <a:lnTo>
                    <a:pt x="0" y="0"/>
                  </a:lnTo>
                  <a:lnTo>
                    <a:pt x="30" y="72"/>
                  </a:lnTo>
                  <a:lnTo>
                    <a:pt x="5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119480" y="3646440"/>
            <a:ext cx="93600" cy="231840"/>
            <a:chOff x="4119480" y="3646440"/>
            <a:chExt cx="93600" cy="231840"/>
          </a:xfrm>
        </p:grpSpPr>
        <p:sp>
          <p:nvSpPr>
            <p:cNvPr id="168" name=""/>
            <p:cNvSpPr/>
            <p:nvPr/>
          </p:nvSpPr>
          <p:spPr>
            <a:xfrm>
              <a:off x="4167000" y="3646440"/>
              <a:ext cx="1800" cy="176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9480" y="3822480"/>
              <a:ext cx="93600" cy="5580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30" y="0"/>
                  </a:moveTo>
                  <a:lnTo>
                    <a:pt x="0" y="0"/>
                  </a:lnTo>
                  <a:lnTo>
                    <a:pt x="30" y="72"/>
                  </a:lnTo>
                  <a:lnTo>
                    <a:pt x="5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354480" y="4978440"/>
            <a:ext cx="93348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6160" y="5224320"/>
            <a:ext cx="65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off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8880" y="5040360"/>
            <a:ext cx="49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f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84640" y="2386080"/>
            <a:ext cx="1600200" cy="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410080" y="3124080"/>
            <a:ext cx="1149120" cy="520200"/>
            <a:chOff x="5410080" y="3124080"/>
            <a:chExt cx="1149120" cy="520200"/>
          </a:xfrm>
        </p:grpSpPr>
        <p:sp>
          <p:nvSpPr>
            <p:cNvPr id="175" name=""/>
            <p:cNvSpPr/>
            <p:nvPr/>
          </p:nvSpPr>
          <p:spPr>
            <a:xfrm>
              <a:off x="5697360" y="3177720"/>
              <a:ext cx="42840" cy="458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81360" y="3124080"/>
              <a:ext cx="1006560" cy="48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10080" y="3124080"/>
              <a:ext cx="1149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quipment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unts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855960" y="3139920"/>
            <a:ext cx="107784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99240" y="320184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pment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43880" y="3411360"/>
            <a:ext cx="80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2400" y="2773440"/>
            <a:ext cx="1440" cy="117936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819520"/>
            <a:ext cx="312408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933800" y="3324240"/>
            <a:ext cx="545760" cy="128160"/>
            <a:chOff x="4933800" y="3324240"/>
            <a:chExt cx="545760" cy="128160"/>
          </a:xfrm>
        </p:grpSpPr>
        <p:sp>
          <p:nvSpPr>
            <p:cNvPr id="184" name=""/>
            <p:cNvSpPr/>
            <p:nvPr/>
          </p:nvSpPr>
          <p:spPr>
            <a:xfrm>
              <a:off x="5064120" y="3388320"/>
              <a:ext cx="415440" cy="1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3800" y="3324240"/>
              <a:ext cx="130320" cy="12816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71" y="30"/>
                  </a:moveTo>
                  <a:lnTo>
                    <a:pt x="71" y="0"/>
                  </a:lnTo>
                  <a:lnTo>
                    <a:pt x="0" y="30"/>
                  </a:lnTo>
                  <a:lnTo>
                    <a:pt x="71" y="60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354480" y="5713560"/>
            <a:ext cx="93348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7400" y="5713560"/>
            <a:ext cx="10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rs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55600" y="5468760"/>
            <a:ext cx="1800" cy="2476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784680" y="4672080"/>
            <a:ext cx="71280" cy="248760"/>
            <a:chOff x="3784680" y="4672080"/>
            <a:chExt cx="71280" cy="248760"/>
          </a:xfrm>
        </p:grpSpPr>
        <p:sp>
          <p:nvSpPr>
            <p:cNvPr id="190" name=""/>
            <p:cNvSpPr/>
            <p:nvPr/>
          </p:nvSpPr>
          <p:spPr>
            <a:xfrm>
              <a:off x="3821040" y="4672080"/>
              <a:ext cx="1080" cy="202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4680" y="4874400"/>
              <a:ext cx="71280" cy="464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30" y="0"/>
                  </a:moveTo>
                  <a:lnTo>
                    <a:pt x="0" y="0"/>
                  </a:lnTo>
                  <a:lnTo>
                    <a:pt x="30" y="72"/>
                  </a:lnTo>
                  <a:lnTo>
                    <a:pt x="5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514600" y="2895480"/>
            <a:ext cx="833400" cy="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262d4c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NPUT</a:t>
            </a:r>
            <a:endParaRPr b="0" i="1" lang="en-US" sz="2400" spc="1" strike="noStrike">
              <a:ln w="9360">
                <a:solidFill>
                  <a:srgbClr val="262d4c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248520" y="3580920"/>
            <a:ext cx="0" cy="3812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1680" y="3962520"/>
            <a:ext cx="112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ptimization)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putational Flow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514600"/>
            <a:ext cx="914400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514600"/>
            <a:ext cx="914400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4720" y="3057480"/>
            <a:ext cx="341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067280" y="3049560"/>
            <a:ext cx="331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" y="2496960"/>
            <a:ext cx="89064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Input data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93920" y="2354400"/>
            <a:ext cx="10861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Optimization engine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21240" y="2367000"/>
            <a:ext cx="974520" cy="1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Initial output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53160" y="2386080"/>
            <a:ext cx="106524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Post-processing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42320" y="2446200"/>
            <a:ext cx="1187280" cy="1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Weekly schedules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3040" y="2770200"/>
            <a:ext cx="1244520" cy="65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Microsoft Excel</a:t>
            </a:r>
            <a:r>
              <a:rPr b="0" lang="en-US" sz="1000" spc="-1" strike="noStrike" baseline="30000">
                <a:solidFill>
                  <a:srgbClr val="00264c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Spreadsheets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44760" y="2809800"/>
            <a:ext cx="84132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CPLEX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59560" y="2703600"/>
            <a:ext cx="1255680" cy="7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Days-off scheduling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(Visual Basic)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27720" y="2766960"/>
            <a:ext cx="879480" cy="6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Times New Roman"/>
              </a:rPr>
              <a:t>FT, PT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(Visual Basic)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09880" y="2759040"/>
            <a:ext cx="1038240" cy="65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OPL Studio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(ILOG)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5320" y="2657520"/>
            <a:ext cx="109368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Staff levels and shifts  (FT, PT)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59280" y="4452840"/>
            <a:ext cx="125748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Breaks 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64c"/>
                </a:solidFill>
                <a:latin typeface="Arial"/>
              </a:rPr>
              <a:t>(OPL Studio)</a:t>
            </a: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984920" y="3459240"/>
            <a:ext cx="14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84920" y="4754520"/>
            <a:ext cx="779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34040" y="4754520"/>
            <a:ext cx="68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716960" y="3429000"/>
            <a:ext cx="1440" cy="13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33640" y="2233440"/>
            <a:ext cx="1057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Modeling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3048120"/>
            <a:ext cx="30456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3048120"/>
            <a:ext cx="30456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3048120"/>
            <a:ext cx="15228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56:01Z</dcterms:created>
  <dc:creator>Jonathan Bard</dc:creator>
  <dc:description/>
  <dc:language>en-US</dc:language>
  <cp:lastModifiedBy>Jonathan Bard</cp:lastModifiedBy>
  <cp:lastPrinted>2002-12-20T15:05:04Z</cp:lastPrinted>
  <dcterms:modified xsi:type="dcterms:W3CDTF">2009-09-28T18:59:14Z</dcterms:modified>
  <cp:revision>78</cp:revision>
  <dc:subject/>
  <dc:title>From Model Development to Implementation: Increasing the Chances for Success </dc:title>
</cp:coreProperties>
</file>