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112B-BC28-4740-8E5F-0821D12B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6EC-B0AD-4C28-B793-39463C8B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E01-F8AE-4346-AD4C-BDED7215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8DD-F6A6-4228-82C6-22B6CC5C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7AC-28CC-43C1-B763-69C7E8FA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4F0-A8E7-4652-9136-1495E08E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E46-5EDC-41A5-B2D2-677CB17D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CCD-E13C-4A5C-84A1-5A268F09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F82-22EB-4BF5-B962-648D0D05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648-2040-4569-8174-DE84DAB9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326-948D-463C-91A4-B9AC4963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35D-40A9-4695-8D42-0191A738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A278-5320-4C1F-96ED-9F43A5C55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ct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man Old Style"/>
              </a:rPr>
              <a:t>Linear Programming</a:t>
            </a: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General optimization mod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LP model and assumption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Manufacturing example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haracteristics of solutions 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nsitivity analysi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xcel add-ins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98400" y="152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Product Structure for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Manufacturing Example</a:t>
            </a:r>
            <a:endParaRPr b="0" lang="en-US" sz="28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89160" y="1235160"/>
            <a:ext cx="650880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06440" y="914400"/>
            <a:ext cx="22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achin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9040" y="4051440"/>
            <a:ext cx="22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duc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71720" y="4579920"/>
          <a:ext cx="6129360" cy="18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1720" y="4579920"/>
                    <a:ext cx="61293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257480" y="1405080"/>
          <a:ext cx="7376760" cy="24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7480" y="1405080"/>
                    <a:ext cx="737676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Data for Manufacturing Exampl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73480" y="468360"/>
            <a:ext cx="213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Data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73600" y="468360"/>
            <a:ext cx="16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468360"/>
            <a:ext cx="20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44800" y="1035000"/>
            <a:ext cx="2117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Selling price/un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35440" y="10382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45000" y="103824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17960" y="1359000"/>
            <a:ext cx="2808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Raw Material cost/un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35440" y="1351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05480" y="1351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60800" y="1674720"/>
            <a:ext cx="1962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Maximum sa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4960" y="166356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05480" y="16635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57880" y="1987560"/>
            <a:ext cx="231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Minutes/unit on 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35440" y="1981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05480" y="1981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00680" y="2301840"/>
            <a:ext cx="174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35440" y="22939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05480" y="22939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01400" y="2614680"/>
            <a:ext cx="169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35440" y="26067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70640" y="2606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01040" y="2927520"/>
            <a:ext cx="1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35440" y="29192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53000" y="29192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7840" y="3508200"/>
            <a:ext cx="5724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Machine Availability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2400 min/w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880" y="4287960"/>
            <a:ext cx="639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Operating Expense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$6,000/wk  (fixed c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2360" y="4819680"/>
            <a:ext cx="2614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Decision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37640" y="510372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74160" y="510372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80880" y="5303880"/>
            <a:ext cx="69105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# of units of product P to produce per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# of units of product Q to produce per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# of units of product R to produce per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29360" y="5462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66240" y="5462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74000" y="468360"/>
            <a:ext cx="166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18200" y="10382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953120" y="1351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953120" y="16635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53120" y="1981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53120" y="22939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48080" y="260676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26200" y="291924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99280" y="1981080"/>
            <a:ext cx="2120760" cy="1244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13680" y="359424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Structural coeffic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7569360" y="3301560"/>
            <a:ext cx="27936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72320" y="1347840"/>
            <a:ext cx="1505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max 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= 45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49480" y="142236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05640" y="13431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56120" y="142236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20560" y="134316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17920" y="13669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38880" y="1328760"/>
            <a:ext cx="1709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+ 50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– 6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89760" y="1339920"/>
            <a:ext cx="75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26040" y="1309680"/>
            <a:ext cx="199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Objectiv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11080" y="1736640"/>
            <a:ext cx="31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47200" y="1704960"/>
            <a:ext cx="512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20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24040" y="1676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49480" y="178596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05640" y="17049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56120" y="178596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728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61360" y="167940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5760" y="1704960"/>
            <a:ext cx="64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2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47200" y="2017800"/>
            <a:ext cx="512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2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49480" y="20970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05640" y="20178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56120" y="20970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97960" y="2017800"/>
            <a:ext cx="12747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28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Q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+ 16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61360" y="199080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5760" y="2017800"/>
            <a:ext cx="64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2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47200" y="2328840"/>
            <a:ext cx="512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5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24040" y="22986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49480" y="2408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05640" y="23288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56120" y="2408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94440" y="2328840"/>
            <a:ext cx="11437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6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Q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+ 16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67080" y="235116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64240" y="230184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63680" y="2328840"/>
            <a:ext cx="64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2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47200" y="2639880"/>
            <a:ext cx="512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0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24040" y="26100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49480" y="27194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05640" y="2639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56120" y="27194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99400" y="2639880"/>
            <a:ext cx="12031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5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Q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+  0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67080" y="26640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64240" y="261288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63680" y="2639880"/>
            <a:ext cx="64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2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65000" y="2994120"/>
            <a:ext cx="154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720" y="3770280"/>
            <a:ext cx="1746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re we do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48560" y="3749760"/>
            <a:ext cx="147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nonnega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22800" y="1327320"/>
            <a:ext cx="1800" cy="237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173640" y="1376280"/>
            <a:ext cx="378000" cy="130320"/>
            <a:chOff x="6173640" y="1376280"/>
            <a:chExt cx="378000" cy="130320"/>
          </a:xfrm>
        </p:grpSpPr>
        <p:sp>
          <p:nvSpPr>
            <p:cNvPr id="236" name=""/>
            <p:cNvSpPr/>
            <p:nvPr/>
          </p:nvSpPr>
          <p:spPr>
            <a:xfrm flipH="1">
              <a:off x="6302520" y="1443240"/>
              <a:ext cx="24912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3640" y="1376280"/>
              <a:ext cx="136800" cy="130320"/>
            </a:xfrm>
            <a:custGeom>
              <a:avLst/>
              <a:gdLst/>
              <a:ahLst/>
              <a:rect l="l" t="t" r="r" b="b"/>
              <a:pathLst>
                <a:path w="86" h="82">
                  <a:moveTo>
                    <a:pt x="86" y="0"/>
                  </a:moveTo>
                  <a:lnTo>
                    <a:pt x="0" y="42"/>
                  </a:lnTo>
                  <a:lnTo>
                    <a:pt x="86" y="8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022800" y="1781280"/>
            <a:ext cx="1800" cy="10713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180120" y="1785960"/>
            <a:ext cx="379440" cy="128520"/>
            <a:chOff x="6180120" y="1785960"/>
            <a:chExt cx="379440" cy="128520"/>
          </a:xfrm>
        </p:grpSpPr>
        <p:sp>
          <p:nvSpPr>
            <p:cNvPr id="240" name=""/>
            <p:cNvSpPr/>
            <p:nvPr/>
          </p:nvSpPr>
          <p:spPr>
            <a:xfrm flipH="1">
              <a:off x="6310440" y="1847880"/>
              <a:ext cx="249120" cy="32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80120" y="1785960"/>
              <a:ext cx="136440" cy="128520"/>
            </a:xfrm>
            <a:custGeom>
              <a:avLst/>
              <a:gdLst/>
              <a:ahLst/>
              <a:rect l="l" t="t" r="r" b="b"/>
              <a:pathLst>
                <a:path w="86" h="81">
                  <a:moveTo>
                    <a:pt x="86" y="0"/>
                  </a:moveTo>
                  <a:lnTo>
                    <a:pt x="0" y="41"/>
                  </a:lnTo>
                  <a:lnTo>
                    <a:pt x="86" y="8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6828840" y="173196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Struc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11920" y="2000160"/>
            <a:ext cx="119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26040" y="3033720"/>
            <a:ext cx="1800" cy="237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226200" y="3079800"/>
            <a:ext cx="377280" cy="128520"/>
            <a:chOff x="6226200" y="3079800"/>
            <a:chExt cx="377280" cy="128520"/>
          </a:xfrm>
        </p:grpSpPr>
        <p:sp>
          <p:nvSpPr>
            <p:cNvPr id="246" name=""/>
            <p:cNvSpPr/>
            <p:nvPr/>
          </p:nvSpPr>
          <p:spPr>
            <a:xfrm flipH="1">
              <a:off x="6356160" y="3146400"/>
              <a:ext cx="24732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26200" y="3079800"/>
              <a:ext cx="136440" cy="128520"/>
            </a:xfrm>
            <a:custGeom>
              <a:avLst/>
              <a:gdLst/>
              <a:ahLst/>
              <a:rect l="l" t="t" r="r" b="b"/>
              <a:pathLst>
                <a:path w="86" h="81">
                  <a:moveTo>
                    <a:pt x="86" y="0"/>
                  </a:moveTo>
                  <a:lnTo>
                    <a:pt x="0" y="42"/>
                  </a:lnTo>
                  <a:lnTo>
                    <a:pt x="86" y="8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170760" y="3795840"/>
            <a:ext cx="377640" cy="129960"/>
            <a:chOff x="6170760" y="3795840"/>
            <a:chExt cx="377640" cy="129960"/>
          </a:xfrm>
        </p:grpSpPr>
        <p:sp>
          <p:nvSpPr>
            <p:cNvPr id="249" name=""/>
            <p:cNvSpPr/>
            <p:nvPr/>
          </p:nvSpPr>
          <p:spPr>
            <a:xfrm flipH="1">
              <a:off x="6299280" y="3859200"/>
              <a:ext cx="249120" cy="32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70760" y="3795840"/>
              <a:ext cx="136440" cy="129960"/>
            </a:xfrm>
            <a:custGeom>
              <a:avLst/>
              <a:gdLst/>
              <a:ahLst/>
              <a:rect l="l" t="t" r="r" b="b"/>
              <a:pathLst>
                <a:path w="86" h="82">
                  <a:moveTo>
                    <a:pt x="86" y="0"/>
                  </a:moveTo>
                  <a:lnTo>
                    <a:pt x="0" y="42"/>
                  </a:lnTo>
                  <a:lnTo>
                    <a:pt x="86" y="8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022800" y="3743280"/>
            <a:ext cx="1800" cy="2350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37360" y="3673440"/>
            <a:ext cx="26755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0, 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0, 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99120" y="2998800"/>
            <a:ext cx="295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100, 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40, 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97960" y="1697040"/>
            <a:ext cx="12747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0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Q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+ 10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20560" y="4395960"/>
            <a:ext cx="8170920" cy="1348560"/>
            <a:chOff x="520560" y="4395960"/>
            <a:chExt cx="8170920" cy="1348560"/>
          </a:xfrm>
        </p:grpSpPr>
        <p:sp>
          <p:nvSpPr>
            <p:cNvPr id="256" name=""/>
            <p:cNvSpPr/>
            <p:nvPr/>
          </p:nvSpPr>
          <p:spPr>
            <a:xfrm>
              <a:off x="5730840" y="4395960"/>
              <a:ext cx="29606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Bookman Old Style"/>
                </a:rPr>
                <a:t>Are the LP assump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Bookman Old Style"/>
                </a:rPr>
                <a:t>valid for this problem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0560" y="5359320"/>
              <a:ext cx="2176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Optimal sol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03600" y="5386320"/>
              <a:ext cx="11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61640" y="52927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62000" y="5500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99600" y="5319720"/>
              <a:ext cx="1459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=  81.82,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8080" y="5330880"/>
              <a:ext cx="12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98200" y="52671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98560" y="5462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23840" y="53802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77480" y="542592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23560" y="542592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68200" y="5319720"/>
              <a:ext cx="934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= 16.36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60880" y="5318280"/>
              <a:ext cx="12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Bookman Old Style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11000" y="52545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11000" y="54500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36640" y="536724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0640" y="541332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90720" y="5357880"/>
              <a:ext cx="570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man Old Style"/>
                </a:rPr>
                <a:t>=  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LP Formulation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54160" y="1454040"/>
            <a:ext cx="86342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Optimal objective value is $7,664 but when we subtract the weekly operating expenses of $6,000 we obtain a weekly profit of $1,66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1200" y="3030480"/>
            <a:ext cx="82155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achines A &amp; B are being used at maximum level and are </a:t>
            </a:r>
            <a:r>
              <a:rPr b="0" i="1" lang="en-US" sz="2800" spc="-1" strike="noStrike">
                <a:solidFill>
                  <a:srgbClr val="66ff66"/>
                </a:solidFill>
                <a:latin typeface="Bookman Old Style"/>
              </a:rPr>
              <a:t>bottlenecks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here is slack production capacity in Machines C &amp; 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17760" y="5400720"/>
            <a:ext cx="60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Bookman Old Style"/>
              </a:rPr>
              <a:t>How would we solve model using Excel Add-in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Discussion of Results for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Manufacturing Exampl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3800" y="57132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olution to Manufacturing Example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43000" y="1895400"/>
          <a:ext cx="8710560" cy="39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00" y="1895400"/>
                    <a:ext cx="871056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747000" y="1793880"/>
            <a:ext cx="732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 Graphical Solution Procedure  (LPs with 2 decision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02600" y="2117880"/>
            <a:ext cx="688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an be solved/viewed this wa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4680" y="2754360"/>
            <a:ext cx="21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2280" y="27590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63360" y="2754360"/>
            <a:ext cx="702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Plot each constraint as an equation and then decide wh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28520" y="3075120"/>
            <a:ext cx="542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de of the line is feasible (if it’s an inequalit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4680" y="3517920"/>
            <a:ext cx="21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2280" y="35226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49600" y="3517920"/>
            <a:ext cx="2943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nd the feasible re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4680" y="3956040"/>
            <a:ext cx="21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2280" y="39607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97480" y="3956040"/>
            <a:ext cx="440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Plot two iso-profit  (or iso-cost) 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4680" y="4398840"/>
            <a:ext cx="21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2280" y="4403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63640" y="4411800"/>
            <a:ext cx="77198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magine sliding the iso-profit line in the improving direction. The “last point touched” as the iso-profit line leaves the feasible region region is opti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Characteristics of Solutions to LP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Two-Dimensional Machine Scheduling Problem -- let </a:t>
            </a:r>
            <a:r>
              <a:rPr b="0" i="1" lang="en-US" sz="3600" spc="-1" strike="noStrike">
                <a:solidFill>
                  <a:srgbClr val="ffff00"/>
                </a:solidFill>
                <a:latin typeface="Bookman Old Style"/>
              </a:rPr>
              <a:t>x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Bookman Old Style"/>
              </a:rPr>
              <a:t>R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 = 60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300" name=""/>
          <p:cNvSpPr/>
          <p:nvPr/>
        </p:nvSpPr>
        <p:spPr>
          <a:xfrm>
            <a:off x="1334160" y="1805040"/>
            <a:ext cx="1505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max 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= 45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8720" y="189216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54880" y="18129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05360" y="189216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69800" y="181296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67160" y="1836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43120" y="1798560"/>
            <a:ext cx="9637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Q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+ 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45160" y="1809720"/>
            <a:ext cx="75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81440" y="1779480"/>
            <a:ext cx="199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Objectiv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60320" y="2295360"/>
            <a:ext cx="31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96440" y="2263680"/>
            <a:ext cx="512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20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73280" y="22352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98720" y="2344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54880" y="22636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05360" y="2344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67160" y="22874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35520" y="223848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30280" y="2263680"/>
            <a:ext cx="64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96440" y="2576520"/>
            <a:ext cx="512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2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8720" y="2655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54880" y="2576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05360" y="2655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92120" y="2576520"/>
            <a:ext cx="5356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28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35520" y="254952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30280" y="2576520"/>
            <a:ext cx="64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4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96440" y="2887560"/>
            <a:ext cx="512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5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73280" y="2857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8720" y="2967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54880" y="28875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05360" y="2967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88600" y="2887560"/>
            <a:ext cx="404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6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16320" y="2909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38760" y="286056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38200" y="2887560"/>
            <a:ext cx="64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20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96440" y="3198960"/>
            <a:ext cx="512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0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73280" y="3168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98720" y="327816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54880" y="31989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05360" y="327816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92120" y="3198960"/>
            <a:ext cx="5356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5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16320" y="3222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38760" y="317196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38200" y="3198960"/>
            <a:ext cx="64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2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20400" y="3578400"/>
            <a:ext cx="154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04320" y="4156200"/>
            <a:ext cx="147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nonnega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78560" y="1797120"/>
            <a:ext cx="1440" cy="237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729400" y="1846440"/>
            <a:ext cx="376920" cy="129960"/>
            <a:chOff x="5729400" y="1846440"/>
            <a:chExt cx="376920" cy="129960"/>
          </a:xfrm>
        </p:grpSpPr>
        <p:sp>
          <p:nvSpPr>
            <p:cNvPr id="347" name=""/>
            <p:cNvSpPr/>
            <p:nvPr/>
          </p:nvSpPr>
          <p:spPr>
            <a:xfrm flipH="1">
              <a:off x="5857560" y="1913040"/>
              <a:ext cx="248760" cy="10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29400" y="1846440"/>
              <a:ext cx="136440" cy="129960"/>
            </a:xfrm>
            <a:custGeom>
              <a:avLst/>
              <a:gdLst/>
              <a:ahLst/>
              <a:rect l="l" t="t" r="r" b="b"/>
              <a:pathLst>
                <a:path w="86" h="82">
                  <a:moveTo>
                    <a:pt x="86" y="0"/>
                  </a:moveTo>
                  <a:lnTo>
                    <a:pt x="0" y="42"/>
                  </a:lnTo>
                  <a:lnTo>
                    <a:pt x="86" y="8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5578560" y="2340000"/>
            <a:ext cx="1440" cy="10713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5735520" y="2344680"/>
            <a:ext cx="379440" cy="128520"/>
            <a:chOff x="5735520" y="2344680"/>
            <a:chExt cx="379440" cy="128520"/>
          </a:xfrm>
        </p:grpSpPr>
        <p:sp>
          <p:nvSpPr>
            <p:cNvPr id="351" name=""/>
            <p:cNvSpPr/>
            <p:nvPr/>
          </p:nvSpPr>
          <p:spPr>
            <a:xfrm flipH="1">
              <a:off x="5865840" y="2406600"/>
              <a:ext cx="249120" cy="32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35520" y="2344680"/>
              <a:ext cx="136440" cy="128520"/>
            </a:xfrm>
            <a:custGeom>
              <a:avLst/>
              <a:gdLst/>
              <a:ahLst/>
              <a:rect l="l" t="t" r="r" b="b"/>
              <a:pathLst>
                <a:path w="86" h="81">
                  <a:moveTo>
                    <a:pt x="86" y="0"/>
                  </a:moveTo>
                  <a:lnTo>
                    <a:pt x="0" y="41"/>
                  </a:lnTo>
                  <a:lnTo>
                    <a:pt x="86" y="8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6384240" y="22906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Struc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67320" y="2558880"/>
            <a:ext cx="119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81800" y="3618000"/>
            <a:ext cx="1440" cy="237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781600" y="3664080"/>
            <a:ext cx="377280" cy="128520"/>
            <a:chOff x="5781600" y="3664080"/>
            <a:chExt cx="377280" cy="128520"/>
          </a:xfrm>
        </p:grpSpPr>
        <p:sp>
          <p:nvSpPr>
            <p:cNvPr id="357" name=""/>
            <p:cNvSpPr/>
            <p:nvPr/>
          </p:nvSpPr>
          <p:spPr>
            <a:xfrm flipH="1">
              <a:off x="5911560" y="3730680"/>
              <a:ext cx="24732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81600" y="3664080"/>
              <a:ext cx="136440" cy="128520"/>
            </a:xfrm>
            <a:custGeom>
              <a:avLst/>
              <a:gdLst/>
              <a:ahLst/>
              <a:rect l="l" t="t" r="r" b="b"/>
              <a:pathLst>
                <a:path w="86" h="81">
                  <a:moveTo>
                    <a:pt x="86" y="0"/>
                  </a:moveTo>
                  <a:lnTo>
                    <a:pt x="0" y="42"/>
                  </a:lnTo>
                  <a:lnTo>
                    <a:pt x="86" y="8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726160" y="4202280"/>
            <a:ext cx="377640" cy="129960"/>
            <a:chOff x="5726160" y="4202280"/>
            <a:chExt cx="377640" cy="129960"/>
          </a:xfrm>
        </p:grpSpPr>
        <p:sp>
          <p:nvSpPr>
            <p:cNvPr id="360" name=""/>
            <p:cNvSpPr/>
            <p:nvPr/>
          </p:nvSpPr>
          <p:spPr>
            <a:xfrm flipH="1">
              <a:off x="5854680" y="4265640"/>
              <a:ext cx="249120" cy="32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26160" y="4202280"/>
              <a:ext cx="136440" cy="129960"/>
            </a:xfrm>
            <a:custGeom>
              <a:avLst/>
              <a:gdLst/>
              <a:ahLst/>
              <a:rect l="l" t="t" r="r" b="b"/>
              <a:pathLst>
                <a:path w="86" h="82">
                  <a:moveTo>
                    <a:pt x="86" y="0"/>
                  </a:moveTo>
                  <a:lnTo>
                    <a:pt x="0" y="42"/>
                  </a:lnTo>
                  <a:lnTo>
                    <a:pt x="86" y="8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5578560" y="4149720"/>
            <a:ext cx="1440" cy="2350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46200" y="4029120"/>
            <a:ext cx="18036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0, 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11640" y="3583080"/>
            <a:ext cx="2020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100, 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92120" y="2255760"/>
            <a:ext cx="5356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10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1450800" y="1289160"/>
          <a:ext cx="6737400" cy="481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0800" y="1289160"/>
                    <a:ext cx="673740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2240" y="220320"/>
            <a:ext cx="88819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Feasible Region for Manufacturing Exampl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91600" y="254160"/>
            <a:ext cx="84963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Iso-Profit Lines and Optimal Solution for Example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879560" y="1201680"/>
          <a:ext cx="5846760" cy="50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1201680"/>
                    <a:ext cx="584676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6120" y="1219320"/>
            <a:ext cx="79614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Most of the deterministic OR models can be formulated as mathematical program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"Program" in this context, has to do with a “plan” and not a computer program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9560" y="3151080"/>
            <a:ext cx="2890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Bookman Old Style"/>
              </a:rPr>
              <a:t>Mathematical Progra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71000" y="3638520"/>
            <a:ext cx="2574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Maximize / Minimiz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05800" y="3651120"/>
            <a:ext cx="18421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z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1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25640" y="4446720"/>
            <a:ext cx="1247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Subject 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6000" y="3900600"/>
            <a:ext cx="3816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Bookman Old Style"/>
              </a:rPr>
              <a:t>{</a:t>
            </a:r>
            <a:endParaRPr b="0" lang="en-US" sz="7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57000" y="453060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91560" y="417996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91560" y="446400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91560" y="474660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61120" y="4495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85240" y="3900600"/>
            <a:ext cx="3816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Bookman Old Style"/>
              </a:rPr>
              <a:t>}</a:t>
            </a:r>
            <a:endParaRPr b="0" lang="en-US" sz="7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87880" y="4459320"/>
            <a:ext cx="147636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i="1" lang="en-US" sz="2100" spc="-1" strike="noStrike" baseline="-25000">
                <a:solidFill>
                  <a:srgbClr val="ffffff"/>
                </a:solidFill>
                <a:latin typeface="Bookman Old Style"/>
              </a:rPr>
              <a:t>i 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,  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=1,…,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6880" y="5327640"/>
            <a:ext cx="2059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1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≥ 0,   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38760" y="4389480"/>
            <a:ext cx="16153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i="1" lang="en-US" sz="21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1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Deterministic OR Model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60120" y="2968560"/>
            <a:ext cx="1716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3.</a:t>
            </a: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  Infeasible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71760" y="2955960"/>
            <a:ext cx="416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easible region is empty; e.g., i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76800" y="3265560"/>
            <a:ext cx="232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onstraints inclu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01920" y="3587760"/>
            <a:ext cx="31147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6  and 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15480" y="4202280"/>
            <a:ext cx="1905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4.  </a:t>
            </a: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Unbounded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92280" y="4202280"/>
            <a:ext cx="174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Max  15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 7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4349880"/>
            <a:ext cx="2543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no finite optimal solu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21360" y="4525920"/>
            <a:ext cx="35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32480" y="1703520"/>
            <a:ext cx="358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2.  </a:t>
            </a: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Multiple optimal solution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68560" y="1716120"/>
            <a:ext cx="17658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Max  3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 3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704480" y="2039760"/>
            <a:ext cx="54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.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68840" y="2039760"/>
            <a:ext cx="10522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14840" y="1089000"/>
            <a:ext cx="328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1.  </a:t>
            </a:r>
            <a:r>
              <a:rPr b="0" lang="en-US" sz="2000" spc="-1" strike="noStrike">
                <a:solidFill>
                  <a:srgbClr val="ff9900"/>
                </a:solidFill>
                <a:latin typeface="Bookman Old Style"/>
              </a:rPr>
              <a:t>Unique Optimal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81960" y="60102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3640" y="5654520"/>
            <a:ext cx="758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: multiple optimal solutions occur in many practical (real-world) LP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26600" y="4554360"/>
            <a:ext cx="1090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Possible Outcomes of an LP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72960"/>
            <a:ext cx="798840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Example with Multiple Optimal Solution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596880" y="2050920"/>
            <a:ext cx="3314880" cy="350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1" name=""/>
          <p:cNvGraphicFramePr/>
          <p:nvPr/>
        </p:nvGraphicFramePr>
        <p:xfrm>
          <a:off x="4513320" y="2479680"/>
          <a:ext cx="4106880" cy="268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13320" y="2479680"/>
                    <a:ext cx="410688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1136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Bounded Objective Function with Unbound Feasible Region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63600" y="1822320"/>
            <a:ext cx="3598920" cy="351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5" name=""/>
          <p:cNvGraphicFramePr/>
          <p:nvPr/>
        </p:nvGraphicFramePr>
        <p:xfrm>
          <a:off x="4451400" y="2212920"/>
          <a:ext cx="4205160" cy="282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51400" y="2212920"/>
                    <a:ext cx="420516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695160" y="517680"/>
          <a:ext cx="2486160" cy="222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517680"/>
                    <a:ext cx="2486160" cy="22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47560" y="3774960"/>
          <a:ext cx="2619360" cy="2479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560" y="3774960"/>
                    <a:ext cx="2619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3536640" y="561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070520" y="249120"/>
            <a:ext cx="37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Inconsistent constraint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272120" y="3905280"/>
          <a:ext cx="2998800" cy="23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72120" y="3905280"/>
                    <a:ext cx="299880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4000680" y="3022560"/>
            <a:ext cx="4330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Constraint system allowing only nonpositive values for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and 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4040280" y="714240"/>
          <a:ext cx="2695320" cy="187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40280" y="714240"/>
                    <a:ext cx="269532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946080" y="701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8640" y="1292400"/>
            <a:ext cx="83282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Shadow Price (dual variable) on Constraint </a:t>
            </a:r>
            <a:r>
              <a:rPr b="0" i="1" lang="en-US" sz="2400" spc="-1" strike="noStrike">
                <a:solidFill>
                  <a:srgbClr val="ff9900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man Old Style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mount object function changes with </a:t>
            </a:r>
            <a:r>
              <a:rPr b="0" i="1" lang="en-US" sz="2400" spc="-1" strike="noStrike">
                <a:solidFill>
                  <a:srgbClr val="66ff66"/>
                </a:solidFill>
                <a:latin typeface="Bookman Old Style"/>
              </a:rPr>
              <a:t>unit</a:t>
            </a:r>
            <a:r>
              <a:rPr b="0" i="1" lang="en-US" sz="2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 RHS, </a:t>
            </a:r>
            <a:r>
              <a:rPr b="0" lang="en-US" sz="2400" spc="-1" strike="noStrike">
                <a:solidFill>
                  <a:srgbClr val="66ff66"/>
                </a:solidFill>
                <a:latin typeface="Bookman Old Style"/>
              </a:rPr>
              <a:t>all other coefficients held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Objective Function Coefficient Ra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lowable increase &amp; decrease for wh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urrent optimal solution is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RHS Ra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lowable increase &amp; decrease for which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hadow prices remain val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ensitivity Analysi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17160" y="31716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Solution to Manufacturing Example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43000" y="1844640"/>
          <a:ext cx="8710560" cy="39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00" y="1844640"/>
                    <a:ext cx="871056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247680" y="1135080"/>
          <a:ext cx="8813880" cy="530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1135080"/>
                    <a:ext cx="8813880" cy="53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7316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Sensitivity Analysis with Add-ins</a:t>
            </a:r>
            <a:endParaRPr b="0" lang="en-US" sz="28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0404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man Old Style"/>
              </a:rPr>
              <a:t>What You Should Know About Linear Programming</a:t>
            </a:r>
            <a:endParaRPr b="0" lang="en-US" sz="4400" spc="-1" strike="noStrike">
              <a:solidFill>
                <a:srgbClr val="ffff00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What the components of a problem are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How to formulate a problem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What the assumptions are underlying an LP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How to find a solution to a 2-dimensional problem graphically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ssible solutions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How to solve an LP with the Excel add-in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1520" y="1127160"/>
            <a:ext cx="86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76760" y="1127160"/>
            <a:ext cx="86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280" y="1241280"/>
            <a:ext cx="8391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•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1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are called </a:t>
            </a:r>
            <a:r>
              <a:rPr b="0" lang="en-US" sz="2600" spc="-1" strike="noStrike">
                <a:solidFill>
                  <a:srgbClr val="ff9900"/>
                </a:solidFill>
                <a:latin typeface="Bookman Old Style"/>
              </a:rPr>
              <a:t>decision variables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.  These are things that you contr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520" y="2602080"/>
            <a:ext cx="86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31400" y="1947960"/>
            <a:ext cx="4640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ookman Old Style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96880" y="2287440"/>
            <a:ext cx="22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96880" y="2631960"/>
            <a:ext cx="22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96880" y="2978280"/>
            <a:ext cx="22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99920" y="267192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28000" y="1947960"/>
            <a:ext cx="4640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ookman Old Style"/>
              </a:rPr>
              <a:t>}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77640" y="2589120"/>
            <a:ext cx="3265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0400" y="2602080"/>
            <a:ext cx="31780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are called </a:t>
            </a:r>
            <a:r>
              <a:rPr b="0" lang="en-US" sz="2600" spc="-1" strike="noStrike">
                <a:solidFill>
                  <a:srgbClr val="ff9900"/>
                </a:solidFill>
                <a:latin typeface="Bookman Old Style"/>
              </a:rPr>
              <a:t>structural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86320" y="3451320"/>
            <a:ext cx="6663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(or functional or technological) constrai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4162320"/>
            <a:ext cx="6588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•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≥ 0 are </a:t>
            </a:r>
            <a:r>
              <a:rPr b="0" lang="en-US" sz="2600" spc="-1" strike="noStrike">
                <a:solidFill>
                  <a:srgbClr val="ff9900"/>
                </a:solidFill>
                <a:latin typeface="Bookman Old Style"/>
              </a:rPr>
              <a:t>nonnegativity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constrai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9600" y="4903920"/>
            <a:ext cx="74534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•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f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) is the </a:t>
            </a:r>
            <a:r>
              <a:rPr b="0" lang="en-US" sz="2600" spc="-1" strike="noStrike">
                <a:solidFill>
                  <a:srgbClr val="ff9900"/>
                </a:solidFill>
                <a:latin typeface="Bookman Old Style"/>
              </a:rPr>
              <a:t>objective fun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000" y="2538360"/>
            <a:ext cx="298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8440"/>
            <a:ext cx="7772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Model Component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327560" y="1390680"/>
            <a:ext cx="279360" cy="1021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Bookman Old Style"/>
              </a:rPr>
              <a:t>( 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19600" y="1308240"/>
            <a:ext cx="67464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59120" y="146376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22920" y="1590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55880" y="1844640"/>
            <a:ext cx="4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55880" y="1957320"/>
            <a:ext cx="4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42000" y="22892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91160" y="2122560"/>
            <a:ext cx="13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0240" y="1854360"/>
            <a:ext cx="4119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A feasible solution   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29440" y="1862280"/>
            <a:ext cx="200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satisfies all t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20680" y="2494080"/>
            <a:ext cx="6185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constraints (both structural and nonnegativity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5320" y="3149640"/>
            <a:ext cx="777096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The objective function ranks the feasible solutions; call them 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30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30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, . . . , 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30000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. The optimal solution is the best among these. For a minimization objective, we have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z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* = min{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30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200" spc="-1" strike="noStrike" baseline="30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, . . . , </a:t>
            </a: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200" spc="-1" strike="noStrike" baseline="30000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}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55880" y="1730520"/>
            <a:ext cx="4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1390680"/>
            <a:ext cx="279720" cy="1021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Bookman Old Style"/>
              </a:rPr>
              <a:t>) 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0644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Feasibility and Optimality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78000" y="1295280"/>
            <a:ext cx="858816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 linear program is a special case of a mathematical program where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 and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…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re </a:t>
            </a:r>
            <a:r>
              <a:rPr b="1" lang="en-US" sz="2400" spc="-1" strike="noStrike">
                <a:solidFill>
                  <a:srgbClr val="00cc99"/>
                </a:solidFill>
                <a:latin typeface="Bookman Old Style"/>
              </a:rPr>
              <a:t>linea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0320" y="2495520"/>
            <a:ext cx="232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Linear Progra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6040" y="3135240"/>
            <a:ext cx="60782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aximize/Minimize 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• • •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7760" y="3998880"/>
            <a:ext cx="44420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bject to 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• • •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n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0280" y="3409920"/>
            <a:ext cx="435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Bookman Old Style"/>
              </a:rPr>
              <a:t>{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08960" y="3728880"/>
            <a:ext cx="212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42080" y="4052880"/>
            <a:ext cx="158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8960" y="4378320"/>
            <a:ext cx="212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5960" y="3422520"/>
            <a:ext cx="435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Bookman Old Style"/>
              </a:rPr>
              <a:t>}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62000" y="4075200"/>
            <a:ext cx="3024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50000" y="417204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08480" y="4049640"/>
            <a:ext cx="133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2040" y="4768920"/>
            <a:ext cx="2057040" cy="10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1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0" i="1" lang="en-US" sz="21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,   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1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0,   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= 1,…,</a:t>
            </a:r>
            <a:r>
              <a:rPr b="0" i="1" lang="en-US" sz="21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1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380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Linear Programming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84640" y="1482840"/>
            <a:ext cx="146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7640" y="1298520"/>
            <a:ext cx="81093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are called simple bound constraints</a:t>
            </a:r>
            <a:r>
              <a:rPr b="0" lang="en-US" sz="33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8320" y="2311560"/>
            <a:ext cx="7167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3300" spc="-1" strike="noStrike">
                <a:solidFill>
                  <a:srgbClr val="ffffff"/>
                </a:solidFill>
                <a:latin typeface="Bookman Old Style"/>
              </a:rPr>
              <a:t> = decision vector = "activity levels"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520" y="3198960"/>
            <a:ext cx="68072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Bookman Old Style"/>
              </a:rPr>
              <a:t>ij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Bookman Old Style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Bookman Old Style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are all know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goal is to find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=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,…,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Bookman Old Style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600" spc="-1" strike="noStrike" baseline="30000">
                <a:solidFill>
                  <a:srgbClr val="ffffff"/>
                </a:solidFill>
                <a:latin typeface="Bookman Old Style"/>
              </a:rPr>
              <a:t>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(the symbol “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n-US" sz="1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” mea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55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LP Model Components</a:t>
            </a:r>
            <a:endParaRPr b="0" lang="en-US" sz="36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52280" y="1827360"/>
            <a:ext cx="10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4440" y="1827360"/>
            <a:ext cx="2994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i) propor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52640" y="2625840"/>
            <a:ext cx="227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ii) addi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3880" y="2625840"/>
            <a:ext cx="1535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line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52640" y="3419640"/>
            <a:ext cx="254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iii) divi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52640" y="4218120"/>
            <a:ext cx="2374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iv) certai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5280" y="2379600"/>
            <a:ext cx="1800" cy="916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805280" y="2757600"/>
            <a:ext cx="685800" cy="164880"/>
            <a:chOff x="4805280" y="2757600"/>
            <a:chExt cx="685800" cy="164880"/>
          </a:xfrm>
        </p:grpSpPr>
        <p:sp>
          <p:nvSpPr>
            <p:cNvPr id="118" name=""/>
            <p:cNvSpPr/>
            <p:nvPr/>
          </p:nvSpPr>
          <p:spPr>
            <a:xfrm>
              <a:off x="4805280" y="2836800"/>
              <a:ext cx="54432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43480" y="2757600"/>
              <a:ext cx="147600" cy="164880"/>
            </a:xfrm>
            <a:custGeom>
              <a:avLst/>
              <a:gdLst/>
              <a:ahLst/>
              <a:rect l="l" t="t" r="r" b="b"/>
              <a:pathLst>
                <a:path w="93" h="104">
                  <a:moveTo>
                    <a:pt x="0" y="104"/>
                  </a:moveTo>
                  <a:lnTo>
                    <a:pt x="93" y="50"/>
                  </a:lnTo>
                  <a:lnTo>
                    <a:pt x="0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918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Linear Programming Assumption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62760" y="1332000"/>
            <a:ext cx="80107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(i) activity 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’s contribution to objective function is 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28920" y="2017800"/>
            <a:ext cx="48117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and usage in constraint 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is 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i="1" lang="en-US" sz="26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86400" y="2851200"/>
            <a:ext cx="6903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both are </a:t>
            </a:r>
            <a:r>
              <a:rPr b="0" lang="en-US" sz="2600" spc="-1" strike="noStrike">
                <a:solidFill>
                  <a:srgbClr val="ff9900"/>
                </a:solidFill>
                <a:latin typeface="Bookman Old Style"/>
              </a:rPr>
              <a:t>proportional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 to the level of activity 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3640" y="3613320"/>
            <a:ext cx="7640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(volume discounts, set-up charges, and nonlin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3990960"/>
            <a:ext cx="6991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efficiencies are potential sources of viol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4720" y="484668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32520" y="47815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32520" y="507204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32520" y="5057640"/>
            <a:ext cx="12204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1920" y="4821120"/>
            <a:ext cx="6823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no “cross terms” such as   </a:t>
            </a:r>
            <a:r>
              <a:rPr b="0" i="1" lang="en-US" sz="2600" spc="-1" strike="noStrike">
                <a:solidFill>
                  <a:srgbClr val="ffffff"/>
                </a:solidFill>
                <a:latin typeface="Bookman Old Style"/>
              </a:rPr>
              <a:t>x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man Old Style"/>
              </a:rPr>
              <a:t>5  </a:t>
            </a:r>
            <a:r>
              <a:rPr b="0" lang="en-US" sz="2600" spc="-1" strike="noStrike">
                <a:solidFill>
                  <a:srgbClr val="ffffff"/>
                </a:solidFill>
                <a:latin typeface="Bookman Old Style"/>
              </a:rPr>
              <a:t>may not appear in the objective or constrai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Explanation of LP Assumptions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680" y="1282680"/>
            <a:ext cx="930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ractional values for decision variables are per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7720" y="1981080"/>
            <a:ext cx="79218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iv)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ata elements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,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are </a:t>
            </a:r>
            <a:r>
              <a:rPr b="0" lang="en-US" sz="2400" spc="-1" strike="noStrike">
                <a:solidFill>
                  <a:srgbClr val="66ff66"/>
                </a:solidFill>
                <a:latin typeface="Bookman Old Style"/>
              </a:rPr>
              <a:t>know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with 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9800" y="3019320"/>
            <a:ext cx="837432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Nonlinea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or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integer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programming models should be used when some subset of assumptions (i), (ii) and (iii) are not satis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Stochastic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models should be used when a problem has significant uncertainties in the data that must be explicitly taken into account [a relaxation of assumption (iv)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840" y="388800"/>
            <a:ext cx="85010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man Old Style"/>
              </a:rPr>
              <a:t>Explanation of LP Assumptions (cont’d)</a:t>
            </a:r>
            <a:endParaRPr b="0" lang="en-US" sz="3200" spc="-1" strike="noStrike">
              <a:solidFill>
                <a:srgbClr val="ffff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20:16:11Z</dcterms:created>
  <dc:creator>ORIE Area Staff</dc:creator>
  <dc:description/>
  <dc:language>en-US</dc:language>
  <cp:lastModifiedBy>Jonathan Bard</cp:lastModifiedBy>
  <cp:lastPrinted>2000-01-06T21:31:49Z</cp:lastPrinted>
  <dcterms:modified xsi:type="dcterms:W3CDTF">2009-09-29T13:24:46Z</dcterms:modified>
  <cp:revision>137</cp:revision>
  <dc:subject/>
  <dc:title>No Slide Title</dc:title>
</cp:coreProperties>
</file>