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F709-4E7D-4954-AB43-E73FD7D26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075D-B116-4198-AB9E-33D4C1DB0E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ED94-6601-4A3C-BBEB-C060F30EE7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8A26-7A54-4944-8A82-5CDC906C34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BF88-21C4-4519-AF15-2FF0A9368A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A112-FE72-4F55-85DF-0229993ACF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B85C-62AD-49EA-9000-1E443CBB92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B4CC-56CA-41C2-9FA5-3C364FA36B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89C7-3962-4509-8FB7-1F51BA1C68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C8E6-8A0A-4ED3-BAAA-952F310091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16E9-5735-4FE5-9037-C252796987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2C0B-D96B-4AED-87BE-4D40E4C213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A8FA-6710-464D-9D19-BDF3D5B8FC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4EF3-2BD2-496D-ACF3-871D6FFF05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AF39-B382-4AF0-85D7-1B6CA1339E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DA66-0686-4E59-B154-2D4B9525EB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C0B6-CBFD-4894-8D08-43574AEC5B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415E-C19F-47E3-9AFA-4DF85DACAB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C19E-9D33-4A8E-8215-EF38FA7A3A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2F32-196C-4A1D-8FE7-5E5AFA3217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9B37-8D77-43D3-ACC1-E853100864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B1F3-2AB1-4F16-8863-8357C4AACA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71AA-AD15-4EC6-8CD5-C50FA32BBC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69EE-4020-454C-B2E8-79885B604A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5C11-1F88-4C9C-935D-9245436512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05B0-3E5E-4FF8-93FE-341E0D711D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3B68-BA4F-4637-A221-18D32289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7E53-25D3-4B79-BBB9-01DEBB6E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FA9E-E317-45F4-9764-58F16A2F0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E0C6-D2C4-4676-9EA0-B803E84EA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95FB-D24B-4A18-98BD-D7C5F0CF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26F8-DAB6-4E01-A13B-1919E185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DAD6-6626-4F7E-B9F4-6B4696DA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1113-DDD6-4798-94D0-2CCB6E4F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9220-8C37-4FFB-AC96-8E7FA1A3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71D0-7C3B-4CD1-B56A-6F6B7B2F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9FA0-0A62-48CA-BAC6-6268607F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9FF6-1FCD-4BC8-BB69-37213ABE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726B-CACA-4A51-9201-06C7D87F51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man Old Style"/>
              </a:rPr>
              <a:t>Lecture 14 – Queuing Networks</a:t>
            </a:r>
            <a:endParaRPr b="0" lang="en-US" sz="4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Description of Jackson networks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Equations for computing internal arrival rates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Examples: computation center, job shop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Non-Markovian networks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Simplification of Network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04920" y="11430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fter the net rate into each node is known, the network can be decomposed and each node treated as if it were an independent queuing system with Poisson in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228600" y="2590920"/>
            <a:ext cx="8686800" cy="38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4760" indent="-15433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Property 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: Consider a Jackson network comprising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nodes.  Let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N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denote a random variable indicating the number of jobs at node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(the number in the queue plus the number in service). Then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544760" indent="-154332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r{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N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n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, …,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N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n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m</a:t>
            </a:r>
            <a:r>
              <a:rPr b="0" i="1" lang="en-US" sz="12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} =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Pr{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}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4400" spc="-1" strike="noStrike" baseline="10000">
                <a:solidFill>
                  <a:srgbClr val="ffffff"/>
                </a:solidFill>
                <a:latin typeface="Bookman Old Style"/>
              </a:rPr>
              <a:t>…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Pr{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}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544760" indent="-15433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nd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544760" indent="-1543320">
              <a:lnSpc>
                <a:spcPct val="130000"/>
              </a:lnSpc>
              <a:tabLst>
                <a:tab algn="l" pos="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{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 for all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0, 1, … can be calculated using the equations for independent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/M/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en previous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Computation Center Example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380880" y="1143000"/>
            <a:ext cx="853452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00000"/>
              </a:lnSpc>
              <a:spcAft>
                <a:spcPts val="1925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A high performance computation center is composed of 3 work stations comprising: (1) input processors, (2) central computers, and (3) a print center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Aft>
                <a:spcPts val="1925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All jobs submitted must first pass through an input processor for error checking before moving on to a central processor 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80% go through and 20% are rejected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Aft>
                <a:spcPts val="1925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Of the jobs that pass through the central processor, 40% are routed to a printer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Jobs arrive randomly at the computation center at an average rate of 10/min.  To handle the load, each station may have several parallel processor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man Old Style"/>
              </a:rPr>
              <a:t>Data for the Computation Center</a:t>
            </a:r>
            <a:endParaRPr b="0" lang="en-US" sz="28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79" name="Rectangle 1027"/>
          <p:cNvSpPr/>
          <p:nvPr/>
        </p:nvSpPr>
        <p:spPr>
          <a:xfrm>
            <a:off x="457200" y="1219320"/>
            <a:ext cx="80773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We know from previous statistics that the time for the three steps have exponential distributions with means as follows: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10 seconds for an input process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5 seconds for a central process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70 seconds for a graphic process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All queues are assumed to have unlimited capacity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1028"/>
          <p:cNvSpPr/>
          <p:nvPr/>
        </p:nvSpPr>
        <p:spPr>
          <a:xfrm>
            <a:off x="457200" y="4648320"/>
            <a:ext cx="8305920" cy="17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man Old Style"/>
              </a:rPr>
              <a:t>Go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Model system as a Jackson network. Find the minimum number of processors of each type and compute the average time require for a job to pass through the system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Arrival Rate Computation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Using general equation: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indent="0">
              <a:lnSpc>
                <a:spcPct val="9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With 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= 3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= 10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= 0.8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3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= 0.4 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indent="0">
              <a:lnSpc>
                <a:spcPct val="9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we get: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indent="0" algn="ctr">
              <a:lnSpc>
                <a:spcPct val="9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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indent="0" algn="ctr">
              <a:lnSpc>
                <a:spcPct val="9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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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indent="0" algn="ctr">
              <a:lnSpc>
                <a:spcPct val="9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.4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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graphicFrame>
        <p:nvGraphicFramePr>
          <p:cNvPr id="183" name="Object 0"/>
          <p:cNvGraphicFramePr/>
          <p:nvPr/>
        </p:nvGraphicFramePr>
        <p:xfrm>
          <a:off x="3124080" y="2057400"/>
          <a:ext cx="2743200" cy="113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057400"/>
                    <a:ext cx="274320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I/O Data for the Computation Center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86" name="Rectangle 378"/>
          <p:cNvSpPr/>
          <p:nvPr/>
        </p:nvSpPr>
        <p:spPr>
          <a:xfrm>
            <a:off x="6381720" y="477684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267"/>
          <p:cNvSpPr/>
          <p:nvPr/>
        </p:nvSpPr>
        <p:spPr>
          <a:xfrm>
            <a:off x="4172400" y="1849320"/>
            <a:ext cx="645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269"/>
          <p:cNvSpPr/>
          <p:nvPr/>
        </p:nvSpPr>
        <p:spPr>
          <a:xfrm>
            <a:off x="5583240" y="1873080"/>
            <a:ext cx="1046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nt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287"/>
          <p:cNvSpPr/>
          <p:nvPr/>
        </p:nvSpPr>
        <p:spPr>
          <a:xfrm>
            <a:off x="951840" y="2317680"/>
            <a:ext cx="1994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a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Rectangle 289"/>
          <p:cNvSpPr/>
          <p:nvPr/>
        </p:nvSpPr>
        <p:spPr>
          <a:xfrm>
            <a:off x="3956400" y="2317680"/>
            <a:ext cx="117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291"/>
          <p:cNvSpPr/>
          <p:nvPr/>
        </p:nvSpPr>
        <p:spPr>
          <a:xfrm>
            <a:off x="5469120" y="2317680"/>
            <a:ext cx="117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293"/>
          <p:cNvSpPr/>
          <p:nvPr/>
        </p:nvSpPr>
        <p:spPr>
          <a:xfrm>
            <a:off x="7121160" y="2317680"/>
            <a:ext cx="832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298"/>
          <p:cNvSpPr/>
          <p:nvPr/>
        </p:nvSpPr>
        <p:spPr>
          <a:xfrm>
            <a:off x="933480" y="2911320"/>
            <a:ext cx="28627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ernal arrival rate,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302"/>
          <p:cNvSpPr/>
          <p:nvPr/>
        </p:nvSpPr>
        <p:spPr>
          <a:xfrm>
            <a:off x="4078440" y="2886120"/>
            <a:ext cx="866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/m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Rectangle 304"/>
          <p:cNvSpPr/>
          <p:nvPr/>
        </p:nvSpPr>
        <p:spPr>
          <a:xfrm>
            <a:off x="5889240" y="288612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306"/>
          <p:cNvSpPr/>
          <p:nvPr/>
        </p:nvSpPr>
        <p:spPr>
          <a:xfrm>
            <a:off x="7403760" y="288612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320"/>
          <p:cNvSpPr/>
          <p:nvPr/>
        </p:nvSpPr>
        <p:spPr>
          <a:xfrm>
            <a:off x="956520" y="3589200"/>
            <a:ext cx="24681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tal arrival rate,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324"/>
          <p:cNvSpPr/>
          <p:nvPr/>
        </p:nvSpPr>
        <p:spPr>
          <a:xfrm>
            <a:off x="4078440" y="3562200"/>
            <a:ext cx="866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/m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326"/>
          <p:cNvSpPr/>
          <p:nvPr/>
        </p:nvSpPr>
        <p:spPr>
          <a:xfrm>
            <a:off x="5656680" y="3562200"/>
            <a:ext cx="71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/m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328"/>
          <p:cNvSpPr/>
          <p:nvPr/>
        </p:nvSpPr>
        <p:spPr>
          <a:xfrm>
            <a:off x="7073280" y="356220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2/m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333"/>
          <p:cNvSpPr/>
          <p:nvPr/>
        </p:nvSpPr>
        <p:spPr>
          <a:xfrm>
            <a:off x="960120" y="4265640"/>
            <a:ext cx="18720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ice rate,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336"/>
          <p:cNvSpPr/>
          <p:nvPr/>
        </p:nvSpPr>
        <p:spPr>
          <a:xfrm>
            <a:off x="2482560" y="426564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337"/>
          <p:cNvSpPr/>
          <p:nvPr/>
        </p:nvSpPr>
        <p:spPr>
          <a:xfrm>
            <a:off x="4142160" y="4237200"/>
            <a:ext cx="71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/m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339"/>
          <p:cNvSpPr/>
          <p:nvPr/>
        </p:nvSpPr>
        <p:spPr>
          <a:xfrm>
            <a:off x="5592240" y="4237200"/>
            <a:ext cx="866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/m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341"/>
          <p:cNvSpPr/>
          <p:nvPr/>
        </p:nvSpPr>
        <p:spPr>
          <a:xfrm>
            <a:off x="6948000" y="4237200"/>
            <a:ext cx="1247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857/m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346"/>
          <p:cNvSpPr/>
          <p:nvPr/>
        </p:nvSpPr>
        <p:spPr>
          <a:xfrm>
            <a:off x="959040" y="4917960"/>
            <a:ext cx="28080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imum channels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350"/>
          <p:cNvSpPr/>
          <p:nvPr/>
        </p:nvSpPr>
        <p:spPr>
          <a:xfrm>
            <a:off x="4375080" y="491652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352"/>
          <p:cNvSpPr/>
          <p:nvPr/>
        </p:nvSpPr>
        <p:spPr>
          <a:xfrm>
            <a:off x="5889240" y="491652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354"/>
          <p:cNvSpPr/>
          <p:nvPr/>
        </p:nvSpPr>
        <p:spPr>
          <a:xfrm>
            <a:off x="7403760" y="491652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359"/>
          <p:cNvSpPr/>
          <p:nvPr/>
        </p:nvSpPr>
        <p:spPr>
          <a:xfrm>
            <a:off x="957600" y="5591160"/>
            <a:ext cx="24681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ffic intensity,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363"/>
          <p:cNvSpPr/>
          <p:nvPr/>
        </p:nvSpPr>
        <p:spPr>
          <a:xfrm>
            <a:off x="4154040" y="5649840"/>
            <a:ext cx="686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83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Rectangle 365"/>
          <p:cNvSpPr/>
          <p:nvPr/>
        </p:nvSpPr>
        <p:spPr>
          <a:xfrm>
            <a:off x="5668560" y="5649840"/>
            <a:ext cx="686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367"/>
          <p:cNvSpPr/>
          <p:nvPr/>
        </p:nvSpPr>
        <p:spPr>
          <a:xfrm>
            <a:off x="7183080" y="5649840"/>
            <a:ext cx="686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93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388"/>
          <p:cNvSpPr/>
          <p:nvPr/>
        </p:nvSpPr>
        <p:spPr>
          <a:xfrm>
            <a:off x="3886200" y="1752480"/>
            <a:ext cx="0" cy="4419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391"/>
          <p:cNvSpPr/>
          <p:nvPr/>
        </p:nvSpPr>
        <p:spPr>
          <a:xfrm>
            <a:off x="762120" y="1752480"/>
            <a:ext cx="7619760" cy="4419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392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Results for Computation Center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18" name="Rectangle 65"/>
          <p:cNvSpPr/>
          <p:nvPr/>
        </p:nvSpPr>
        <p:spPr>
          <a:xfrm>
            <a:off x="4276800" y="2489040"/>
            <a:ext cx="79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17"/>
          <p:cNvSpPr/>
          <p:nvPr/>
        </p:nvSpPr>
        <p:spPr>
          <a:xfrm>
            <a:off x="4087800" y="1600200"/>
            <a:ext cx="7920" cy="12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2840760" y="1741320"/>
            <a:ext cx="592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npu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4260960" y="1741320"/>
            <a:ext cx="822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entr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5805720" y="1741320"/>
            <a:ext cx="761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rint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29"/>
          <p:cNvSpPr/>
          <p:nvPr/>
        </p:nvSpPr>
        <p:spPr>
          <a:xfrm>
            <a:off x="1181160" y="2165400"/>
            <a:ext cx="960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easu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31"/>
          <p:cNvSpPr/>
          <p:nvPr/>
        </p:nvSpPr>
        <p:spPr>
          <a:xfrm>
            <a:off x="2633400" y="2165400"/>
            <a:ext cx="1070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rocess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33"/>
          <p:cNvSpPr/>
          <p:nvPr/>
        </p:nvSpPr>
        <p:spPr>
          <a:xfrm>
            <a:off x="4152600" y="2165400"/>
            <a:ext cx="1070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rocess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35"/>
          <p:cNvSpPr/>
          <p:nvPr/>
        </p:nvSpPr>
        <p:spPr>
          <a:xfrm>
            <a:off x="5809680" y="2165400"/>
            <a:ext cx="745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t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37"/>
          <p:cNvSpPr/>
          <p:nvPr/>
        </p:nvSpPr>
        <p:spPr>
          <a:xfrm>
            <a:off x="7281720" y="2165400"/>
            <a:ext cx="590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ot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43"/>
          <p:cNvSpPr/>
          <p:nvPr/>
        </p:nvSpPr>
        <p:spPr>
          <a:xfrm>
            <a:off x="1280160" y="2741760"/>
            <a:ext cx="801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odel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45"/>
          <p:cNvSpPr/>
          <p:nvPr/>
        </p:nvSpPr>
        <p:spPr>
          <a:xfrm>
            <a:off x="2768040" y="2741760"/>
            <a:ext cx="759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M/M/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76"/>
          <p:cNvSpPr/>
          <p:nvPr/>
        </p:nvSpPr>
        <p:spPr>
          <a:xfrm>
            <a:off x="1487880" y="3292560"/>
            <a:ext cx="23688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79"/>
          <p:cNvSpPr/>
          <p:nvPr/>
        </p:nvSpPr>
        <p:spPr>
          <a:xfrm>
            <a:off x="2820960" y="3351240"/>
            <a:ext cx="631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3.788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81"/>
          <p:cNvSpPr/>
          <p:nvPr/>
        </p:nvSpPr>
        <p:spPr>
          <a:xfrm>
            <a:off x="4340520" y="3351240"/>
            <a:ext cx="631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.267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83"/>
          <p:cNvSpPr/>
          <p:nvPr/>
        </p:nvSpPr>
        <p:spPr>
          <a:xfrm>
            <a:off x="5798880" y="3351240"/>
            <a:ext cx="771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12.02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85"/>
          <p:cNvSpPr/>
          <p:nvPr/>
        </p:nvSpPr>
        <p:spPr>
          <a:xfrm>
            <a:off x="7202520" y="3351240"/>
            <a:ext cx="771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16.077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91"/>
          <p:cNvSpPr/>
          <p:nvPr/>
        </p:nvSpPr>
        <p:spPr>
          <a:xfrm>
            <a:off x="1455480" y="3952800"/>
            <a:ext cx="3128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94"/>
          <p:cNvSpPr/>
          <p:nvPr/>
        </p:nvSpPr>
        <p:spPr>
          <a:xfrm>
            <a:off x="2820960" y="4013280"/>
            <a:ext cx="631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.379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96"/>
          <p:cNvSpPr/>
          <p:nvPr/>
        </p:nvSpPr>
        <p:spPr>
          <a:xfrm>
            <a:off x="4340520" y="4013280"/>
            <a:ext cx="631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.03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98"/>
          <p:cNvSpPr/>
          <p:nvPr/>
        </p:nvSpPr>
        <p:spPr>
          <a:xfrm>
            <a:off x="5859720" y="4013280"/>
            <a:ext cx="631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3.757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100"/>
          <p:cNvSpPr/>
          <p:nvPr/>
        </p:nvSpPr>
        <p:spPr>
          <a:xfrm>
            <a:off x="7263000" y="4013280"/>
            <a:ext cx="631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4.169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106"/>
          <p:cNvSpPr/>
          <p:nvPr/>
        </p:nvSpPr>
        <p:spPr>
          <a:xfrm>
            <a:off x="1493640" y="461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Rectangle 109"/>
          <p:cNvSpPr/>
          <p:nvPr/>
        </p:nvSpPr>
        <p:spPr>
          <a:xfrm>
            <a:off x="2820960" y="4675320"/>
            <a:ext cx="631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1.667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111"/>
          <p:cNvSpPr/>
          <p:nvPr/>
        </p:nvSpPr>
        <p:spPr>
          <a:xfrm>
            <a:off x="4340520" y="4675320"/>
            <a:ext cx="631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.40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113"/>
          <p:cNvSpPr/>
          <p:nvPr/>
        </p:nvSpPr>
        <p:spPr>
          <a:xfrm>
            <a:off x="5859720" y="4675320"/>
            <a:ext cx="631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3.73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115"/>
          <p:cNvSpPr/>
          <p:nvPr/>
        </p:nvSpPr>
        <p:spPr>
          <a:xfrm>
            <a:off x="7263000" y="4675320"/>
            <a:ext cx="631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5.80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Rectangle 121"/>
          <p:cNvSpPr/>
          <p:nvPr/>
        </p:nvSpPr>
        <p:spPr>
          <a:xfrm>
            <a:off x="1465560" y="5275440"/>
            <a:ext cx="2948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124"/>
          <p:cNvSpPr/>
          <p:nvPr/>
        </p:nvSpPr>
        <p:spPr>
          <a:xfrm>
            <a:off x="2820960" y="5335560"/>
            <a:ext cx="631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.167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126"/>
          <p:cNvSpPr/>
          <p:nvPr/>
        </p:nvSpPr>
        <p:spPr>
          <a:xfrm>
            <a:off x="4340520" y="5335560"/>
            <a:ext cx="631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.05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128"/>
          <p:cNvSpPr/>
          <p:nvPr/>
        </p:nvSpPr>
        <p:spPr>
          <a:xfrm>
            <a:off x="5859720" y="5335560"/>
            <a:ext cx="631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1.167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130"/>
          <p:cNvSpPr/>
          <p:nvPr/>
        </p:nvSpPr>
        <p:spPr>
          <a:xfrm>
            <a:off x="7263000" y="5335560"/>
            <a:ext cx="631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1.38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50"/>
          <p:cNvSpPr/>
          <p:nvPr/>
        </p:nvSpPr>
        <p:spPr>
          <a:xfrm>
            <a:off x="914400" y="2635200"/>
            <a:ext cx="7315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Rectangle 152"/>
          <p:cNvSpPr/>
          <p:nvPr/>
        </p:nvSpPr>
        <p:spPr>
          <a:xfrm>
            <a:off x="914400" y="1600200"/>
            <a:ext cx="7315200" cy="4343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Line 153"/>
          <p:cNvSpPr/>
          <p:nvPr/>
        </p:nvSpPr>
        <p:spPr>
          <a:xfrm>
            <a:off x="2376360" y="1600200"/>
            <a:ext cx="0" cy="434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154"/>
          <p:cNvSpPr/>
          <p:nvPr/>
        </p:nvSpPr>
        <p:spPr>
          <a:xfrm>
            <a:off x="4185720" y="2736720"/>
            <a:ext cx="759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M/M/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155"/>
          <p:cNvSpPr/>
          <p:nvPr/>
        </p:nvSpPr>
        <p:spPr>
          <a:xfrm>
            <a:off x="5819400" y="2736720"/>
            <a:ext cx="759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M/M/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Job Shop Example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838080" y="1143000"/>
            <a:ext cx="556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ookman Old Style"/>
              </a:rPr>
              <a:t>Scen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ree produ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our machines: A, B, C,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ach class takes different ro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2133720" y="3886200"/>
          <a:ext cx="6095880" cy="220968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Order 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Rou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0/m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-B-D-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0/m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-B-E-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0/m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-C-E-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Network for Shop Shop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160488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45820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Results for Job Shop Example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380880" y="1219320"/>
          <a:ext cx="8077320" cy="4876560"/>
        </p:xfrm>
        <a:graphic>
          <a:graphicData uri="http://schemas.openxmlformats.org/drawingml/2006/table">
            <a:tbl>
              <a:tblPr/>
              <a:tblGrid>
                <a:gridCol w="1300320"/>
                <a:gridCol w="1131840"/>
                <a:gridCol w="1128600"/>
                <a:gridCol w="1127160"/>
                <a:gridCol w="1128960"/>
                <a:gridCol w="1131840"/>
                <a:gridCol w="1128600"/>
              </a:tblGrid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as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d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/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/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/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/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8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9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9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6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9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4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2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.0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2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52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8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1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i="1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5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6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5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3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96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52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r>
                        <a:rPr b="1" i="1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7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System Performance Measure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228600" y="1447920"/>
            <a:ext cx="85345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Manufacturing lead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verage time a product spends in the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ummation of time spent in each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/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/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Work-in-process (WIP) inven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omputed from Little’s law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WIP = (lead time)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(order rat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Questions: Can we sum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in each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/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/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queue to get WIP 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457200" y="2057400"/>
            <a:ext cx="1212840" cy="7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18840" y="2133720"/>
            <a:ext cx="8038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In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ou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3535200" y="2181240"/>
            <a:ext cx="1049400" cy="45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3702600" y="2239920"/>
            <a:ext cx="799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Que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4743360" y="2092320"/>
            <a:ext cx="1670040" cy="69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4921200" y="2143080"/>
            <a:ext cx="84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4926600" y="2408400"/>
            <a:ext cx="1386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mechani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14"/>
          <p:cNvSpPr/>
          <p:nvPr/>
        </p:nvSpPr>
        <p:spPr>
          <a:xfrm>
            <a:off x="3351240" y="2255760"/>
            <a:ext cx="166680" cy="228600"/>
          </a:xfrm>
          <a:custGeom>
            <a:avLst/>
            <a:gdLst>
              <a:gd name="textAreaLeft" fmla="*/ 0 w 166680"/>
              <a:gd name="textAreaRight" fmla="*/ 167040 w 1666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5" h="125">
                <a:moveTo>
                  <a:pt x="0" y="125"/>
                </a:moveTo>
                <a:lnTo>
                  <a:pt x="125" y="61"/>
                </a:lnTo>
                <a:lnTo>
                  <a:pt x="0" y="0"/>
                </a:lnTo>
                <a:lnTo>
                  <a:pt x="0" y="125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" name="Group 96"/>
          <p:cNvGrpSpPr/>
          <p:nvPr/>
        </p:nvGrpSpPr>
        <p:grpSpPr>
          <a:xfrm>
            <a:off x="3263760" y="1822320"/>
            <a:ext cx="3377880" cy="1118880"/>
            <a:chOff x="3263760" y="1822320"/>
            <a:chExt cx="3377880" cy="1118880"/>
          </a:xfrm>
        </p:grpSpPr>
        <p:sp>
          <p:nvSpPr>
            <p:cNvPr id="59" name="Rectangle 16"/>
            <p:cNvSpPr/>
            <p:nvPr/>
          </p:nvSpPr>
          <p:spPr>
            <a:xfrm>
              <a:off x="3263760" y="1827000"/>
              <a:ext cx="10440" cy="7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Rectangle 17"/>
            <p:cNvSpPr/>
            <p:nvPr/>
          </p:nvSpPr>
          <p:spPr>
            <a:xfrm>
              <a:off x="3263760" y="1928880"/>
              <a:ext cx="10440" cy="7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Rectangle 18"/>
            <p:cNvSpPr/>
            <p:nvPr/>
          </p:nvSpPr>
          <p:spPr>
            <a:xfrm>
              <a:off x="3263760" y="2030400"/>
              <a:ext cx="10440" cy="7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19"/>
            <p:cNvSpPr/>
            <p:nvPr/>
          </p:nvSpPr>
          <p:spPr>
            <a:xfrm>
              <a:off x="3263760" y="2131920"/>
              <a:ext cx="1044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Rectangle 20"/>
            <p:cNvSpPr/>
            <p:nvPr/>
          </p:nvSpPr>
          <p:spPr>
            <a:xfrm>
              <a:off x="3263760" y="2235600"/>
              <a:ext cx="10440" cy="7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Rectangle 21"/>
            <p:cNvSpPr/>
            <p:nvPr/>
          </p:nvSpPr>
          <p:spPr>
            <a:xfrm>
              <a:off x="3263760" y="2337480"/>
              <a:ext cx="10440" cy="73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22"/>
            <p:cNvSpPr/>
            <p:nvPr/>
          </p:nvSpPr>
          <p:spPr>
            <a:xfrm>
              <a:off x="3263760" y="2439000"/>
              <a:ext cx="10440" cy="7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23"/>
            <p:cNvSpPr/>
            <p:nvPr/>
          </p:nvSpPr>
          <p:spPr>
            <a:xfrm>
              <a:off x="3263760" y="2542680"/>
              <a:ext cx="10440" cy="73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Rectangle 24"/>
            <p:cNvSpPr/>
            <p:nvPr/>
          </p:nvSpPr>
          <p:spPr>
            <a:xfrm>
              <a:off x="3263760" y="2643840"/>
              <a:ext cx="10440" cy="7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Rectangle 25"/>
            <p:cNvSpPr/>
            <p:nvPr/>
          </p:nvSpPr>
          <p:spPr>
            <a:xfrm>
              <a:off x="3263760" y="2745720"/>
              <a:ext cx="10440" cy="7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Rectangle 26"/>
            <p:cNvSpPr/>
            <p:nvPr/>
          </p:nvSpPr>
          <p:spPr>
            <a:xfrm>
              <a:off x="3263760" y="2849040"/>
              <a:ext cx="10440" cy="7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27"/>
            <p:cNvSpPr/>
            <p:nvPr/>
          </p:nvSpPr>
          <p:spPr>
            <a:xfrm>
              <a:off x="3285720" y="2931480"/>
              <a:ext cx="838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28"/>
            <p:cNvSpPr/>
            <p:nvPr/>
          </p:nvSpPr>
          <p:spPr>
            <a:xfrm>
              <a:off x="3400920" y="2931480"/>
              <a:ext cx="8352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Rectangle 29"/>
            <p:cNvSpPr/>
            <p:nvPr/>
          </p:nvSpPr>
          <p:spPr>
            <a:xfrm>
              <a:off x="3517920" y="2931480"/>
              <a:ext cx="838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Rectangle 30"/>
            <p:cNvSpPr/>
            <p:nvPr/>
          </p:nvSpPr>
          <p:spPr>
            <a:xfrm>
              <a:off x="3633120" y="2931480"/>
              <a:ext cx="8352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Rectangle 31"/>
            <p:cNvSpPr/>
            <p:nvPr/>
          </p:nvSpPr>
          <p:spPr>
            <a:xfrm>
              <a:off x="3747960" y="2931480"/>
              <a:ext cx="8604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Rectangle 32"/>
            <p:cNvSpPr/>
            <p:nvPr/>
          </p:nvSpPr>
          <p:spPr>
            <a:xfrm>
              <a:off x="3865320" y="2931480"/>
              <a:ext cx="8352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Rectangle 33"/>
            <p:cNvSpPr/>
            <p:nvPr/>
          </p:nvSpPr>
          <p:spPr>
            <a:xfrm>
              <a:off x="3980160" y="2931480"/>
              <a:ext cx="838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Rectangle 34"/>
            <p:cNvSpPr/>
            <p:nvPr/>
          </p:nvSpPr>
          <p:spPr>
            <a:xfrm>
              <a:off x="4097520" y="2931480"/>
              <a:ext cx="8352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Rectangle 35"/>
            <p:cNvSpPr/>
            <p:nvPr/>
          </p:nvSpPr>
          <p:spPr>
            <a:xfrm>
              <a:off x="4212720" y="2931480"/>
              <a:ext cx="838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Rectangle 36"/>
            <p:cNvSpPr/>
            <p:nvPr/>
          </p:nvSpPr>
          <p:spPr>
            <a:xfrm>
              <a:off x="4327920" y="2931480"/>
              <a:ext cx="838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Rectangle 37"/>
            <p:cNvSpPr/>
            <p:nvPr/>
          </p:nvSpPr>
          <p:spPr>
            <a:xfrm>
              <a:off x="4444920" y="2931480"/>
              <a:ext cx="838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38"/>
            <p:cNvSpPr/>
            <p:nvPr/>
          </p:nvSpPr>
          <p:spPr>
            <a:xfrm>
              <a:off x="4560120" y="2931480"/>
              <a:ext cx="838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Rectangle 39"/>
            <p:cNvSpPr/>
            <p:nvPr/>
          </p:nvSpPr>
          <p:spPr>
            <a:xfrm>
              <a:off x="4675320" y="2931480"/>
              <a:ext cx="856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Rectangle 40"/>
            <p:cNvSpPr/>
            <p:nvPr/>
          </p:nvSpPr>
          <p:spPr>
            <a:xfrm>
              <a:off x="4792320" y="2931480"/>
              <a:ext cx="838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Rectangle 41"/>
            <p:cNvSpPr/>
            <p:nvPr/>
          </p:nvSpPr>
          <p:spPr>
            <a:xfrm>
              <a:off x="4907520" y="2931480"/>
              <a:ext cx="838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Rectangle 42"/>
            <p:cNvSpPr/>
            <p:nvPr/>
          </p:nvSpPr>
          <p:spPr>
            <a:xfrm>
              <a:off x="5024520" y="2931480"/>
              <a:ext cx="838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43"/>
            <p:cNvSpPr/>
            <p:nvPr/>
          </p:nvSpPr>
          <p:spPr>
            <a:xfrm>
              <a:off x="5140080" y="2931480"/>
              <a:ext cx="838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Rectangle 44"/>
            <p:cNvSpPr/>
            <p:nvPr/>
          </p:nvSpPr>
          <p:spPr>
            <a:xfrm>
              <a:off x="5255280" y="2931480"/>
              <a:ext cx="838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Rectangle 45"/>
            <p:cNvSpPr/>
            <p:nvPr/>
          </p:nvSpPr>
          <p:spPr>
            <a:xfrm>
              <a:off x="5372280" y="2931480"/>
              <a:ext cx="838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Rectangle 46"/>
            <p:cNvSpPr/>
            <p:nvPr/>
          </p:nvSpPr>
          <p:spPr>
            <a:xfrm>
              <a:off x="5487480" y="2931480"/>
              <a:ext cx="838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Rectangle 47"/>
            <p:cNvSpPr/>
            <p:nvPr/>
          </p:nvSpPr>
          <p:spPr>
            <a:xfrm>
              <a:off x="5602680" y="2931480"/>
              <a:ext cx="856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Rectangle 48"/>
            <p:cNvSpPr/>
            <p:nvPr/>
          </p:nvSpPr>
          <p:spPr>
            <a:xfrm>
              <a:off x="5719680" y="2931480"/>
              <a:ext cx="838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Rectangle 49"/>
            <p:cNvSpPr/>
            <p:nvPr/>
          </p:nvSpPr>
          <p:spPr>
            <a:xfrm>
              <a:off x="5835240" y="2931480"/>
              <a:ext cx="838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Rectangle 50"/>
            <p:cNvSpPr/>
            <p:nvPr/>
          </p:nvSpPr>
          <p:spPr>
            <a:xfrm>
              <a:off x="5951880" y="2931480"/>
              <a:ext cx="838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Rectangle 51"/>
            <p:cNvSpPr/>
            <p:nvPr/>
          </p:nvSpPr>
          <p:spPr>
            <a:xfrm>
              <a:off x="6067440" y="2931480"/>
              <a:ext cx="838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Rectangle 52"/>
            <p:cNvSpPr/>
            <p:nvPr/>
          </p:nvSpPr>
          <p:spPr>
            <a:xfrm>
              <a:off x="6182640" y="2931480"/>
              <a:ext cx="838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53"/>
            <p:cNvSpPr/>
            <p:nvPr/>
          </p:nvSpPr>
          <p:spPr>
            <a:xfrm>
              <a:off x="6299640" y="2931480"/>
              <a:ext cx="838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54"/>
            <p:cNvSpPr/>
            <p:nvPr/>
          </p:nvSpPr>
          <p:spPr>
            <a:xfrm>
              <a:off x="6414840" y="2931480"/>
              <a:ext cx="838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55"/>
            <p:cNvSpPr/>
            <p:nvPr/>
          </p:nvSpPr>
          <p:spPr>
            <a:xfrm>
              <a:off x="6531840" y="2931480"/>
              <a:ext cx="838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Rectangle 56"/>
            <p:cNvSpPr/>
            <p:nvPr/>
          </p:nvSpPr>
          <p:spPr>
            <a:xfrm>
              <a:off x="6630480" y="2852280"/>
              <a:ext cx="11160" cy="75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Rectangle 57"/>
            <p:cNvSpPr/>
            <p:nvPr/>
          </p:nvSpPr>
          <p:spPr>
            <a:xfrm>
              <a:off x="6630480" y="2750400"/>
              <a:ext cx="11160" cy="7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Rectangle 58"/>
            <p:cNvSpPr/>
            <p:nvPr/>
          </p:nvSpPr>
          <p:spPr>
            <a:xfrm>
              <a:off x="6630480" y="2649240"/>
              <a:ext cx="11160" cy="73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Rectangle 59"/>
            <p:cNvSpPr/>
            <p:nvPr/>
          </p:nvSpPr>
          <p:spPr>
            <a:xfrm>
              <a:off x="6630480" y="2547360"/>
              <a:ext cx="11160" cy="7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Rectangle 60"/>
            <p:cNvSpPr/>
            <p:nvPr/>
          </p:nvSpPr>
          <p:spPr>
            <a:xfrm>
              <a:off x="6630480" y="2444040"/>
              <a:ext cx="11160" cy="73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Rectangle 61"/>
            <p:cNvSpPr/>
            <p:nvPr/>
          </p:nvSpPr>
          <p:spPr>
            <a:xfrm>
              <a:off x="6630480" y="2342160"/>
              <a:ext cx="11160" cy="7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Rectangle 62"/>
            <p:cNvSpPr/>
            <p:nvPr/>
          </p:nvSpPr>
          <p:spPr>
            <a:xfrm>
              <a:off x="6630480" y="2240280"/>
              <a:ext cx="11160" cy="7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Rectangle 63"/>
            <p:cNvSpPr/>
            <p:nvPr/>
          </p:nvSpPr>
          <p:spPr>
            <a:xfrm>
              <a:off x="6630480" y="2136960"/>
              <a:ext cx="11160" cy="7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Rectangle 64"/>
            <p:cNvSpPr/>
            <p:nvPr/>
          </p:nvSpPr>
          <p:spPr>
            <a:xfrm>
              <a:off x="6630480" y="2035440"/>
              <a:ext cx="11160" cy="7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Rectangle 65"/>
            <p:cNvSpPr/>
            <p:nvPr/>
          </p:nvSpPr>
          <p:spPr>
            <a:xfrm>
              <a:off x="6630480" y="1933560"/>
              <a:ext cx="11160" cy="7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Rectangle 66"/>
            <p:cNvSpPr/>
            <p:nvPr/>
          </p:nvSpPr>
          <p:spPr>
            <a:xfrm>
              <a:off x="6630480" y="1830240"/>
              <a:ext cx="11160" cy="75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Rectangle 67"/>
            <p:cNvSpPr/>
            <p:nvPr/>
          </p:nvSpPr>
          <p:spPr>
            <a:xfrm>
              <a:off x="6526440" y="1822320"/>
              <a:ext cx="838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Rectangle 68"/>
            <p:cNvSpPr/>
            <p:nvPr/>
          </p:nvSpPr>
          <p:spPr>
            <a:xfrm>
              <a:off x="6409440" y="1822320"/>
              <a:ext cx="8352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Rectangle 69"/>
            <p:cNvSpPr/>
            <p:nvPr/>
          </p:nvSpPr>
          <p:spPr>
            <a:xfrm>
              <a:off x="6294240" y="1822320"/>
              <a:ext cx="838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Rectangle 70"/>
            <p:cNvSpPr/>
            <p:nvPr/>
          </p:nvSpPr>
          <p:spPr>
            <a:xfrm>
              <a:off x="6176880" y="1822320"/>
              <a:ext cx="860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Rectangle 71"/>
            <p:cNvSpPr/>
            <p:nvPr/>
          </p:nvSpPr>
          <p:spPr>
            <a:xfrm>
              <a:off x="6062040" y="1822320"/>
              <a:ext cx="838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Rectangle 72"/>
            <p:cNvSpPr/>
            <p:nvPr/>
          </p:nvSpPr>
          <p:spPr>
            <a:xfrm>
              <a:off x="5946480" y="1822320"/>
              <a:ext cx="838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Rectangle 73"/>
            <p:cNvSpPr/>
            <p:nvPr/>
          </p:nvSpPr>
          <p:spPr>
            <a:xfrm>
              <a:off x="5829840" y="1822320"/>
              <a:ext cx="8352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Rectangle 74"/>
            <p:cNvSpPr/>
            <p:nvPr/>
          </p:nvSpPr>
          <p:spPr>
            <a:xfrm>
              <a:off x="5714280" y="1822320"/>
              <a:ext cx="838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Rectangle 75"/>
            <p:cNvSpPr/>
            <p:nvPr/>
          </p:nvSpPr>
          <p:spPr>
            <a:xfrm>
              <a:off x="5599080" y="1822320"/>
              <a:ext cx="838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Rectangle 76"/>
            <p:cNvSpPr/>
            <p:nvPr/>
          </p:nvSpPr>
          <p:spPr>
            <a:xfrm>
              <a:off x="5482080" y="1822320"/>
              <a:ext cx="838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Rectangle 77"/>
            <p:cNvSpPr/>
            <p:nvPr/>
          </p:nvSpPr>
          <p:spPr>
            <a:xfrm>
              <a:off x="5366880" y="1822320"/>
              <a:ext cx="838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Rectangle 78"/>
            <p:cNvSpPr/>
            <p:nvPr/>
          </p:nvSpPr>
          <p:spPr>
            <a:xfrm>
              <a:off x="5249880" y="1822320"/>
              <a:ext cx="856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Rectangle 79"/>
            <p:cNvSpPr/>
            <p:nvPr/>
          </p:nvSpPr>
          <p:spPr>
            <a:xfrm>
              <a:off x="5134680" y="1822320"/>
              <a:ext cx="838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Rectangle 80"/>
            <p:cNvSpPr/>
            <p:nvPr/>
          </p:nvSpPr>
          <p:spPr>
            <a:xfrm>
              <a:off x="5019120" y="1822320"/>
              <a:ext cx="838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Rectangle 81"/>
            <p:cNvSpPr/>
            <p:nvPr/>
          </p:nvSpPr>
          <p:spPr>
            <a:xfrm>
              <a:off x="4902120" y="1822320"/>
              <a:ext cx="838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Rectangle 82"/>
            <p:cNvSpPr/>
            <p:nvPr/>
          </p:nvSpPr>
          <p:spPr>
            <a:xfrm>
              <a:off x="4786920" y="1822320"/>
              <a:ext cx="838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Rectangle 83"/>
            <p:cNvSpPr/>
            <p:nvPr/>
          </p:nvSpPr>
          <p:spPr>
            <a:xfrm>
              <a:off x="4671720" y="1822320"/>
              <a:ext cx="838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Rectangle 84"/>
            <p:cNvSpPr/>
            <p:nvPr/>
          </p:nvSpPr>
          <p:spPr>
            <a:xfrm>
              <a:off x="4554720" y="1822320"/>
              <a:ext cx="838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Rectangle 85"/>
            <p:cNvSpPr/>
            <p:nvPr/>
          </p:nvSpPr>
          <p:spPr>
            <a:xfrm>
              <a:off x="4439520" y="1822320"/>
              <a:ext cx="838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Rectangle 86"/>
            <p:cNvSpPr/>
            <p:nvPr/>
          </p:nvSpPr>
          <p:spPr>
            <a:xfrm>
              <a:off x="4322520" y="1822320"/>
              <a:ext cx="856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Rectangle 87"/>
            <p:cNvSpPr/>
            <p:nvPr/>
          </p:nvSpPr>
          <p:spPr>
            <a:xfrm>
              <a:off x="4207320" y="1822320"/>
              <a:ext cx="838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Rectangle 88"/>
            <p:cNvSpPr/>
            <p:nvPr/>
          </p:nvSpPr>
          <p:spPr>
            <a:xfrm>
              <a:off x="4091760" y="1822320"/>
              <a:ext cx="838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Rectangle 89"/>
            <p:cNvSpPr/>
            <p:nvPr/>
          </p:nvSpPr>
          <p:spPr>
            <a:xfrm>
              <a:off x="3974760" y="1822320"/>
              <a:ext cx="838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Rectangle 90"/>
            <p:cNvSpPr/>
            <p:nvPr/>
          </p:nvSpPr>
          <p:spPr>
            <a:xfrm>
              <a:off x="3859560" y="1822320"/>
              <a:ext cx="838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Rectangle 91"/>
            <p:cNvSpPr/>
            <p:nvPr/>
          </p:nvSpPr>
          <p:spPr>
            <a:xfrm>
              <a:off x="3744720" y="1822320"/>
              <a:ext cx="8352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Rectangle 92"/>
            <p:cNvSpPr/>
            <p:nvPr/>
          </p:nvSpPr>
          <p:spPr>
            <a:xfrm>
              <a:off x="3627360" y="1822320"/>
              <a:ext cx="838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Rectangle 93"/>
            <p:cNvSpPr/>
            <p:nvPr/>
          </p:nvSpPr>
          <p:spPr>
            <a:xfrm>
              <a:off x="3512520" y="1822320"/>
              <a:ext cx="8352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Rectangle 94"/>
            <p:cNvSpPr/>
            <p:nvPr/>
          </p:nvSpPr>
          <p:spPr>
            <a:xfrm>
              <a:off x="3395160" y="1822320"/>
              <a:ext cx="860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Rectangle 95"/>
            <p:cNvSpPr/>
            <p:nvPr/>
          </p:nvSpPr>
          <p:spPr>
            <a:xfrm>
              <a:off x="3279600" y="1822320"/>
              <a:ext cx="838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Rectangle 97"/>
          <p:cNvSpPr/>
          <p:nvPr/>
        </p:nvSpPr>
        <p:spPr>
          <a:xfrm>
            <a:off x="1676520" y="2133720"/>
            <a:ext cx="1258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98"/>
          <p:cNvSpPr/>
          <p:nvPr/>
        </p:nvSpPr>
        <p:spPr>
          <a:xfrm>
            <a:off x="1847160" y="1981080"/>
            <a:ext cx="94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Arriv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99"/>
          <p:cNvSpPr/>
          <p:nvPr/>
        </p:nvSpPr>
        <p:spPr>
          <a:xfrm>
            <a:off x="1846440" y="2362320"/>
            <a:ext cx="1254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ustom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Group 102"/>
          <p:cNvGrpSpPr/>
          <p:nvPr/>
        </p:nvGrpSpPr>
        <p:grpSpPr>
          <a:xfrm>
            <a:off x="6413400" y="2311920"/>
            <a:ext cx="837360" cy="172440"/>
            <a:chOff x="6413400" y="2311920"/>
            <a:chExt cx="837360" cy="172440"/>
          </a:xfrm>
        </p:grpSpPr>
        <p:sp>
          <p:nvSpPr>
            <p:cNvPr id="143" name="Line 100"/>
            <p:cNvSpPr/>
            <p:nvPr/>
          </p:nvSpPr>
          <p:spPr>
            <a:xfrm flipV="1">
              <a:off x="6413400" y="2398680"/>
              <a:ext cx="582120" cy="2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101"/>
            <p:cNvSpPr/>
            <p:nvPr/>
          </p:nvSpPr>
          <p:spPr>
            <a:xfrm flipV="1">
              <a:off x="6986880" y="2311560"/>
              <a:ext cx="263880" cy="1724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-360 h 172440"/>
                <a:gd name="textAreaBottom" fmla="*/ 172440 h 172440"/>
              </a:gdLst>
              <a:ahLst/>
              <a:rect l="textAreaLeft" t="textAreaTop" r="textAreaRight" b="textAreaBottom"/>
              <a:pathLst>
                <a:path w="125" h="125">
                  <a:moveTo>
                    <a:pt x="0" y="125"/>
                  </a:moveTo>
                  <a:lnTo>
                    <a:pt x="125" y="62"/>
                  </a:lnTo>
                  <a:lnTo>
                    <a:pt x="0" y="0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ff66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Rectangle 103"/>
          <p:cNvSpPr/>
          <p:nvPr/>
        </p:nvSpPr>
        <p:spPr>
          <a:xfrm>
            <a:off x="7159680" y="2054160"/>
            <a:ext cx="8524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04"/>
          <p:cNvSpPr/>
          <p:nvPr/>
        </p:nvSpPr>
        <p:spPr>
          <a:xfrm>
            <a:off x="7391520" y="2057400"/>
            <a:ext cx="15238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Exi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ustom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Structure</a:t>
            </a: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 of Single Queuing Systems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48" name="Text Box 108"/>
          <p:cNvSpPr/>
          <p:nvPr/>
        </p:nvSpPr>
        <p:spPr>
          <a:xfrm>
            <a:off x="304920" y="327672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Customers need not be people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parts, vehicles, machines, job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Queue might not be a physical line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customers 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old, jobs waiting to be printed, planes circling airpo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110"/>
          <p:cNvSpPr/>
          <p:nvPr/>
        </p:nvSpPr>
        <p:spPr>
          <a:xfrm flipH="1">
            <a:off x="1676520" y="236232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System Performance for Job Shop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57200" y="1230480"/>
          <a:ext cx="8381880" cy="303660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7160"/>
                <a:gridCol w="1396800"/>
                <a:gridCol w="1397160"/>
                <a:gridCol w="13968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Order rat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Lea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im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Queu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im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WIP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roduc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(per mo.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Rout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(mo.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(mo.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(units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-B-D-F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0.78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Bookman Old Style"/>
                          <a:ea typeface="Times New Roman"/>
                        </a:rPr>
                        <a:t>0.5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Bookman Old Style"/>
                          <a:ea typeface="Times New Roman"/>
                        </a:rPr>
                        <a:t>23.6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-B-E-F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0.49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Bookman Old Style"/>
                          <a:ea typeface="Times New Roman"/>
                        </a:rPr>
                        <a:t>0.31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Bookman Old Style"/>
                          <a:ea typeface="Times New Roman"/>
                        </a:rPr>
                        <a:t>4.9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-C-E-F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0.34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Bookman Old Style"/>
                          <a:ea typeface="Times New Roman"/>
                        </a:rPr>
                        <a:t>0.17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Bookman Old Style"/>
                          <a:ea typeface="Times New Roman"/>
                        </a:rPr>
                        <a:t>6.9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Text Box 163"/>
          <p:cNvSpPr/>
          <p:nvPr/>
        </p:nvSpPr>
        <p:spPr>
          <a:xfrm>
            <a:off x="304920" y="4572000"/>
            <a:ext cx="868680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WIP determined with Little’s law = (lead time)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(order rate)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Results show a marked difference between the products in terms of lead time and WIP since product 1 passes through both stations B and D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Non-Markov Network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1219320" y="4648320"/>
            <a:ext cx="65530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9720" indent="-447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77480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View each station as an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GI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/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G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/1 queu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909720" indent="-447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77480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A Jackson network can be used to approximate this network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380880" y="1371600"/>
            <a:ext cx="84582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Assume we have a network with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classes of customer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Each class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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has a fixed routing through the network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Unlimited capacity at each nod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Arrival and service processes not known, but means and standard deviations of interarrival times and service times are known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Non-Markov Network Example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16002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305560" cy="99864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5"/>
          <p:cNvSpPr/>
          <p:nvPr/>
        </p:nvSpPr>
        <p:spPr>
          <a:xfrm>
            <a:off x="380880" y="2666880"/>
            <a:ext cx="8382240" cy="15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Let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m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si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mean processing time at station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for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1, 2, 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si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standard deviation of processing time at station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7300"/>
                </a:solidFill>
                <a:latin typeface="Times New Roman"/>
              </a:rPr>
              <a:t>Data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5" name="Object 6"/>
          <p:cNvGraphicFramePr/>
          <p:nvPr/>
        </p:nvGraphicFramePr>
        <p:xfrm>
          <a:off x="838080" y="4267080"/>
          <a:ext cx="7734600" cy="1644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6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4267080"/>
                    <a:ext cx="7734600" cy="16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Example (continued)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380880" y="762120"/>
            <a:ext cx="8229600" cy="38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n time between arrivals i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5 minutes so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.2/mi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n time between departures at station 1, and equivalently the mean time between arrivals at stations 2, is the same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ly, the departures from stations 2 and 3 all have the same mean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 deviation of the time between departures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ill differ, however, because of the joint effects of arrival and service variability on departure variabilit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533520" y="4495680"/>
            <a:ext cx="792468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pproximate relation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 baseline="4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 baseline="4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4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(1 –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 baseline="4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4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d 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i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eparture coefficient of variation is the same as the arrival coefficient of variation of the next st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Results for Non-Markov Network Example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457200" y="9907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ues can be analyzed sequentially starting with station 1 using the formu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2286000" y="1676520"/>
            <a:ext cx="4719600" cy="83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2310840" y="1873080"/>
            <a:ext cx="244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2531160" y="20970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2655000" y="1873080"/>
            <a:ext cx="98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2753280" y="1873080"/>
            <a:ext cx="309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3149640" y="1873080"/>
            <a:ext cx="8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3296520" y="1873080"/>
            <a:ext cx="21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3594240" y="1873080"/>
            <a:ext cx="8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3715920" y="187308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15"/>
          <p:cNvSpPr/>
          <p:nvPr/>
        </p:nvSpPr>
        <p:spPr>
          <a:xfrm>
            <a:off x="3839400" y="1873080"/>
            <a:ext cx="98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16"/>
          <p:cNvSpPr/>
          <p:nvPr/>
        </p:nvSpPr>
        <p:spPr>
          <a:xfrm>
            <a:off x="4069080" y="1873080"/>
            <a:ext cx="234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17"/>
          <p:cNvSpPr/>
          <p:nvPr/>
        </p:nvSpPr>
        <p:spPr>
          <a:xfrm>
            <a:off x="4408560" y="1676520"/>
            <a:ext cx="130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18"/>
          <p:cNvSpPr/>
          <p:nvPr/>
        </p:nvSpPr>
        <p:spPr>
          <a:xfrm>
            <a:off x="4571640" y="18986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19"/>
          <p:cNvSpPr/>
          <p:nvPr/>
        </p:nvSpPr>
        <p:spPr>
          <a:xfrm>
            <a:off x="4597200" y="1701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Rectangle 20"/>
          <p:cNvSpPr/>
          <p:nvPr/>
        </p:nvSpPr>
        <p:spPr>
          <a:xfrm>
            <a:off x="4729320" y="1676520"/>
            <a:ext cx="165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21"/>
          <p:cNvSpPr/>
          <p:nvPr/>
        </p:nvSpPr>
        <p:spPr>
          <a:xfrm>
            <a:off x="4951440" y="1676520"/>
            <a:ext cx="130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22"/>
          <p:cNvSpPr/>
          <p:nvPr/>
        </p:nvSpPr>
        <p:spPr>
          <a:xfrm>
            <a:off x="5073120" y="18986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23"/>
          <p:cNvSpPr/>
          <p:nvPr/>
        </p:nvSpPr>
        <p:spPr>
          <a:xfrm>
            <a:off x="5098320" y="1701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24"/>
          <p:cNvSpPr/>
          <p:nvPr/>
        </p:nvSpPr>
        <p:spPr>
          <a:xfrm>
            <a:off x="4791600" y="209556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Line 25"/>
          <p:cNvSpPr/>
          <p:nvPr/>
        </p:nvSpPr>
        <p:spPr>
          <a:xfrm>
            <a:off x="4383000" y="2131920"/>
            <a:ext cx="814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ectangle 26"/>
          <p:cNvSpPr/>
          <p:nvPr/>
        </p:nvSpPr>
        <p:spPr>
          <a:xfrm>
            <a:off x="4329360" y="1676520"/>
            <a:ext cx="229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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27"/>
          <p:cNvSpPr/>
          <p:nvPr/>
        </p:nvSpPr>
        <p:spPr>
          <a:xfrm>
            <a:off x="4329360" y="2144880"/>
            <a:ext cx="229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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28"/>
          <p:cNvSpPr/>
          <p:nvPr/>
        </p:nvSpPr>
        <p:spPr>
          <a:xfrm>
            <a:off x="4329360" y="1947960"/>
            <a:ext cx="229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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29"/>
          <p:cNvSpPr/>
          <p:nvPr/>
        </p:nvSpPr>
        <p:spPr>
          <a:xfrm>
            <a:off x="5316840" y="1676520"/>
            <a:ext cx="229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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30"/>
          <p:cNvSpPr/>
          <p:nvPr/>
        </p:nvSpPr>
        <p:spPr>
          <a:xfrm>
            <a:off x="5316840" y="2144880"/>
            <a:ext cx="229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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31"/>
          <p:cNvSpPr/>
          <p:nvPr/>
        </p:nvSpPr>
        <p:spPr>
          <a:xfrm>
            <a:off x="5316840" y="1947960"/>
            <a:ext cx="229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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32"/>
          <p:cNvSpPr/>
          <p:nvPr/>
        </p:nvSpPr>
        <p:spPr>
          <a:xfrm>
            <a:off x="5369760" y="1873080"/>
            <a:ext cx="244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33"/>
          <p:cNvSpPr/>
          <p:nvPr/>
        </p:nvSpPr>
        <p:spPr>
          <a:xfrm>
            <a:off x="5566680" y="20970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34"/>
          <p:cNvSpPr/>
          <p:nvPr/>
        </p:nvSpPr>
        <p:spPr>
          <a:xfrm>
            <a:off x="5690520" y="1873080"/>
            <a:ext cx="98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35"/>
          <p:cNvSpPr/>
          <p:nvPr/>
        </p:nvSpPr>
        <p:spPr>
          <a:xfrm>
            <a:off x="5812560" y="1873080"/>
            <a:ext cx="244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36"/>
          <p:cNvSpPr/>
          <p:nvPr/>
        </p:nvSpPr>
        <p:spPr>
          <a:xfrm>
            <a:off x="6135480" y="1873080"/>
            <a:ext cx="8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6306480" y="1873080"/>
            <a:ext cx="244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Rectangle 38"/>
          <p:cNvSpPr/>
          <p:nvPr/>
        </p:nvSpPr>
        <p:spPr>
          <a:xfrm>
            <a:off x="6627600" y="1873080"/>
            <a:ext cx="8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Rectangle 39"/>
          <p:cNvSpPr/>
          <p:nvPr/>
        </p:nvSpPr>
        <p:spPr>
          <a:xfrm>
            <a:off x="6776640" y="187308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Rectangle 40"/>
          <p:cNvSpPr/>
          <p:nvPr/>
        </p:nvSpPr>
        <p:spPr>
          <a:xfrm>
            <a:off x="6898680" y="1873080"/>
            <a:ext cx="98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1371600" y="2819520"/>
          <a:ext cx="6523200" cy="229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819520"/>
                    <a:ext cx="652320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Text Box 6"/>
          <p:cNvSpPr/>
          <p:nvPr/>
        </p:nvSpPr>
        <p:spPr>
          <a:xfrm>
            <a:off x="609480" y="5334120"/>
            <a:ext cx="830592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 each station: </a:t>
            </a:r>
            <a:r>
              <a:rPr b="0" i="1" lang="en-US" sz="2400" spc="-1" strike="noStrike">
                <a:solidFill>
                  <a:srgbClr val="bf7300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bf73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bf7300"/>
                </a:solidFill>
                <a:latin typeface="Times New Roman"/>
                <a:ea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bf73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bf7300"/>
                </a:solidFill>
                <a:latin typeface="Times New Roman"/>
                <a:ea typeface="Times New Roman"/>
              </a:rPr>
              <a:t> + 1/</a:t>
            </a:r>
            <a:r>
              <a:rPr b="0" i="1" lang="en-US" sz="2400" spc="-1" strike="noStrike">
                <a:solidFill>
                  <a:srgbClr val="bf73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bf7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Little’s law to find </a:t>
            </a:r>
            <a:r>
              <a:rPr b="0" i="1" lang="en-US" sz="2400" spc="-1" strike="noStrike">
                <a:solidFill>
                  <a:srgbClr val="bf73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bf73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bf73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</a:t>
            </a:r>
            <a:r>
              <a:rPr b="0" i="1" lang="en-US" sz="2400" spc="-1" strike="noStrike">
                <a:solidFill>
                  <a:srgbClr val="bf73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bf7300"/>
                </a:solidFill>
                <a:latin typeface="Times New Roman"/>
                <a:ea typeface="Times New Roman"/>
              </a:rPr>
              <a:t> = 0.2/mi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each station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What You Should Know About Queuing Network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The assumptions underlying a Jackson network.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How to compute the internal arrival rates.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How to evaluate performance of a Jackson network.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The extent to which non-Poisson networks can be analyzed.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Queuing Network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934320" cy="22100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457200" y="4495680"/>
            <a:ext cx="84582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 many applications, an arrival has to pass through a series of queues arranged in a network structure.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Jackson Network Definition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533520" y="1295280"/>
            <a:ext cx="830556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ll outside arrivals to each queuing station in the network must follow a Poisson proce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ll service times must be exponentially distribu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ll queues must have unlimited capac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When a job leaves one station, the probability that it will go to another station is independent of its past history and is independent of the location of any other jo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09480" y="51814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266"/>
                </a:solidFill>
                <a:latin typeface="Bookman Old Style"/>
              </a:rPr>
              <a:t>In essence, a Jackson network is a collection of connected </a:t>
            </a:r>
            <a:r>
              <a:rPr b="0" i="1" lang="en-US" sz="2400" spc="-1" strike="noStrike">
                <a:solidFill>
                  <a:srgbClr val="ffc266"/>
                </a:solidFill>
                <a:latin typeface="Bookman Old Style"/>
              </a:rPr>
              <a:t>M</a:t>
            </a:r>
            <a:r>
              <a:rPr b="0" lang="en-US" sz="2400" spc="-1" strike="noStrike">
                <a:solidFill>
                  <a:srgbClr val="ffc266"/>
                </a:solidFill>
                <a:latin typeface="Bookman Old Style"/>
              </a:rPr>
              <a:t>/</a:t>
            </a:r>
            <a:r>
              <a:rPr b="0" i="1" lang="en-US" sz="2400" spc="-1" strike="noStrike">
                <a:solidFill>
                  <a:srgbClr val="ffc266"/>
                </a:solidFill>
                <a:latin typeface="Bookman Old Style"/>
              </a:rPr>
              <a:t>M</a:t>
            </a:r>
            <a:r>
              <a:rPr b="0" lang="en-US" sz="2400" spc="-1" strike="noStrike">
                <a:solidFill>
                  <a:srgbClr val="ffc266"/>
                </a:solidFill>
                <a:latin typeface="Bookman Old Style"/>
              </a:rPr>
              <a:t>/</a:t>
            </a:r>
            <a:r>
              <a:rPr b="0" i="1" lang="en-US" sz="2400" spc="-1" strike="noStrike">
                <a:solidFill>
                  <a:srgbClr val="ffc266"/>
                </a:solidFill>
                <a:latin typeface="Bookman Old Style"/>
              </a:rPr>
              <a:t>s</a:t>
            </a:r>
            <a:r>
              <a:rPr b="0" lang="en-US" sz="2400" spc="-1" strike="noStrike">
                <a:solidFill>
                  <a:srgbClr val="ffc266"/>
                </a:solidFill>
                <a:latin typeface="Bookman Old Style"/>
              </a:rPr>
              <a:t> queues with known parame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Jackson’s Theorem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533520" y="14479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Each node is an independent queuing system with Poisson input determined by partitioning, merging and tandem queuing examp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533520" y="285120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Bookman Old Styl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Each node can be analyzed separately using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/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/1 or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/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/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mod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33520" y="39625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Bookman Old Styl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Mean delays at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ach node can be added to determine mean system (network) delays.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Computation of Input Rate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61" name="Text Box 27"/>
          <p:cNvSpPr/>
          <p:nvPr/>
        </p:nvSpPr>
        <p:spPr>
          <a:xfrm>
            <a:off x="380880" y="1449360"/>
            <a:ext cx="84582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2920" indent="-13129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7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e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-25000">
                <a:solidFill>
                  <a:srgbClr val="ff9900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xternal arrival rate to station </a:t>
            </a:r>
            <a:r>
              <a:rPr b="0" i="1" lang="en-US" sz="2400" spc="-1" strike="noStrike">
                <a:solidFill>
                  <a:srgbClr val="ff9900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 = 1, . . . , </a:t>
            </a:r>
            <a:r>
              <a:rPr b="0" i="1" lang="en-US" sz="2400" spc="-1" strike="noStrike">
                <a:solidFill>
                  <a:srgbClr val="ff9900"/>
                </a:solidFill>
                <a:latin typeface="Bookman Old Style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12920" indent="-13129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7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</a:t>
            </a:r>
            <a:r>
              <a:rPr b="0" i="1" lang="en-US" sz="2400" spc="-1" strike="noStrike" baseline="-25000">
                <a:solidFill>
                  <a:srgbClr val="ff9900"/>
                </a:solidFill>
                <a:latin typeface="Bookman Old Style"/>
              </a:rPr>
              <a:t>k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robability of going from station </a:t>
            </a:r>
            <a:r>
              <a:rPr b="0" i="1" lang="en-US" sz="2400" spc="-1" strike="noStrike">
                <a:solidFill>
                  <a:srgbClr val="ff9900"/>
                </a:solidFill>
                <a:latin typeface="Bookman Old Style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to </a:t>
            </a:r>
            <a:r>
              <a:rPr b="0" i="1" lang="en-US" sz="2400" spc="-1" strike="noStrike">
                <a:solidFill>
                  <a:srgbClr val="ff9900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in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12920" indent="-13129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7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9900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otal input to station </a:t>
            </a:r>
            <a:r>
              <a:rPr b="0" i="1" lang="en-US" sz="24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28"/>
          <p:cNvSpPr/>
          <p:nvPr/>
        </p:nvSpPr>
        <p:spPr>
          <a:xfrm>
            <a:off x="380880" y="3583080"/>
            <a:ext cx="757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 steady state there must be flow balance at each st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3" name="Object 31"/>
          <p:cNvGraphicFramePr/>
          <p:nvPr/>
        </p:nvGraphicFramePr>
        <p:xfrm>
          <a:off x="2336760" y="4344840"/>
          <a:ext cx="4140360" cy="106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6760" y="4344840"/>
                    <a:ext cx="414036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Element of a Queuing Network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pic>
        <p:nvPicPr>
          <p:cNvPr id="166" name="Picture 1027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54380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Jackson Network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6324480" cy="44337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304920" y="2438280"/>
            <a:ext cx="1828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-stage examp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station is </a:t>
            </a:r>
            <a:r>
              <a:rPr b="0" i="1" lang="en-US" sz="2400" spc="-1" strike="noStrike">
                <a:solidFill>
                  <a:srgbClr val="bf7300"/>
                </a:solidFill>
                <a:latin typeface="Times New Roman"/>
              </a:rPr>
              <a:t>M</a:t>
            </a:r>
            <a:r>
              <a:rPr b="0" i="1" lang="en-US" sz="1000" spc="-1" strike="noStrike">
                <a:solidFill>
                  <a:srgbClr val="bf7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bf73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bf7300"/>
                </a:solidFill>
                <a:latin typeface="Times New Roman"/>
              </a:rPr>
              <a:t>M</a:t>
            </a:r>
            <a:r>
              <a:rPr b="0" i="1" lang="en-US" sz="1000" spc="-1" strike="noStrike">
                <a:solidFill>
                  <a:srgbClr val="bf7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bf73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bf73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Matrix Form of Computation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304920" y="1066680"/>
            <a:ext cx="84582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4760" indent="-154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7300"/>
                </a:solidFill>
                <a:latin typeface="Times New Roman"/>
                <a:ea typeface="Times New Roman"/>
              </a:rPr>
              <a:t>Property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 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bability matrix that describes the routing of units within a Jackson network, and let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note the mean arrival rate of units going directly to statio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rom outside the system.  T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544760" indent="-154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50000">
                <a:solidFill>
                  <a:srgbClr val="ffffff"/>
                </a:solidFill>
                <a:latin typeface="Times New Roman"/>
                <a:ea typeface="Times New Roman"/>
              </a:rPr>
              <a:t>–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544760" indent="-154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(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…,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and the components of the vect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ive the arrival rates into the various station; that is,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the net rate into statio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57200" y="4648320"/>
            <a:ext cx="81532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93800" indent="-793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7300"/>
                </a:solidFill>
                <a:latin typeface="Times New Roman"/>
              </a:rPr>
              <a:t>No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like the state-transition matrix used for Markov chains, the rows of the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atrix here need not sum to one; that i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≤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17:17:29Z</dcterms:created>
  <dc:creator>Administrator</dc:creator>
  <dc:description/>
  <dc:language>en-US</dc:language>
  <cp:lastModifiedBy>Jonathan Bard</cp:lastModifiedBy>
  <cp:lastPrinted>2000-04-25T15:08:04Z</cp:lastPrinted>
  <dcterms:modified xsi:type="dcterms:W3CDTF">2009-11-24T23:41:52Z</dcterms:modified>
  <cp:revision>112</cp:revision>
  <dc:subject/>
  <dc:title>No Slide Title</dc:title>
</cp:coreProperties>
</file>