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57A-F055-4023-8253-A964BBF6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D19-ED6D-4660-A197-3B99DA98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588-F134-4041-9B29-1C1BE616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509-12ED-4C0D-9481-80119F71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3C2-508D-4130-A17D-3E9E4142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02C-125E-41C4-A54F-0C08EA16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A67-BAA4-4DA1-89EC-EC9D75C8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41C-0111-433C-B982-7719238E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9DF-CCD7-406D-8CB4-C04E9777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CBC-0EA5-4D3D-BFD8-DD882C5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B3D-1923-4764-8F50-A64D04FC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743-8C4F-4340-9455-58057B34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2CE5-7A61-44A6-B33D-2AD614266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240" y="26964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Lecture 4 – Network Flow Programming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inology and N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dia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problems (TP, AP, SPP, STP, M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P form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solutions with Excel add-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0200" y="2664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lution to Transportation Problem</a:t>
            </a:r>
            <a:endParaRPr b="0" lang="en-US" sz="24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0960" y="1596960"/>
            <a:ext cx="8775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51880" y="843120"/>
            <a:ext cx="563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pecial case of transportation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72240" y="1238400"/>
            <a:ext cx="6224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ame number of sources and dest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l supplies and demands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9160" y="2135160"/>
            <a:ext cx="122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58760" y="2631960"/>
            <a:ext cx="6384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hips to transport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loads from single 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separate por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09440" y="3416400"/>
            <a:ext cx="5259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ach ship will carry exactly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loa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ssociated shipping costs as show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2200" y="4384800"/>
            <a:ext cx="111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ort/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4711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00400" y="4711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03680" y="4711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12000" y="4711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5480" y="5446800"/>
            <a:ext cx="52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03280" y="50227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92440" y="50227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00400" y="50227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03680" y="50227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2000" y="50227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53355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440" y="53355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00400" y="53355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03680" y="53355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12000" y="53355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56419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92440" y="56419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00400" y="56419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03680" y="56419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12000" y="56419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5954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92440" y="5954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00400" y="5954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03680" y="5954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12000" y="5954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78120" y="4992840"/>
            <a:ext cx="529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68400" y="49942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68160" y="219240"/>
            <a:ext cx="7772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Assignment Problem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7960" y="361800"/>
            <a:ext cx="8583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Problem: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Find a one-to-one matching between ships and ports in such a way as to minimize the total shipping co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920" y="5734080"/>
            <a:ext cx="3707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cision variables ar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39440" y="5452920"/>
            <a:ext cx="232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57400" y="5529240"/>
            <a:ext cx="342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,  if ship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goes to port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0, 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16200" y="61722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4960" y="1353960"/>
            <a:ext cx="7769160" cy="3934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51480" y="1703520"/>
            <a:ext cx="525600" cy="546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19880" y="1774800"/>
            <a:ext cx="388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83320" y="18525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45080" y="2684520"/>
            <a:ext cx="444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08880" y="27622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58040" y="3589200"/>
            <a:ext cx="38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1480" y="3666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2080" y="4527720"/>
            <a:ext cx="41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34080" y="46054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67440" y="4591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12520" y="4654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-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67440" y="3638520"/>
            <a:ext cx="73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2520" y="37051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-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24600" y="2714760"/>
            <a:ext cx="73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69320" y="2781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-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7200" y="17892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3720" y="1857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-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77040" y="2637000"/>
            <a:ext cx="525240" cy="550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94320" y="3546360"/>
            <a:ext cx="520920" cy="546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19880" y="4498920"/>
            <a:ext cx="525600" cy="547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1668600"/>
            <a:ext cx="525600" cy="552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5960" y="1746360"/>
            <a:ext cx="3920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17600" y="18194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81160" y="2655720"/>
            <a:ext cx="444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44600" y="27288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93760" y="3560760"/>
            <a:ext cx="37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57560" y="36385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6720" y="4498920"/>
            <a:ext cx="419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70160" y="45766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440" y="452772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06400" y="459576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440" y="3546360"/>
            <a:ext cx="73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66800" y="361332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08040" y="2714760"/>
            <a:ext cx="73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54200" y="278136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52600" y="176040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98760" y="182880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7800" y="2608200"/>
            <a:ext cx="520560" cy="550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30400" y="3517920"/>
            <a:ext cx="525600" cy="546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5960" y="4470480"/>
            <a:ext cx="525240" cy="5461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533680" y="1897200"/>
            <a:ext cx="3817800" cy="985680"/>
            <a:chOff x="2533680" y="1897200"/>
            <a:chExt cx="3817800" cy="985680"/>
          </a:xfrm>
        </p:grpSpPr>
        <p:sp>
          <p:nvSpPr>
            <p:cNvPr id="265" name=""/>
            <p:cNvSpPr/>
            <p:nvPr/>
          </p:nvSpPr>
          <p:spPr>
            <a:xfrm>
              <a:off x="2533680" y="1897200"/>
              <a:ext cx="3817800" cy="9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02440" y="2724120"/>
              <a:ext cx="149040" cy="1587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0" y="100"/>
                  </a:moveTo>
                  <a:lnTo>
                    <a:pt x="94" y="70"/>
                  </a:lnTo>
                  <a:lnTo>
                    <a:pt x="19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495520" y="1987560"/>
            <a:ext cx="3894120" cy="1771560"/>
            <a:chOff x="2495520" y="1987560"/>
            <a:chExt cx="3894120" cy="1771560"/>
          </a:xfrm>
        </p:grpSpPr>
        <p:sp>
          <p:nvSpPr>
            <p:cNvPr id="268" name=""/>
            <p:cNvSpPr/>
            <p:nvPr/>
          </p:nvSpPr>
          <p:spPr>
            <a:xfrm>
              <a:off x="2495520" y="1987560"/>
              <a:ext cx="3894120" cy="175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37360" y="3608280"/>
              <a:ext cx="152280" cy="15084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0" y="95"/>
                  </a:moveTo>
                  <a:lnTo>
                    <a:pt x="96" y="83"/>
                  </a:lnTo>
                  <a:lnTo>
                    <a:pt x="3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482920" y="2109960"/>
            <a:ext cx="3936960" cy="2525400"/>
            <a:chOff x="2482920" y="2109960"/>
            <a:chExt cx="3936960" cy="2525400"/>
          </a:xfrm>
        </p:grpSpPr>
        <p:sp>
          <p:nvSpPr>
            <p:cNvPr id="271" name=""/>
            <p:cNvSpPr/>
            <p:nvPr/>
          </p:nvSpPr>
          <p:spPr>
            <a:xfrm>
              <a:off x="2482920" y="2109960"/>
              <a:ext cx="3936960" cy="252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65800" y="4489560"/>
              <a:ext cx="154080" cy="145440"/>
            </a:xfrm>
            <a:custGeom>
              <a:avLst/>
              <a:gdLst/>
              <a:ahLst/>
              <a:rect l="l" t="t" r="r" b="b"/>
              <a:pathLst>
                <a:path w="97" h="92">
                  <a:moveTo>
                    <a:pt x="0" y="88"/>
                  </a:moveTo>
                  <a:lnTo>
                    <a:pt x="97" y="92"/>
                  </a:lnTo>
                  <a:lnTo>
                    <a:pt x="4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495520" y="1789200"/>
            <a:ext cx="3843360" cy="198360"/>
            <a:chOff x="2495520" y="1789200"/>
            <a:chExt cx="3843360" cy="198360"/>
          </a:xfrm>
        </p:grpSpPr>
        <p:sp>
          <p:nvSpPr>
            <p:cNvPr id="274" name=""/>
            <p:cNvSpPr/>
            <p:nvPr/>
          </p:nvSpPr>
          <p:spPr>
            <a:xfrm>
              <a:off x="2495520" y="1789200"/>
              <a:ext cx="384336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97760" y="1828800"/>
              <a:ext cx="141120" cy="158760"/>
            </a:xfrm>
            <a:custGeom>
              <a:avLst/>
              <a:gdLst/>
              <a:ahLst/>
              <a:rect l="l" t="t" r="r" b="b"/>
              <a:pathLst>
                <a:path w="89" h="100">
                  <a:moveTo>
                    <a:pt x="0" y="100"/>
                  </a:moveTo>
                  <a:lnTo>
                    <a:pt x="89" y="5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508120" y="1949400"/>
            <a:ext cx="3830760" cy="779040"/>
            <a:chOff x="2508120" y="1949400"/>
            <a:chExt cx="3830760" cy="779040"/>
          </a:xfrm>
        </p:grpSpPr>
        <p:sp>
          <p:nvSpPr>
            <p:cNvPr id="277" name=""/>
            <p:cNvSpPr/>
            <p:nvPr/>
          </p:nvSpPr>
          <p:spPr>
            <a:xfrm flipV="1">
              <a:off x="2508120" y="2003040"/>
              <a:ext cx="3830760" cy="72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94520" y="1949400"/>
              <a:ext cx="144360" cy="16020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13" y="101"/>
                  </a:moveTo>
                  <a:lnTo>
                    <a:pt x="91" y="3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33680" y="2849400"/>
            <a:ext cx="3830760" cy="198720"/>
            <a:chOff x="2533680" y="2849400"/>
            <a:chExt cx="3830760" cy="198720"/>
          </a:xfrm>
        </p:grpSpPr>
        <p:sp>
          <p:nvSpPr>
            <p:cNvPr id="280" name=""/>
            <p:cNvSpPr/>
            <p:nvPr/>
          </p:nvSpPr>
          <p:spPr>
            <a:xfrm>
              <a:off x="2533680" y="2849400"/>
              <a:ext cx="3830760" cy="12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24760" y="2887560"/>
              <a:ext cx="139680" cy="16056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0" y="101"/>
                  </a:moveTo>
                  <a:lnTo>
                    <a:pt x="88" y="5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33680" y="2941560"/>
            <a:ext cx="3843360" cy="928800"/>
            <a:chOff x="2533680" y="2941560"/>
            <a:chExt cx="3843360" cy="928800"/>
          </a:xfrm>
        </p:grpSpPr>
        <p:sp>
          <p:nvSpPr>
            <p:cNvPr id="283" name=""/>
            <p:cNvSpPr/>
            <p:nvPr/>
          </p:nvSpPr>
          <p:spPr>
            <a:xfrm>
              <a:off x="2533680" y="2941560"/>
              <a:ext cx="3843360" cy="87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27640" y="3709800"/>
              <a:ext cx="149400" cy="160560"/>
            </a:xfrm>
            <a:custGeom>
              <a:avLst/>
              <a:gdLst/>
              <a:ahLst/>
              <a:rect l="l" t="t" r="r" b="b"/>
              <a:pathLst>
                <a:path w="94" h="101">
                  <a:moveTo>
                    <a:pt x="0" y="101"/>
                  </a:moveTo>
                  <a:lnTo>
                    <a:pt x="94" y="67"/>
                  </a:lnTo>
                  <a:lnTo>
                    <a:pt x="19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495520" y="2998800"/>
            <a:ext cx="3911760" cy="1762200"/>
            <a:chOff x="2495520" y="2998800"/>
            <a:chExt cx="3911760" cy="1762200"/>
          </a:xfrm>
        </p:grpSpPr>
        <p:sp>
          <p:nvSpPr>
            <p:cNvPr id="286" name=""/>
            <p:cNvSpPr/>
            <p:nvPr/>
          </p:nvSpPr>
          <p:spPr>
            <a:xfrm>
              <a:off x="2495520" y="2998800"/>
              <a:ext cx="3911760" cy="174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53200" y="461016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0" y="95"/>
                  </a:moveTo>
                  <a:lnTo>
                    <a:pt x="97" y="83"/>
                  </a:lnTo>
                  <a:lnTo>
                    <a:pt x="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533680" y="2089080"/>
            <a:ext cx="3843360" cy="1592280"/>
            <a:chOff x="2533680" y="2089080"/>
            <a:chExt cx="3843360" cy="1592280"/>
          </a:xfrm>
        </p:grpSpPr>
        <p:sp>
          <p:nvSpPr>
            <p:cNvPr id="289" name=""/>
            <p:cNvSpPr/>
            <p:nvPr/>
          </p:nvSpPr>
          <p:spPr>
            <a:xfrm flipV="1">
              <a:off x="2533680" y="2109600"/>
              <a:ext cx="3843360" cy="157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24760" y="2089080"/>
              <a:ext cx="152280" cy="15084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32" y="95"/>
                  </a:moveTo>
                  <a:lnTo>
                    <a:pt x="96" y="1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546280" y="3008160"/>
            <a:ext cx="3861000" cy="793440"/>
            <a:chOff x="2546280" y="3008160"/>
            <a:chExt cx="3861000" cy="793440"/>
          </a:xfrm>
        </p:grpSpPr>
        <p:sp>
          <p:nvSpPr>
            <p:cNvPr id="292" name=""/>
            <p:cNvSpPr/>
            <p:nvPr/>
          </p:nvSpPr>
          <p:spPr>
            <a:xfrm flipV="1">
              <a:off x="2546280" y="3061800"/>
              <a:ext cx="3861000" cy="73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62560" y="3008160"/>
              <a:ext cx="144720" cy="16056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13" y="101"/>
                  </a:moveTo>
                  <a:lnTo>
                    <a:pt x="91" y="3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546280" y="3832200"/>
            <a:ext cx="3830760" cy="158760"/>
            <a:chOff x="2546280" y="3832200"/>
            <a:chExt cx="3830760" cy="158760"/>
          </a:xfrm>
        </p:grpSpPr>
        <p:sp>
          <p:nvSpPr>
            <p:cNvPr id="295" name=""/>
            <p:cNvSpPr/>
            <p:nvPr/>
          </p:nvSpPr>
          <p:spPr>
            <a:xfrm>
              <a:off x="2546280" y="3860640"/>
              <a:ext cx="3830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0600" y="3832200"/>
              <a:ext cx="136440" cy="158760"/>
            </a:xfrm>
            <a:custGeom>
              <a:avLst/>
              <a:gdLst/>
              <a:ahLst/>
              <a:rect l="l" t="t" r="r" b="b"/>
              <a:pathLst>
                <a:path w="86" h="100">
                  <a:moveTo>
                    <a:pt x="0" y="100"/>
                  </a:moveTo>
                  <a:lnTo>
                    <a:pt x="86" y="4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521080" y="3908520"/>
            <a:ext cx="3898800" cy="968400"/>
            <a:chOff x="2521080" y="3908520"/>
            <a:chExt cx="3898800" cy="968400"/>
          </a:xfrm>
        </p:grpSpPr>
        <p:sp>
          <p:nvSpPr>
            <p:cNvPr id="298" name=""/>
            <p:cNvSpPr/>
            <p:nvPr/>
          </p:nvSpPr>
          <p:spPr>
            <a:xfrm>
              <a:off x="2521080" y="3908520"/>
              <a:ext cx="3898800" cy="9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70840" y="4716360"/>
              <a:ext cx="149040" cy="160560"/>
            </a:xfrm>
            <a:custGeom>
              <a:avLst/>
              <a:gdLst/>
              <a:ahLst/>
              <a:rect l="l" t="t" r="r" b="b"/>
              <a:pathLst>
                <a:path w="94" h="101">
                  <a:moveTo>
                    <a:pt x="0" y="101"/>
                  </a:moveTo>
                  <a:lnTo>
                    <a:pt x="94" y="70"/>
                  </a:lnTo>
                  <a:lnTo>
                    <a:pt x="19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33680" y="2230560"/>
            <a:ext cx="3873600" cy="2355840"/>
            <a:chOff x="2533680" y="2230560"/>
            <a:chExt cx="3873600" cy="2355840"/>
          </a:xfrm>
        </p:grpSpPr>
        <p:sp>
          <p:nvSpPr>
            <p:cNvPr id="301" name=""/>
            <p:cNvSpPr/>
            <p:nvPr/>
          </p:nvSpPr>
          <p:spPr>
            <a:xfrm flipV="1">
              <a:off x="2533680" y="2230560"/>
              <a:ext cx="387360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53200" y="22305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43" y="91"/>
                  </a:moveTo>
                  <a:lnTo>
                    <a:pt x="97" y="0"/>
                  </a:lnTo>
                  <a:lnTo>
                    <a:pt x="0" y="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563920" y="3100320"/>
            <a:ext cx="3881160" cy="1592280"/>
            <a:chOff x="2563920" y="3100320"/>
            <a:chExt cx="3881160" cy="1592280"/>
          </a:xfrm>
        </p:grpSpPr>
        <p:sp>
          <p:nvSpPr>
            <p:cNvPr id="304" name=""/>
            <p:cNvSpPr/>
            <p:nvPr/>
          </p:nvSpPr>
          <p:spPr>
            <a:xfrm flipV="1">
              <a:off x="2563920" y="3120840"/>
              <a:ext cx="3881160" cy="157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92440" y="3100320"/>
              <a:ext cx="152280" cy="15084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32" y="95"/>
                  </a:moveTo>
                  <a:lnTo>
                    <a:pt x="96" y="1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546280" y="3933720"/>
            <a:ext cx="3861000" cy="865080"/>
            <a:chOff x="2546280" y="3933720"/>
            <a:chExt cx="3861000" cy="865080"/>
          </a:xfrm>
        </p:grpSpPr>
        <p:sp>
          <p:nvSpPr>
            <p:cNvPr id="307" name=""/>
            <p:cNvSpPr/>
            <p:nvPr/>
          </p:nvSpPr>
          <p:spPr>
            <a:xfrm flipV="1">
              <a:off x="2546280" y="3981240"/>
              <a:ext cx="3861000" cy="81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62560" y="3933720"/>
              <a:ext cx="14472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16" y="100"/>
                  </a:moveTo>
                  <a:lnTo>
                    <a:pt x="91" y="3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470320" y="1519200"/>
            <a:ext cx="525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41480" y="156528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6280" y="1944720"/>
            <a:ext cx="525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58840" y="201780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28880" y="1731960"/>
            <a:ext cx="525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1800" y="180504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41480" y="2171880"/>
            <a:ext cx="5256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85840" y="223992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8040" y="3014640"/>
            <a:ext cx="525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92400" y="308628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2577960"/>
            <a:ext cx="524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09800" y="265104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0080" y="2409840"/>
            <a:ext cx="525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84440" y="248112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54440" y="2771640"/>
            <a:ext cx="525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8800" y="284472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6200" y="4600440"/>
            <a:ext cx="525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65200" y="471492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09880" y="3773520"/>
            <a:ext cx="525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54240" y="384660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60640" y="3575160"/>
            <a:ext cx="5256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05000" y="364824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73440" y="3409920"/>
            <a:ext cx="525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16000" y="348300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21080" y="3303720"/>
            <a:ext cx="5252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5440" y="337644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16080" y="4359240"/>
            <a:ext cx="5256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60440" y="443232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79640" y="4165560"/>
            <a:ext cx="525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24000" y="423864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52680" y="4222800"/>
            <a:ext cx="525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97040" y="429588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505240" y="4908240"/>
            <a:ext cx="3982680" cy="42840"/>
            <a:chOff x="2505240" y="4908240"/>
            <a:chExt cx="3982680" cy="42840"/>
          </a:xfrm>
        </p:grpSpPr>
        <p:sp>
          <p:nvSpPr>
            <p:cNvPr id="342" name=""/>
            <p:cNvSpPr/>
            <p:nvPr/>
          </p:nvSpPr>
          <p:spPr>
            <a:xfrm flipV="1">
              <a:off x="2505240" y="4930560"/>
              <a:ext cx="3982680" cy="1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347880" y="4907880"/>
              <a:ext cx="140040" cy="42840"/>
            </a:xfrm>
            <a:custGeom>
              <a:avLst/>
              <a:gdLst/>
              <a:ahLst/>
              <a:rect l="l" t="t" r="r" b="b"/>
              <a:pathLst>
                <a:path w="86" h="100">
                  <a:moveTo>
                    <a:pt x="0" y="100"/>
                  </a:moveTo>
                  <a:lnTo>
                    <a:pt x="86" y="4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22120" y="992160"/>
            <a:ext cx="8460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Note that from a feasibility perspective it could be possible to have </a:t>
            </a:r>
            <a:r>
              <a:rPr b="0" i="1" lang="en-US" sz="23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11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3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12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3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13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3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14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= ¼.  But we know that a pure network flow problem guarantees that the simplex method will yield an integer solution.  In this case we know that each </a:t>
            </a:r>
            <a:r>
              <a:rPr b="0" i="1" lang="en-US" sz="23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3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will either take on 0 or 1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94720" y="1465200"/>
            <a:ext cx="63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7000" y="3143160"/>
            <a:ext cx="78739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If a particular ship cannot carry a particular load then we can use </a:t>
            </a:r>
            <a:r>
              <a:rPr b="0" i="1" lang="en-US" sz="2300" spc="-1" strike="noStrike">
                <a:solidFill>
                  <a:srgbClr val="ff9900"/>
                </a:solidFill>
                <a:latin typeface="Bookman Old Style"/>
              </a:rPr>
              <a:t>M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as in the transportation problem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5080" y="4102200"/>
            <a:ext cx="753732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Other types of assignments: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workers to job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tasks to machi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swimmers to events (in a relay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students to internshi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3440" y="22068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Characteristics of Assignment Problem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85880" y="1515960"/>
            <a:ext cx="7834320" cy="40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iven a network with “distances” on the arcs, our goal is to find the shortest path from the origin to the dest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se distances might be length, time, cost, etc, and the values can be positive or negative. (A negativ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can arise if we earn revenue by traversing an ar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shortest path problem may be formulated as a special case of the pure min-cost flow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hortest Path Problem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62760" y="219240"/>
            <a:ext cx="1427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97160" y="1373040"/>
            <a:ext cx="292320" cy="29376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7160" y="2709720"/>
            <a:ext cx="292320" cy="29232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44480" y="2082960"/>
            <a:ext cx="293760" cy="29196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8240" y="2048040"/>
            <a:ext cx="291960" cy="29196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13240" y="2720880"/>
            <a:ext cx="292320" cy="29232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02080" y="1373040"/>
            <a:ext cx="292320" cy="29376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97400" y="1454040"/>
            <a:ext cx="1766880" cy="126720"/>
            <a:chOff x="3497400" y="1454040"/>
            <a:chExt cx="1766880" cy="126720"/>
          </a:xfrm>
        </p:grpSpPr>
        <p:sp>
          <p:nvSpPr>
            <p:cNvPr id="359" name=""/>
            <p:cNvSpPr/>
            <p:nvPr/>
          </p:nvSpPr>
          <p:spPr>
            <a:xfrm>
              <a:off x="3497400" y="1515960"/>
              <a:ext cx="1766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40440" y="1454040"/>
              <a:ext cx="123840" cy="12672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0" y="80"/>
                  </a:moveTo>
                  <a:lnTo>
                    <a:pt x="78" y="39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254400" y="1673280"/>
            <a:ext cx="127080" cy="1023840"/>
            <a:chOff x="3254400" y="1673280"/>
            <a:chExt cx="127080" cy="1023840"/>
          </a:xfrm>
        </p:grpSpPr>
        <p:sp>
          <p:nvSpPr>
            <p:cNvPr id="362" name=""/>
            <p:cNvSpPr/>
            <p:nvPr/>
          </p:nvSpPr>
          <p:spPr>
            <a:xfrm>
              <a:off x="3316320" y="1673280"/>
              <a:ext cx="1800" cy="1023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54400" y="1673280"/>
              <a:ext cx="127080" cy="12384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80" y="78"/>
                  </a:moveTo>
                  <a:lnTo>
                    <a:pt x="39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383080" y="1685880"/>
            <a:ext cx="126720" cy="1023840"/>
            <a:chOff x="5383080" y="1685880"/>
            <a:chExt cx="126720" cy="1023840"/>
          </a:xfrm>
        </p:grpSpPr>
        <p:sp>
          <p:nvSpPr>
            <p:cNvPr id="365" name=""/>
            <p:cNvSpPr/>
            <p:nvPr/>
          </p:nvSpPr>
          <p:spPr>
            <a:xfrm>
              <a:off x="5445000" y="1685880"/>
              <a:ext cx="1440" cy="1023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83080" y="1685880"/>
              <a:ext cx="126720" cy="12204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80" y="77"/>
                  </a:moveTo>
                  <a:lnTo>
                    <a:pt x="39" y="0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497400" y="2813040"/>
            <a:ext cx="1766880" cy="166320"/>
            <a:chOff x="3497400" y="2813040"/>
            <a:chExt cx="1766880" cy="166320"/>
          </a:xfrm>
        </p:grpSpPr>
        <p:sp>
          <p:nvSpPr>
            <p:cNvPr id="368" name=""/>
            <p:cNvSpPr/>
            <p:nvPr/>
          </p:nvSpPr>
          <p:spPr>
            <a:xfrm>
              <a:off x="3497400" y="2894040"/>
              <a:ext cx="1766880" cy="2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40440" y="2813040"/>
              <a:ext cx="123840" cy="16632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0" y="80"/>
                  </a:moveTo>
                  <a:lnTo>
                    <a:pt x="78" y="39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462480" y="1639800"/>
            <a:ext cx="1850760" cy="1137960"/>
            <a:chOff x="3462480" y="1639800"/>
            <a:chExt cx="1850760" cy="1137960"/>
          </a:xfrm>
        </p:grpSpPr>
        <p:sp>
          <p:nvSpPr>
            <p:cNvPr id="371" name=""/>
            <p:cNvSpPr/>
            <p:nvPr/>
          </p:nvSpPr>
          <p:spPr>
            <a:xfrm>
              <a:off x="3462480" y="1639800"/>
              <a:ext cx="1850760" cy="11379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75000" y="2658960"/>
              <a:ext cx="137880" cy="118800"/>
            </a:xfrm>
            <a:custGeom>
              <a:avLst/>
              <a:gdLst/>
              <a:ahLst/>
              <a:rect l="l" t="t" r="r" b="b"/>
              <a:pathLst>
                <a:path w="87" h="75">
                  <a:moveTo>
                    <a:pt x="0" y="68"/>
                  </a:moveTo>
                  <a:lnTo>
                    <a:pt x="87" y="75"/>
                  </a:lnTo>
                  <a:lnTo>
                    <a:pt x="4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895400" y="2347920"/>
            <a:ext cx="1312560" cy="469440"/>
            <a:chOff x="1895400" y="2347920"/>
            <a:chExt cx="1312560" cy="469440"/>
          </a:xfrm>
        </p:grpSpPr>
        <p:sp>
          <p:nvSpPr>
            <p:cNvPr id="374" name=""/>
            <p:cNvSpPr/>
            <p:nvPr/>
          </p:nvSpPr>
          <p:spPr>
            <a:xfrm>
              <a:off x="1895400" y="2347920"/>
              <a:ext cx="1312560" cy="44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70080" y="2696760"/>
              <a:ext cx="137880" cy="120600"/>
            </a:xfrm>
            <a:custGeom>
              <a:avLst/>
              <a:gdLst/>
              <a:ahLst/>
              <a:rect l="l" t="t" r="r" b="b"/>
              <a:pathLst>
                <a:path w="87" h="76">
                  <a:moveTo>
                    <a:pt x="0" y="76"/>
                  </a:moveTo>
                  <a:lnTo>
                    <a:pt x="87" y="61"/>
                  </a:lnTo>
                  <a:lnTo>
                    <a:pt x="26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871640" y="1535040"/>
            <a:ext cx="1301760" cy="585360"/>
            <a:chOff x="1871640" y="1535040"/>
            <a:chExt cx="1301760" cy="585360"/>
          </a:xfrm>
        </p:grpSpPr>
        <p:sp>
          <p:nvSpPr>
            <p:cNvPr id="377" name=""/>
            <p:cNvSpPr/>
            <p:nvPr/>
          </p:nvSpPr>
          <p:spPr>
            <a:xfrm flipV="1">
              <a:off x="1871640" y="1542960"/>
              <a:ext cx="1301760" cy="577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35520" y="1535040"/>
              <a:ext cx="137880" cy="118800"/>
            </a:xfrm>
            <a:custGeom>
              <a:avLst/>
              <a:gdLst/>
              <a:ahLst/>
              <a:rect l="l" t="t" r="r" b="b"/>
              <a:pathLst>
                <a:path w="87" h="75">
                  <a:moveTo>
                    <a:pt x="34" y="75"/>
                  </a:moveTo>
                  <a:lnTo>
                    <a:pt x="87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626080" y="2262240"/>
            <a:ext cx="1251000" cy="588960"/>
            <a:chOff x="5626080" y="2262240"/>
            <a:chExt cx="1251000" cy="588960"/>
          </a:xfrm>
        </p:grpSpPr>
        <p:sp>
          <p:nvSpPr>
            <p:cNvPr id="380" name=""/>
            <p:cNvSpPr/>
            <p:nvPr/>
          </p:nvSpPr>
          <p:spPr>
            <a:xfrm flipV="1">
              <a:off x="5626080" y="2262240"/>
              <a:ext cx="1251000" cy="5889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37400" y="2262240"/>
              <a:ext cx="139680" cy="11124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37" y="70"/>
                  </a:moveTo>
                  <a:lnTo>
                    <a:pt x="88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613480" y="1515960"/>
            <a:ext cx="1297080" cy="596880"/>
            <a:chOff x="5613480" y="1515960"/>
            <a:chExt cx="1297080" cy="596880"/>
          </a:xfrm>
        </p:grpSpPr>
        <p:sp>
          <p:nvSpPr>
            <p:cNvPr id="383" name=""/>
            <p:cNvSpPr/>
            <p:nvPr/>
          </p:nvSpPr>
          <p:spPr>
            <a:xfrm>
              <a:off x="5613480" y="1515960"/>
              <a:ext cx="1297080" cy="5889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72320" y="1996920"/>
              <a:ext cx="138240" cy="11592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0" y="73"/>
                  </a:moveTo>
                  <a:lnTo>
                    <a:pt x="87" y="68"/>
                  </a:lnTo>
                  <a:lnTo>
                    <a:pt x="3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176480" y="2048040"/>
            <a:ext cx="52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44600" y="213516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[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5120" y="2023920"/>
            <a:ext cx="531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331040" y="208584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[-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33680" y="2082960"/>
            <a:ext cx="361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49240" y="214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77080" y="204804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91200" y="2108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02080" y="2697120"/>
            <a:ext cx="303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18000" y="27590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02080" y="1373040"/>
            <a:ext cx="40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18000" y="1434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11560" y="2695680"/>
            <a:ext cx="29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11280" y="27446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84560" y="1351080"/>
            <a:ext cx="3398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00120" y="1413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70240" y="187812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86160" y="194004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29360" y="1515960"/>
            <a:ext cx="43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44920" y="157788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8400" y="2201760"/>
            <a:ext cx="47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52520" y="226224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84480" y="1566720"/>
            <a:ext cx="46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00040" y="162720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54400" y="2008080"/>
            <a:ext cx="48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69960" y="207000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19480" y="2563920"/>
            <a:ext cx="45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35400" y="262404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46480" y="1254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2400" y="131616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97480" y="1986120"/>
            <a:ext cx="53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13400" y="204804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13360" y="2313000"/>
            <a:ext cx="534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29280" y="237492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20800" y="822240"/>
            <a:ext cx="2180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cost/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9600" y="3460680"/>
            <a:ext cx="845496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We wish to find the shortest path from node 1 to node 6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o do so we place one unit of supply at node 1 and push it through the network to node 6 where there is one unit of demand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ll other nodes in the network have external flows of z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67360" y="6224760"/>
            <a:ext cx="240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66"/>
                </a:solidFill>
                <a:latin typeface="Bookman Old Style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Bookman Old Style"/>
                <a:hlinkClick r:id="rId1" action="ppaction://hlinksldjump"/>
              </a:rPr>
              <a:t>SP Tre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693000" y="1181160"/>
            <a:ext cx="142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6840" y="11253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2240" y="1349280"/>
            <a:ext cx="220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94040" y="1181160"/>
            <a:ext cx="5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= 1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79000" y="1181160"/>
            <a:ext cx="142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02840" y="11253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47840" y="1336680"/>
            <a:ext cx="220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man Old Style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79680" y="1181160"/>
            <a:ext cx="5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= 1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64640" y="1181160"/>
            <a:ext cx="142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8480" y="11253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21240" y="1374840"/>
            <a:ext cx="220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man Old Style"/>
              </a:rPr>
              <a:t>4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00600" y="1181160"/>
            <a:ext cx="5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= 1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95120" y="1158840"/>
            <a:ext cx="142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18960" y="1104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04640" y="1314360"/>
            <a:ext cx="9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23960" y="1158840"/>
            <a:ext cx="2745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= 0 for all other ar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7760" y="1719360"/>
            <a:ext cx="4437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Total length (objective value) = 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hortest Path Problem Solutio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7800" y="2417760"/>
            <a:ext cx="84996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42984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Network Notation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42" name=""/>
          <p:cNvSpPr/>
          <p:nvPr/>
        </p:nvSpPr>
        <p:spPr>
          <a:xfrm>
            <a:off x="939960" y="1407960"/>
            <a:ext cx="7686360" cy="17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set of Arcs,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set o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rward Star for nod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FS(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) = { (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j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) : (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j</a:t>
            </a:r>
            <a:r>
              <a:rPr b="0" lang="en-US" sz="1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verse Star for nod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 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RS(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) = { (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i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) : (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}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62000" y="4384800"/>
            <a:ext cx="56520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460600" y="3939840"/>
            <a:ext cx="1384200" cy="523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13160" y="4665600"/>
            <a:ext cx="14256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60600" y="4827600"/>
            <a:ext cx="1465200" cy="550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42240" y="4189320"/>
            <a:ext cx="56520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6600" y="3821040"/>
            <a:ext cx="1332000" cy="496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75400" y="4532400"/>
            <a:ext cx="1236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5781600" y="4708080"/>
            <a:ext cx="1265400" cy="698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87560" y="444960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357516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FS(</a:t>
            </a:r>
            <a:r>
              <a:rPr b="0" i="1" lang="en-US" sz="2000" spc="-1" strike="noStrike">
                <a:solidFill>
                  <a:srgbClr val="ffff00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7680" y="35402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RS(</a:t>
            </a:r>
            <a:r>
              <a:rPr b="0" i="1" lang="en-US" sz="2000" spc="-1" strike="noStrike">
                <a:solidFill>
                  <a:srgbClr val="ffff00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79400" y="1330200"/>
            <a:ext cx="70614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In general, if node </a:t>
            </a:r>
            <a:r>
              <a:rPr b="0" i="1" lang="en-US" sz="2300" spc="-1" strike="noStrike">
                <a:solidFill>
                  <a:srgbClr val="ff9900"/>
                </a:solidFill>
                <a:latin typeface="Bookman Old Style"/>
              </a:rPr>
              <a:t>s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is the source node and node </a:t>
            </a:r>
            <a:r>
              <a:rPr b="0" i="1" lang="en-US" sz="2300" spc="-1" strike="noStrike">
                <a:solidFill>
                  <a:srgbClr val="ff9900"/>
                </a:solidFill>
                <a:latin typeface="Bookman Old Style"/>
              </a:rPr>
              <a:t>t</a:t>
            </a:r>
            <a:r>
              <a:rPr b="0" lang="en-US" sz="2300" spc="-1" strike="noStrike">
                <a:solidFill>
                  <a:srgbClr val="ff0066"/>
                </a:solidFill>
                <a:latin typeface="Bookman Old Style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is the termination node then the shortest path problem may be written as follow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59040" y="3006720"/>
            <a:ext cx="52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M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37840" y="2901960"/>
            <a:ext cx="2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81920" y="3538440"/>
            <a:ext cx="40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17880" y="3449520"/>
            <a:ext cx="67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52200" y="4227480"/>
            <a:ext cx="14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02680" y="4227480"/>
            <a:ext cx="26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.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59200" y="4108320"/>
            <a:ext cx="27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14560" y="423072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06080" y="4297320"/>
            <a:ext cx="63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74480" y="4121280"/>
            <a:ext cx="2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25040" y="4297320"/>
            <a:ext cx="63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45400" y="4227480"/>
            <a:ext cx="244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89120" y="469908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FS(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89800" y="4699080"/>
            <a:ext cx="104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RS(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68480" y="5370480"/>
            <a:ext cx="30369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0,  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515200" y="542772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46640" y="3905280"/>
            <a:ext cx="17053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,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,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,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\ {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21320" y="3770280"/>
            <a:ext cx="635040" cy="1209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60280" y="3780000"/>
            <a:ext cx="403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75960" y="2986200"/>
            <a:ext cx="4262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05880" y="4183200"/>
            <a:ext cx="217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41680" y="4202280"/>
            <a:ext cx="320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hortest Path Model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4880" y="326520"/>
            <a:ext cx="87627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General Solution to Shortest Path Problem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79" name=""/>
          <p:cNvSpPr/>
          <p:nvPr/>
        </p:nvSpPr>
        <p:spPr>
          <a:xfrm>
            <a:off x="681480" y="1746360"/>
            <a:ext cx="1834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In general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72280" y="1763640"/>
            <a:ext cx="304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55160" y="1982880"/>
            <a:ext cx="9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040" y="17892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11440" y="1584360"/>
            <a:ext cx="1897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01680" y="1636560"/>
            <a:ext cx="3669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,  if 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 is on the shortes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0, 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5280" y="2647800"/>
            <a:ext cx="8223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As in the assignment problem, the integer nature of the solution is key to this shortest path formulation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Examples of shortest path problems: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a.  airline schedul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b.  equipment replac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c.  routing in telecommunications network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d.  reliability proble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e.  traffic rout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14320" y="1351080"/>
            <a:ext cx="7047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9840" indent="-33984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twork flow programming (NFP) is a special case of linear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mportant to identify problems that can be modeled as networks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02400" y="337500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1840" y="3468600"/>
            <a:ext cx="69566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4560" indent="-574560">
              <a:lnSpc>
                <a:spcPct val="100000"/>
              </a:lnSpc>
              <a:buClr>
                <a:srgbClr val="ffffff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twork representations make optimization models easier to visualize and ex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buClr>
                <a:srgbClr val="ffffff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buClr>
                <a:srgbClr val="ffffff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ery efficient algorithms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9800" y="414972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Network Optimization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76200" y="793800"/>
            <a:ext cx="8302680" cy="20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t is sometimes useful to find the shortest path from node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to all other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 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nodes in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 could do this by solving a collection of shortest path problems, but it is simpler to use a single min-cost flow form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857240" y="3127320"/>
            <a:ext cx="63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06600" y="3056040"/>
            <a:ext cx="24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32640" y="3530520"/>
            <a:ext cx="71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69480" y="4292640"/>
            <a:ext cx="488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05080" y="4255920"/>
            <a:ext cx="24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22200" y="4216320"/>
            <a:ext cx="29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92360" y="4255920"/>
            <a:ext cx="24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1280" y="4305240"/>
            <a:ext cx="6681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ji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54720" y="4782960"/>
            <a:ext cx="115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S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05800" y="4782960"/>
            <a:ext cx="131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S(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01240" y="5394240"/>
            <a:ext cx="30974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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77840" y="6126120"/>
            <a:ext cx="517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ere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|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| = number of node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54160" y="4068720"/>
            <a:ext cx="293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50000" y="4110120"/>
            <a:ext cx="2692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,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,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\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20080" y="4213080"/>
            <a:ext cx="45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17000" y="3032280"/>
            <a:ext cx="72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Shortest Path Tree Problem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831600" y="390600"/>
            <a:ext cx="55375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In our </a:t>
            </a:r>
            <a:r>
              <a:rPr b="0" lang="en-US" sz="2300" spc="-1" strike="noStrike" u="sng">
                <a:solidFill>
                  <a:srgbClr val="ccccff"/>
                </a:solidFill>
                <a:uFillTx/>
                <a:latin typeface="Bookman Old Style"/>
                <a:hlinkClick r:id="rId1" action="ppaction://hlinksldjump"/>
              </a:rPr>
              <a:t>example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ookman Old Style"/>
              </a:rPr>
              <a:t>, the </a:t>
            </a:r>
            <a:r>
              <a:rPr b="0" lang="en-US" sz="2300" spc="-1" strike="noStrike">
                <a:solidFill>
                  <a:srgbClr val="ff9900"/>
                </a:solidFill>
                <a:latin typeface="Bookman Old Style"/>
              </a:rPr>
              <a:t>shortest path tree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27320" y="4262400"/>
            <a:ext cx="6318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Each node is labeled with its shortest-path distance to node 1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98640" y="2454120"/>
            <a:ext cx="341280" cy="368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09760" y="3119400"/>
            <a:ext cx="343080" cy="366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56440" y="2674800"/>
            <a:ext cx="341280" cy="368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75040" y="1527120"/>
            <a:ext cx="341640" cy="368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41440" y="1512720"/>
            <a:ext cx="336600" cy="366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119400"/>
            <a:ext cx="341280" cy="3668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85680" y="2454120"/>
            <a:ext cx="371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07720" y="252252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41440" y="1512720"/>
            <a:ext cx="366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49080" y="157968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09760" y="3103560"/>
            <a:ext cx="372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9080" y="317988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61000" y="1512720"/>
            <a:ext cx="368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95640" y="159228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75040" y="3103560"/>
            <a:ext cx="366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08240" y="317988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56440" y="2660760"/>
            <a:ext cx="368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91080" y="27417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75040" y="3446640"/>
            <a:ext cx="366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903920" y="3552840"/>
            <a:ext cx="16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61000" y="1214280"/>
            <a:ext cx="368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95640" y="12524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09760" y="3430440"/>
            <a:ext cx="372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44760" y="35370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24160" y="1195560"/>
            <a:ext cx="3715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457360" y="1238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46880" y="2408400"/>
            <a:ext cx="368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02400" y="2425680"/>
            <a:ext cx="20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4080" y="2755800"/>
            <a:ext cx="973080" cy="45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41640" y="30733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0" y="98"/>
                </a:moveTo>
                <a:lnTo>
                  <a:pt x="98" y="86"/>
                </a:lnTo>
                <a:lnTo>
                  <a:pt x="3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297080" y="1779480"/>
            <a:ext cx="1030320" cy="68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71880" y="177948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7" y="98"/>
                </a:moveTo>
                <a:lnTo>
                  <a:pt x="98" y="0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692440" y="1668600"/>
            <a:ext cx="20685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22760" y="1587600"/>
            <a:ext cx="138240" cy="166680"/>
          </a:xfrm>
          <a:custGeom>
            <a:avLst/>
            <a:gdLst/>
            <a:ahLst/>
            <a:rect l="l" t="t" r="r" b="b"/>
            <a:pathLst>
              <a:path w="87" h="105">
                <a:moveTo>
                  <a:pt x="0" y="105"/>
                </a:moveTo>
                <a:lnTo>
                  <a:pt x="87" y="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652840" y="1797120"/>
            <a:ext cx="2135160" cy="138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632480" y="303048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0" y="92"/>
                </a:moveTo>
                <a:lnTo>
                  <a:pt x="98" y="95"/>
                </a:lnTo>
                <a:lnTo>
                  <a:pt x="4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11640" y="1668600"/>
            <a:ext cx="2032200" cy="108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86520" y="2614680"/>
            <a:ext cx="157320" cy="152280"/>
          </a:xfrm>
          <a:custGeom>
            <a:avLst/>
            <a:gdLst/>
            <a:ahLst/>
            <a:rect l="l" t="t" r="r" b="b"/>
            <a:pathLst>
              <a:path w="99" h="96">
                <a:moveTo>
                  <a:pt x="0" y="96"/>
                </a:moveTo>
                <a:lnTo>
                  <a:pt x="99" y="89"/>
                </a:lnTo>
                <a:lnTo>
                  <a:pt x="36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06360" y="17906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19303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68680" y="12445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70200" y="2133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09760" y="30099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95280" y="1217520"/>
            <a:ext cx="850104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1160" indent="-281160">
              <a:lnSpc>
                <a:spcPct val="100000"/>
              </a:lnSpc>
              <a:spcAft>
                <a:spcPts val="137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Consider a communications network in which the probability that arc (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 is “up” is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p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1375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If the arcs fail independently then the probability that all arcs on a path from the origin </a:t>
            </a: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to the termination node </a:t>
            </a: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</a:rPr>
              <a:t>t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are “up” is the product of the individual arc probabil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Routing a message/call from origin to destination so that the probability it arrives is maximized is equivalent to picking </a:t>
            </a: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</a:rPr>
              <a:t>P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from the set </a:t>
            </a: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</a:rPr>
              <a:t>Path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so that we ha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52680" y="5607000"/>
            <a:ext cx="81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where “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Path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” is the set of feasible paths through the netwo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434880"/>
            <a:ext cx="7772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Application: Network Reliability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2736720" y="4349880"/>
          <a:ext cx="3826080" cy="98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4349880"/>
                    <a:ext cx="3826080" cy="98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379880" y="2936880"/>
            <a:ext cx="511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e can turn a “Max” into a “Min”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97680" y="409572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55800" y="4835520"/>
            <a:ext cx="6966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w we must introduce network variables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nd constra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12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quivalent Formulation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4360" y="1430280"/>
          <a:ext cx="367668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30280"/>
                    <a:ext cx="36766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4392720" y="1465200"/>
          <a:ext cx="38574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2720" y="1465200"/>
                    <a:ext cx="3857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757600" y="3598920"/>
          <a:ext cx="3698640" cy="89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7600" y="3598920"/>
                    <a:ext cx="36986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5440" y="1224000"/>
            <a:ext cx="83613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 hiker must choose among </a:t>
            </a:r>
            <a:r>
              <a:rPr b="0" i="1" lang="en-US" sz="2000" spc="-1" strike="noStrike">
                <a:solidFill>
                  <a:srgbClr val="ff9900"/>
                </a:solidFill>
                <a:latin typeface="Bookman Old Style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items to place in a knapsack for a tri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ach item has a weight of </a:t>
            </a:r>
            <a:r>
              <a:rPr b="0" i="1" lang="en-US" sz="2000" spc="-1" strike="noStrike">
                <a:solidFill>
                  <a:srgbClr val="ff9900"/>
                </a:solidFill>
                <a:latin typeface="Bookman Old Style"/>
              </a:rPr>
              <a:t>w</a:t>
            </a:r>
            <a:r>
              <a:rPr b="0" i="1" lang="en-US" sz="2000" spc="-1" strike="noStrike" baseline="-25000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in pounds) and value of </a:t>
            </a:r>
            <a:r>
              <a:rPr b="0" i="1" lang="en-US" sz="2000" spc="-1" strike="noStrike">
                <a:solidFill>
                  <a:srgbClr val="ff99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goal is to maximize the total value of the items in the knapsack subject to the total weight of the knapsack not exceeding </a:t>
            </a:r>
            <a:r>
              <a:rPr b="0" i="1" lang="en-US" sz="2000" spc="-1" strike="noStrike">
                <a:solidFill>
                  <a:srgbClr val="ff9900"/>
                </a:solidFill>
                <a:latin typeface="Bookman Old Style"/>
              </a:rPr>
              <a:t>W</a:t>
            </a: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ou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2600" y="3508200"/>
            <a:ext cx="847404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roblem can be formulated as a shortest (or longest) path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Exampl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19160" y="4411800"/>
            <a:ext cx="15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26120" y="44244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54760" y="44244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16520" y="44244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39040" y="44244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62280" y="4714920"/>
            <a:ext cx="312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56640" y="47656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72680" y="47782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57120" y="47782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69920" y="47912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85320" y="5059440"/>
            <a:ext cx="2232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w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3160" y="51483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54760" y="51483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16520" y="51483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751640" y="51354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45120" y="4756320"/>
            <a:ext cx="2144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 items with the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eights and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18080" y="4635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01720" y="4713120"/>
            <a:ext cx="3378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301840" y="4508640"/>
            <a:ext cx="0" cy="923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394240" y="509112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6560" y="2538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Another Application: Knapsack Problem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111680" y="1141560"/>
            <a:ext cx="5636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Our knapsack has a weight limit of </a:t>
            </a:r>
            <a:r>
              <a:rPr b="0" i="1" lang="en-US" sz="2300" spc="-1" strike="noStrike">
                <a:solidFill>
                  <a:srgbClr val="ff9900"/>
                </a:solidFill>
                <a:latin typeface="Bookman Old Style"/>
              </a:rPr>
              <a:t>W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= 6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108080" y="2317680"/>
            <a:ext cx="699120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9" name=""/>
          <p:cNvSpPr/>
          <p:nvPr/>
        </p:nvSpPr>
        <p:spPr>
          <a:xfrm>
            <a:off x="1452600" y="170820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g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43280" y="17049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g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06720" y="170496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g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70520" y="17049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g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78600" y="17272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g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97760" y="17398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g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Network for Knapsack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904680" y="1009800"/>
            <a:ext cx="701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he nodes have the form (stage, state) w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75640" y="1595520"/>
            <a:ext cx="852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93440" y="1582560"/>
            <a:ext cx="467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corresponds to the item # ju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6440" y="1981080"/>
            <a:ext cx="4798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selected or rejected (except f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661840" y="2357280"/>
            <a:ext cx="3624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artificial stages </a:t>
            </a:r>
            <a:r>
              <a:rPr b="0" i="1" lang="en-US" sz="2600" spc="-1" strike="noStrike">
                <a:solidFill>
                  <a:srgbClr val="ff9900"/>
                </a:solidFill>
                <a:latin typeface="Bookman Old Style"/>
              </a:rPr>
              <a:t>s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i="1" lang="en-US" sz="2600" spc="-1" strike="noStrike">
                <a:solidFill>
                  <a:srgbClr val="ff9900"/>
                </a:solidFill>
                <a:latin typeface="Bookman Old Style"/>
              </a:rPr>
              <a:t>t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92560" y="3139920"/>
            <a:ext cx="768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75800" y="3102120"/>
            <a:ext cx="543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corresponds to the weight capac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consumed so f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6560" y="4170240"/>
            <a:ext cx="83124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9840" indent="-33984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We solve the knapsack problem by finding the longest path from </a:t>
            </a:r>
            <a:r>
              <a:rPr b="0" i="1" lang="en-US" sz="2600" spc="-1" strike="noStrike">
                <a:solidFill>
                  <a:srgbClr val="ff9900"/>
                </a:solidFill>
                <a:latin typeface="Bookman Old Style"/>
              </a:rPr>
              <a:t>s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to </a:t>
            </a:r>
            <a:r>
              <a:rPr b="0" i="1" lang="en-US" sz="2600" spc="-1" strike="noStrike">
                <a:solidFill>
                  <a:srgbClr val="ff9900"/>
                </a:solidFill>
                <a:latin typeface="Bookman Old Style"/>
              </a:rPr>
              <a:t>t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.  (This can be converted into a shortest path problem by multiplying all costs by –1)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his is an example of a dynamic programming problem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07720"/>
            <a:ext cx="777240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Notation for Knapsack Network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415800" y="1082520"/>
            <a:ext cx="8234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In the maximum flow problem our goal is to send the largest amount of flow possible from a specified origin node to a specified destination node subject to arc capac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is is a pure network flow problem (i.e., </a:t>
            </a: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</a:rPr>
              <a:t>g</a:t>
            </a:r>
            <a:r>
              <a:rPr b="0" i="1" lang="en-US" sz="2200" spc="-1" strike="noStrike" baseline="-25000">
                <a:solidFill>
                  <a:srgbClr val="ff9900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= 1) in which all the (real) arc costs are zero (</a:t>
            </a: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</a:rPr>
              <a:t>c</a:t>
            </a:r>
            <a:r>
              <a:rPr b="0" i="1" lang="en-US" sz="2200" spc="-1" strike="noStrike" baseline="-25000">
                <a:solidFill>
                  <a:srgbClr val="ff9900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0) and at least some of the arc capacities are fini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16760" y="3983040"/>
            <a:ext cx="112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50800" y="5264280"/>
            <a:ext cx="236880" cy="247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81400" y="5710320"/>
            <a:ext cx="236520" cy="247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0120" y="4643280"/>
            <a:ext cx="236520" cy="246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98680" y="4632480"/>
            <a:ext cx="239760" cy="247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27400" y="5710320"/>
            <a:ext cx="238320" cy="247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50800" y="5243400"/>
            <a:ext cx="258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42600" y="52992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98680" y="4632480"/>
            <a:ext cx="262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4880" y="46735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81400" y="5700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72840" y="5751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00400" y="4632480"/>
            <a:ext cx="2588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06600" y="4686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0120" y="5700600"/>
            <a:ext cx="2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27120" y="5751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265720" y="5162400"/>
            <a:ext cx="236520" cy="246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191200" y="5138640"/>
            <a:ext cx="258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55720" y="52070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706400" y="5572080"/>
            <a:ext cx="346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3400" y="562608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7680" y="5467320"/>
            <a:ext cx="684000" cy="317520"/>
            <a:chOff x="1687680" y="5467320"/>
            <a:chExt cx="684000" cy="317520"/>
          </a:xfrm>
        </p:grpSpPr>
        <p:sp>
          <p:nvSpPr>
            <p:cNvPr id="628" name=""/>
            <p:cNvSpPr/>
            <p:nvPr/>
          </p:nvSpPr>
          <p:spPr>
            <a:xfrm>
              <a:off x="1687680" y="5467320"/>
              <a:ext cx="684000" cy="30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62240" y="5680080"/>
              <a:ext cx="109080" cy="10476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0" y="66"/>
                  </a:moveTo>
                  <a:lnTo>
                    <a:pt x="69" y="57"/>
                  </a:lnTo>
                  <a:lnTo>
                    <a:pt x="23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670040" y="4830480"/>
            <a:ext cx="718920" cy="463320"/>
            <a:chOff x="1670040" y="4830480"/>
            <a:chExt cx="718920" cy="463320"/>
          </a:xfrm>
        </p:grpSpPr>
        <p:sp>
          <p:nvSpPr>
            <p:cNvPr id="631" name=""/>
            <p:cNvSpPr/>
            <p:nvPr/>
          </p:nvSpPr>
          <p:spPr>
            <a:xfrm flipV="1">
              <a:off x="1670040" y="4830480"/>
              <a:ext cx="718920" cy="46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80960" y="483084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32" y="66"/>
                  </a:moveTo>
                  <a:lnTo>
                    <a:pt x="68" y="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647800" y="4683240"/>
            <a:ext cx="1452600" cy="120240"/>
            <a:chOff x="2647800" y="4683240"/>
            <a:chExt cx="1452600" cy="120240"/>
          </a:xfrm>
        </p:grpSpPr>
        <p:sp>
          <p:nvSpPr>
            <p:cNvPr id="634" name=""/>
            <p:cNvSpPr/>
            <p:nvPr/>
          </p:nvSpPr>
          <p:spPr>
            <a:xfrm>
              <a:off x="2647800" y="4741560"/>
              <a:ext cx="14526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03560" y="4683240"/>
              <a:ext cx="96840" cy="12024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0" y="70"/>
                  </a:moveTo>
                  <a:lnTo>
                    <a:pt x="61" y="3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617920" y="4832280"/>
            <a:ext cx="1501560" cy="928800"/>
            <a:chOff x="2617920" y="4832280"/>
            <a:chExt cx="1501560" cy="928800"/>
          </a:xfrm>
        </p:grpSpPr>
        <p:sp>
          <p:nvSpPr>
            <p:cNvPr id="637" name=""/>
            <p:cNvSpPr/>
            <p:nvPr/>
          </p:nvSpPr>
          <p:spPr>
            <a:xfrm>
              <a:off x="2617920" y="4832280"/>
              <a:ext cx="1501560" cy="9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10040" y="5659200"/>
              <a:ext cx="109080" cy="1018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62"/>
                  </a:moveTo>
                  <a:lnTo>
                    <a:pt x="69" y="64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4336920" y="4767120"/>
            <a:ext cx="920880" cy="473040"/>
            <a:chOff x="4336920" y="4767120"/>
            <a:chExt cx="920880" cy="473040"/>
          </a:xfrm>
        </p:grpSpPr>
        <p:sp>
          <p:nvSpPr>
            <p:cNvPr id="640" name=""/>
            <p:cNvSpPr/>
            <p:nvPr/>
          </p:nvSpPr>
          <p:spPr>
            <a:xfrm>
              <a:off x="4336920" y="4767120"/>
              <a:ext cx="920880" cy="46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48000" y="5138640"/>
              <a:ext cx="109800" cy="1015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64"/>
                  </a:moveTo>
                  <a:lnTo>
                    <a:pt x="69" y="60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657520" y="5781600"/>
            <a:ext cx="1452240" cy="111240"/>
            <a:chOff x="2657520" y="5781600"/>
            <a:chExt cx="1452240" cy="111240"/>
          </a:xfrm>
        </p:grpSpPr>
        <p:sp>
          <p:nvSpPr>
            <p:cNvPr id="643" name=""/>
            <p:cNvSpPr/>
            <p:nvPr/>
          </p:nvSpPr>
          <p:spPr>
            <a:xfrm>
              <a:off x="2657520" y="5835600"/>
              <a:ext cx="1452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13280" y="5781600"/>
              <a:ext cx="96480" cy="11124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0" y="70"/>
                  </a:moveTo>
                  <a:lnTo>
                    <a:pt x="61" y="3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395960" y="5338440"/>
            <a:ext cx="871200" cy="487080"/>
            <a:chOff x="4395960" y="5338440"/>
            <a:chExt cx="871200" cy="487080"/>
          </a:xfrm>
        </p:grpSpPr>
        <p:sp>
          <p:nvSpPr>
            <p:cNvPr id="646" name=""/>
            <p:cNvSpPr/>
            <p:nvPr/>
          </p:nvSpPr>
          <p:spPr>
            <a:xfrm flipV="1">
              <a:off x="4395960" y="5338440"/>
              <a:ext cx="871200" cy="48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57720" y="5338800"/>
              <a:ext cx="109080" cy="9828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29" y="62"/>
                  </a:moveTo>
                  <a:lnTo>
                    <a:pt x="6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176720" y="5075280"/>
            <a:ext cx="342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312440" y="512928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38480" y="5170320"/>
            <a:ext cx="3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78800" y="521172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63960" y="4494240"/>
            <a:ext cx="344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82040" y="454824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90640" y="4811760"/>
            <a:ext cx="3477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09080" y="480060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435400" y="4886280"/>
            <a:ext cx="99720" cy="823680"/>
            <a:chOff x="2435400" y="4886280"/>
            <a:chExt cx="99720" cy="823680"/>
          </a:xfrm>
        </p:grpSpPr>
        <p:sp>
          <p:nvSpPr>
            <p:cNvPr id="657" name=""/>
            <p:cNvSpPr/>
            <p:nvPr/>
          </p:nvSpPr>
          <p:spPr>
            <a:xfrm flipV="1">
              <a:off x="2484360" y="4886280"/>
              <a:ext cx="1080" cy="82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35400" y="4886280"/>
              <a:ext cx="99720" cy="10800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63" y="68"/>
                  </a:moveTo>
                  <a:lnTo>
                    <a:pt x="31" y="0"/>
                  </a:lnTo>
                  <a:lnTo>
                    <a:pt x="0" y="6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006720" y="5602320"/>
            <a:ext cx="345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123360" y="565632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132000" y="496080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49000" y="501480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189320" y="4907160"/>
            <a:ext cx="100080" cy="779400"/>
            <a:chOff x="4189320" y="4907160"/>
            <a:chExt cx="100080" cy="779400"/>
          </a:xfrm>
        </p:grpSpPr>
        <p:sp>
          <p:nvSpPr>
            <p:cNvPr id="664" name=""/>
            <p:cNvSpPr/>
            <p:nvPr/>
          </p:nvSpPr>
          <p:spPr>
            <a:xfrm flipV="1">
              <a:off x="4241880" y="4907160"/>
              <a:ext cx="1440" cy="779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4189320" y="4907160"/>
              <a:ext cx="100080" cy="10800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0" y="0"/>
                  </a:moveTo>
                  <a:lnTo>
                    <a:pt x="33" y="68"/>
                  </a:ln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695840" y="4767120"/>
            <a:ext cx="3459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14280" y="482112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678200" y="5551560"/>
            <a:ext cx="3463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95200" y="560556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85760" y="4270320"/>
            <a:ext cx="49402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31520" y="4910040"/>
            <a:ext cx="1854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) = arc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aximum Flow Problem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73" name=""/>
          <p:cNvSpPr/>
          <p:nvPr/>
        </p:nvSpPr>
        <p:spPr>
          <a:xfrm>
            <a:off x="6796080" y="6075360"/>
            <a:ext cx="142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66"/>
                </a:solidFill>
                <a:latin typeface="Bookman Old Style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Bookman Old Style"/>
                <a:hlinkClick r:id="rId1" action="ppaction://hlinksldjump"/>
              </a:rPr>
              <a:t>Max-c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327320" y="4119480"/>
            <a:ext cx="234720" cy="219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60440" y="4519440"/>
            <a:ext cx="235080" cy="219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94200" y="3557520"/>
            <a:ext cx="235080" cy="219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79520" y="3548160"/>
            <a:ext cx="235080" cy="218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013280" y="4519440"/>
            <a:ext cx="234720" cy="219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327320" y="4100400"/>
            <a:ext cx="25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79520" y="3548160"/>
            <a:ext cx="2574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60440" y="4510080"/>
            <a:ext cx="2574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84480" y="3548160"/>
            <a:ext cx="2574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94200" y="4510080"/>
            <a:ext cx="25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137200" y="4005360"/>
            <a:ext cx="257040" cy="247680"/>
            <a:chOff x="5137200" y="4005360"/>
            <a:chExt cx="257040" cy="247680"/>
          </a:xfrm>
        </p:grpSpPr>
        <p:sp>
          <p:nvSpPr>
            <p:cNvPr id="685" name=""/>
            <p:cNvSpPr/>
            <p:nvPr/>
          </p:nvSpPr>
          <p:spPr>
            <a:xfrm>
              <a:off x="5147280" y="4014720"/>
              <a:ext cx="235440" cy="219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37200" y="4005360"/>
              <a:ext cx="257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1565280" y="4300560"/>
            <a:ext cx="685800" cy="27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46200" y="3710160"/>
            <a:ext cx="723960" cy="419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27200" y="3643200"/>
            <a:ext cx="145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98760" y="3728880"/>
            <a:ext cx="15048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22800" y="3672000"/>
            <a:ext cx="923760" cy="419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36920" y="4633920"/>
            <a:ext cx="145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4280040" y="4186080"/>
            <a:ext cx="876240" cy="43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032280" y="3405240"/>
            <a:ext cx="342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08760" y="3675240"/>
            <a:ext cx="1966680" cy="823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99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ow   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5320" y="5668920"/>
            <a:ext cx="2773440" cy="476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um flow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61800" y="1014480"/>
            <a:ext cx="81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ur goal is to send as much flow as possible from node 1 to node 6.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This is the same network we used in the shortest path discussion but now the arc labels represent capacities not costs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19520" y="3224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[2]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9881000">
            <a:off x="4360320" y="445104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[3]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542000">
            <a:off x="4334400" y="348588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[2]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47160" y="466740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[2]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rot="1840800">
            <a:off x="3127320" y="386676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[1]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9823400">
            <a:off x="1397520" y="35031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[3]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459200">
            <a:off x="1370880" y="44683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[2]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4600" y="28306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34080" y="5904000"/>
            <a:ext cx="240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Bookman Old Style"/>
                <a:hlinkClick r:id="rId1" action="ppaction://hlinksldjump"/>
              </a:rPr>
              <a:t>MF Excel Solution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396800" y="4229280"/>
            <a:ext cx="3861000" cy="1433160"/>
            <a:chOff x="1396800" y="4229280"/>
            <a:chExt cx="3861000" cy="1433160"/>
          </a:xfrm>
        </p:grpSpPr>
        <p:sp>
          <p:nvSpPr>
            <p:cNvPr id="708" name=""/>
            <p:cNvSpPr/>
            <p:nvPr/>
          </p:nvSpPr>
          <p:spPr>
            <a:xfrm>
              <a:off x="5257800" y="4229280"/>
              <a:ext cx="0" cy="100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396800" y="5245200"/>
              <a:ext cx="3848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1397160" y="4350960"/>
              <a:ext cx="0" cy="89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42040" y="5248440"/>
              <a:ext cx="9169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[5]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  (</a:t>
              </a:r>
              <a:r>
                <a:rPr b="0" lang="en-US" sz="21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03440" y="218880"/>
            <a:ext cx="777240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Max Flow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075200" y="3781440"/>
            <a:ext cx="101520" cy="719280"/>
            <a:chOff x="4075200" y="3781440"/>
            <a:chExt cx="101520" cy="719280"/>
          </a:xfrm>
        </p:grpSpPr>
        <p:sp>
          <p:nvSpPr>
            <p:cNvPr id="714" name=""/>
            <p:cNvSpPr/>
            <p:nvPr/>
          </p:nvSpPr>
          <p:spPr>
            <a:xfrm>
              <a:off x="4124520" y="3781440"/>
              <a:ext cx="1080" cy="719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75200" y="3781440"/>
              <a:ext cx="101520" cy="8568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80" y="77"/>
                  </a:moveTo>
                  <a:lnTo>
                    <a:pt x="39" y="0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4255920" y="401652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Times New Roman"/>
              </a:rPr>
              <a:t>[0]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322360" y="3794040"/>
            <a:ext cx="101880" cy="719280"/>
            <a:chOff x="2322360" y="3794040"/>
            <a:chExt cx="101880" cy="719280"/>
          </a:xfrm>
        </p:grpSpPr>
        <p:sp>
          <p:nvSpPr>
            <p:cNvPr id="718" name=""/>
            <p:cNvSpPr/>
            <p:nvPr/>
          </p:nvSpPr>
          <p:spPr>
            <a:xfrm>
              <a:off x="2372040" y="3794040"/>
              <a:ext cx="1080" cy="719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22360" y="3794040"/>
              <a:ext cx="101880" cy="8568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80" y="77"/>
                  </a:moveTo>
                  <a:lnTo>
                    <a:pt x="39" y="0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2478240" y="4143240"/>
            <a:ext cx="46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66"/>
                </a:solidFill>
                <a:latin typeface="Times New Roman"/>
              </a:rPr>
              <a:t>[0]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2680" y="1289160"/>
            <a:ext cx="815472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There are several different linear programming formulations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The one we will use is based on the idea of a “circulation.”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We suppose an artificial return arc from the destination to the origin with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ts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= +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ts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= 1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External flows (supplies and demands) are zero at all nod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937120" y="4307040"/>
            <a:ext cx="255600" cy="247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790720" y="4294080"/>
            <a:ext cx="257400" cy="247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05240" y="3751200"/>
            <a:ext cx="255600" cy="2412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19640" y="4842000"/>
            <a:ext cx="255600" cy="242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746440" y="4213080"/>
            <a:ext cx="355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98360" y="4276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905440" y="4240080"/>
            <a:ext cx="354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49080" y="43038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029040" y="3881520"/>
            <a:ext cx="1263600" cy="429840"/>
            <a:chOff x="3029040" y="3881520"/>
            <a:chExt cx="1263600" cy="429840"/>
          </a:xfrm>
        </p:grpSpPr>
        <p:sp>
          <p:nvSpPr>
            <p:cNvPr id="731" name=""/>
            <p:cNvSpPr/>
            <p:nvPr/>
          </p:nvSpPr>
          <p:spPr>
            <a:xfrm flipV="1">
              <a:off x="3029040" y="3903480"/>
              <a:ext cx="126360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135320" y="3881520"/>
              <a:ext cx="157320" cy="13824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28" y="87"/>
                  </a:moveTo>
                  <a:lnTo>
                    <a:pt x="99" y="1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0560" y="3889440"/>
            <a:ext cx="1361880" cy="489960"/>
            <a:chOff x="4570560" y="3889440"/>
            <a:chExt cx="1361880" cy="489960"/>
          </a:xfrm>
        </p:grpSpPr>
        <p:sp>
          <p:nvSpPr>
            <p:cNvPr id="734" name=""/>
            <p:cNvSpPr/>
            <p:nvPr/>
          </p:nvSpPr>
          <p:spPr>
            <a:xfrm>
              <a:off x="4570560" y="3889440"/>
              <a:ext cx="136188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70440" y="4240080"/>
              <a:ext cx="162000" cy="139320"/>
            </a:xfrm>
            <a:custGeom>
              <a:avLst/>
              <a:gdLst/>
              <a:ahLst/>
              <a:rect l="l" t="t" r="r" b="b"/>
              <a:pathLst>
                <a:path w="102" h="88">
                  <a:moveTo>
                    <a:pt x="0" y="88"/>
                  </a:moveTo>
                  <a:lnTo>
                    <a:pt x="102" y="71"/>
                  </a:lnTo>
                  <a:lnTo>
                    <a:pt x="31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011400" y="4505400"/>
            <a:ext cx="1281240" cy="449280"/>
            <a:chOff x="3011400" y="4505400"/>
            <a:chExt cx="1281240" cy="449280"/>
          </a:xfrm>
        </p:grpSpPr>
        <p:sp>
          <p:nvSpPr>
            <p:cNvPr id="737" name=""/>
            <p:cNvSpPr/>
            <p:nvPr/>
          </p:nvSpPr>
          <p:spPr>
            <a:xfrm>
              <a:off x="3011400" y="4505400"/>
              <a:ext cx="128124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30640" y="4815000"/>
              <a:ext cx="162000" cy="139680"/>
            </a:xfrm>
            <a:custGeom>
              <a:avLst/>
              <a:gdLst/>
              <a:ahLst/>
              <a:rect l="l" t="t" r="r" b="b"/>
              <a:pathLst>
                <a:path w="102" h="88">
                  <a:moveTo>
                    <a:pt x="0" y="88"/>
                  </a:moveTo>
                  <a:lnTo>
                    <a:pt x="102" y="71"/>
                  </a:lnTo>
                  <a:lnTo>
                    <a:pt x="31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4584600" y="4468680"/>
            <a:ext cx="1333440" cy="458640"/>
            <a:chOff x="4584600" y="4468680"/>
            <a:chExt cx="1333440" cy="458640"/>
          </a:xfrm>
        </p:grpSpPr>
        <p:sp>
          <p:nvSpPr>
            <p:cNvPr id="740" name=""/>
            <p:cNvSpPr/>
            <p:nvPr/>
          </p:nvSpPr>
          <p:spPr>
            <a:xfrm flipV="1">
              <a:off x="4584600" y="4491000"/>
              <a:ext cx="1333440" cy="43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761080" y="4468680"/>
              <a:ext cx="156960" cy="1396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29" y="88"/>
                  </a:moveTo>
                  <a:lnTo>
                    <a:pt x="99" y="1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 flipH="1">
            <a:off x="6075360" y="4545000"/>
            <a:ext cx="6480" cy="101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flipV="1">
            <a:off x="2870280" y="5546520"/>
            <a:ext cx="3216240" cy="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2800440" y="4544640"/>
            <a:ext cx="147600" cy="1011240"/>
            <a:chOff x="2800440" y="4544640"/>
            <a:chExt cx="147600" cy="1011240"/>
          </a:xfrm>
        </p:grpSpPr>
        <p:sp>
          <p:nvSpPr>
            <p:cNvPr id="745" name=""/>
            <p:cNvSpPr/>
            <p:nvPr/>
          </p:nvSpPr>
          <p:spPr>
            <a:xfrm flipV="1">
              <a:off x="2871720" y="4544640"/>
              <a:ext cx="1800" cy="10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00440" y="4545000"/>
              <a:ext cx="147600" cy="14436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93" y="91"/>
                  </a:moveTo>
                  <a:lnTo>
                    <a:pt x="45" y="0"/>
                  </a:lnTo>
                  <a:lnTo>
                    <a:pt x="0" y="9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4179960" y="4002120"/>
            <a:ext cx="166680" cy="826920"/>
            <a:chOff x="4179960" y="4002120"/>
            <a:chExt cx="166680" cy="826920"/>
          </a:xfrm>
        </p:grpSpPr>
        <p:sp>
          <p:nvSpPr>
            <p:cNvPr id="748" name=""/>
            <p:cNvSpPr/>
            <p:nvPr/>
          </p:nvSpPr>
          <p:spPr>
            <a:xfrm>
              <a:off x="4179960" y="4002120"/>
              <a:ext cx="152280" cy="826920"/>
            </a:xfrm>
            <a:custGeom>
              <a:avLst/>
              <a:gdLst/>
              <a:ahLst/>
              <a:rect l="l" t="t" r="r" b="b"/>
              <a:pathLst>
                <a:path w="96" h="521">
                  <a:moveTo>
                    <a:pt x="93" y="0"/>
                  </a:moveTo>
                  <a:lnTo>
                    <a:pt x="59" y="48"/>
                  </a:lnTo>
                  <a:lnTo>
                    <a:pt x="28" y="96"/>
                  </a:lnTo>
                  <a:lnTo>
                    <a:pt x="17" y="122"/>
                  </a:lnTo>
                  <a:lnTo>
                    <a:pt x="6" y="150"/>
                  </a:lnTo>
                  <a:lnTo>
                    <a:pt x="0" y="181"/>
                  </a:lnTo>
                  <a:lnTo>
                    <a:pt x="0" y="212"/>
                  </a:lnTo>
                  <a:lnTo>
                    <a:pt x="3" y="249"/>
                  </a:lnTo>
                  <a:lnTo>
                    <a:pt x="14" y="289"/>
                  </a:lnTo>
                  <a:lnTo>
                    <a:pt x="25" y="334"/>
                  </a:lnTo>
                  <a:lnTo>
                    <a:pt x="42" y="379"/>
                  </a:lnTo>
                  <a:lnTo>
                    <a:pt x="59" y="422"/>
                  </a:lnTo>
                  <a:lnTo>
                    <a:pt x="76" y="461"/>
                  </a:lnTo>
                  <a:lnTo>
                    <a:pt x="88" y="495"/>
                  </a:lnTo>
                  <a:lnTo>
                    <a:pt x="96" y="52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11640" y="4667040"/>
              <a:ext cx="13500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0" y="34"/>
                  </a:moveTo>
                  <a:lnTo>
                    <a:pt x="76" y="102"/>
                  </a:lnTo>
                  <a:lnTo>
                    <a:pt x="85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543560" y="3989520"/>
            <a:ext cx="152280" cy="825480"/>
            <a:chOff x="4543560" y="3989520"/>
            <a:chExt cx="152280" cy="825480"/>
          </a:xfrm>
        </p:grpSpPr>
        <p:sp>
          <p:nvSpPr>
            <p:cNvPr id="751" name=""/>
            <p:cNvSpPr/>
            <p:nvPr/>
          </p:nvSpPr>
          <p:spPr>
            <a:xfrm>
              <a:off x="4543560" y="3989520"/>
              <a:ext cx="152280" cy="825480"/>
            </a:xfrm>
            <a:custGeom>
              <a:avLst/>
              <a:gdLst/>
              <a:ahLst/>
              <a:rect l="l" t="t" r="r" b="b"/>
              <a:pathLst>
                <a:path w="96" h="520">
                  <a:moveTo>
                    <a:pt x="3" y="0"/>
                  </a:moveTo>
                  <a:lnTo>
                    <a:pt x="37" y="48"/>
                  </a:lnTo>
                  <a:lnTo>
                    <a:pt x="68" y="96"/>
                  </a:lnTo>
                  <a:lnTo>
                    <a:pt x="79" y="121"/>
                  </a:lnTo>
                  <a:lnTo>
                    <a:pt x="88" y="149"/>
                  </a:lnTo>
                  <a:lnTo>
                    <a:pt x="94" y="181"/>
                  </a:lnTo>
                  <a:lnTo>
                    <a:pt x="96" y="212"/>
                  </a:lnTo>
                  <a:lnTo>
                    <a:pt x="94" y="248"/>
                  </a:lnTo>
                  <a:lnTo>
                    <a:pt x="82" y="288"/>
                  </a:lnTo>
                  <a:lnTo>
                    <a:pt x="71" y="333"/>
                  </a:lnTo>
                  <a:lnTo>
                    <a:pt x="54" y="379"/>
                  </a:lnTo>
                  <a:lnTo>
                    <a:pt x="37" y="421"/>
                  </a:lnTo>
                  <a:lnTo>
                    <a:pt x="20" y="461"/>
                  </a:lnTo>
                  <a:lnTo>
                    <a:pt x="9" y="495"/>
                  </a:lnTo>
                  <a:lnTo>
                    <a:pt x="0" y="52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48240" y="3989520"/>
              <a:ext cx="144360" cy="15732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91" y="45"/>
                  </a:moveTo>
                  <a:lnTo>
                    <a:pt x="0" y="0"/>
                  </a:lnTo>
                  <a:lnTo>
                    <a:pt x="17" y="99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Max Flow Problem Formulation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2520" y="380520"/>
            <a:ext cx="7429320" cy="8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Example of (Distribution) Network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535040"/>
            <a:ext cx="792468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877400" y="1147680"/>
            <a:ext cx="13172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ax  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6800" y="1865160"/>
            <a:ext cx="38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92320" y="1765440"/>
            <a:ext cx="24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13160" y="1789200"/>
            <a:ext cx="279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83040" y="187812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59240" y="1790640"/>
            <a:ext cx="24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627800" y="1932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54880" y="1801800"/>
            <a:ext cx="22024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ji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0,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53120" y="2268360"/>
            <a:ext cx="146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607120" y="2322360"/>
            <a:ext cx="104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19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19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FS(</a:t>
            </a:r>
            <a:r>
              <a:rPr b="0" i="1" lang="en-US" sz="19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31280" y="2322360"/>
            <a:ext cx="10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19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19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RS(</a:t>
            </a:r>
            <a:r>
              <a:rPr b="0" i="1" lang="en-US" sz="19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46080" y="2895480"/>
            <a:ext cx="16934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0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303600" y="29336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924880" y="2887560"/>
            <a:ext cx="138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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79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Max Flow LP Model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769" name=""/>
          <p:cNvSpPr/>
          <p:nvPr/>
        </p:nvSpPr>
        <p:spPr>
          <a:xfrm>
            <a:off x="1803240" y="3873600"/>
            <a:ext cx="615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ere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Bookman Old Style"/>
              </a:rPr>
              <a:t>t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is the flow on the circulation arc (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1720" y="2031840"/>
            <a:ext cx="5903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Examples of cuts in the </a:t>
            </a:r>
            <a:r>
              <a:rPr b="0" lang="en-US" sz="2300" spc="-1" strike="noStrike" u="sng">
                <a:solidFill>
                  <a:srgbClr val="ccccff"/>
                </a:solidFill>
                <a:uFillTx/>
                <a:latin typeface="Bookman Old Style"/>
                <a:hlinkClick r:id="rId1" action="ppaction://hlinksldjump"/>
              </a:rPr>
              <a:t>network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ookman Old Style"/>
              </a:rPr>
              <a:t> above are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38200" y="2603520"/>
            <a:ext cx="25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96000" y="2603520"/>
            <a:ext cx="88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  {1}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43240" y="2603520"/>
            <a:ext cx="51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2400" y="26035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33120" y="2562120"/>
            <a:ext cx="143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{2,3,4,5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187000" y="3290760"/>
            <a:ext cx="132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=   {1,2,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83200" y="3278160"/>
            <a:ext cx="36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892400" y="32907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56880" y="3251160"/>
            <a:ext cx="91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151000" y="3979800"/>
            <a:ext cx="135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=    {1,3,5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06960" y="3967200"/>
            <a:ext cx="36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92400" y="39798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56880" y="3951360"/>
            <a:ext cx="91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{2,4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0880" y="4695840"/>
            <a:ext cx="829476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The </a:t>
            </a:r>
            <a:r>
              <a:rPr b="0" lang="en-US" sz="2300" spc="-1" strike="noStrike">
                <a:solidFill>
                  <a:srgbClr val="ff9900"/>
                </a:solidFill>
                <a:latin typeface="Bookman Old Style"/>
              </a:rPr>
              <a:t>value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 of a cut V(S,T) is the sum of all the arc capacities that have their tails in S and their heads in 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28680" y="5740560"/>
            <a:ext cx="160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V(S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,T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) = 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40560" y="5715000"/>
            <a:ext cx="160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V(S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,T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) = 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31640" y="1012680"/>
            <a:ext cx="8383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Cut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 A partition of the nodes into two sets S and T.  The origin node must be in S and the destination node must be in 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64040" y="3268800"/>
            <a:ext cx="437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89600" y="3935520"/>
            <a:ext cx="437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74000" y="5676840"/>
            <a:ext cx="1613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V(S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,T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Bookman Old Style"/>
              </a:rPr>
              <a:t>) = 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295200"/>
            <a:ext cx="7772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Min-Cut Problem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874800" y="1258920"/>
            <a:ext cx="7454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The value of the </a:t>
            </a:r>
            <a:r>
              <a:rPr b="0" lang="en-US" sz="2500" spc="-1" strike="noStrike">
                <a:solidFill>
                  <a:srgbClr val="ff9900"/>
                </a:solidFill>
                <a:latin typeface="Bookman Old Style"/>
              </a:rPr>
              <a:t>maximum flow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 = value of the </a:t>
            </a:r>
            <a:r>
              <a:rPr b="0" lang="en-US" sz="2500" spc="-1" strike="noStrike">
                <a:solidFill>
                  <a:srgbClr val="ff9900"/>
                </a:solidFill>
                <a:latin typeface="Bookman Old Style"/>
              </a:rPr>
              <a:t>minimum cut</a:t>
            </a:r>
            <a:r>
              <a:rPr b="0" lang="en-US" sz="25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0960" y="2414520"/>
            <a:ext cx="83552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1160" indent="-281160">
              <a:lnSpc>
                <a:spcPct val="120000"/>
              </a:lnSpc>
              <a:spcAft>
                <a:spcPts val="6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our problem, S = {1,2,3} / T = {4,5,6} is a minimum cu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Aft>
                <a:spcPts val="601"/>
              </a:spcAft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arcs that go from S to T are (2,4), (2,5) and (3,5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te that the flow on each of these arcs is at its capacity.  As such, they may be viewed as the bottlenecks of the syste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36560" y="3250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Max-Flow Min-Cut Theorem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98400" y="5583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Identifying the Min Cut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579600" y="1892160"/>
            <a:ext cx="8380080" cy="3048840"/>
            <a:chOff x="579600" y="1892160"/>
            <a:chExt cx="8380080" cy="3048840"/>
          </a:xfrm>
        </p:grpSpPr>
        <p:sp>
          <p:nvSpPr>
            <p:cNvPr id="797" name=""/>
            <p:cNvSpPr/>
            <p:nvPr/>
          </p:nvSpPr>
          <p:spPr>
            <a:xfrm>
              <a:off x="768960" y="1892160"/>
              <a:ext cx="6127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35080" indent="-235080">
                <a:lnSpc>
                  <a:spcPct val="10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ookman Old Style"/>
                </a:rPr>
                <a:t>Identify minimum cut from sensitivity report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47440" y="2320920"/>
              <a:ext cx="7935840" cy="19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95360" indent="-495360">
                <a:lnSpc>
                  <a:spcPct val="100000"/>
                </a:lnSpc>
                <a:buClr>
                  <a:srgbClr val="ffffff"/>
                </a:buClr>
                <a:buFont typeface="Bookman Old Style"/>
                <a:buAutoNum type="roman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If the reduced cost for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Bookman Old Style"/>
                </a:rPr>
                <a:t>ij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has value 1 then arc 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i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,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lang="en-US" sz="1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 has its tail 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i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 in S and its head 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j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) in T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95360" indent="-495360">
                <a:lnSpc>
                  <a:spcPct val="100000"/>
                </a:lnSpc>
                <a:buClr>
                  <a:srgbClr val="ffffff"/>
                </a:buClr>
                <a:buFont typeface="Bookman Old Style"/>
                <a:buAutoNum type="roman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Reduced costs are the shadow prices on the simple bound constraint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Bookman Old Style"/>
                </a:rPr>
                <a:t>ij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u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Bookman Old Style"/>
                </a:rPr>
                <a:t>ij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95360" indent="-495360">
                <a:lnSpc>
                  <a:spcPct val="100000"/>
                </a:lnSpc>
                <a:buClr>
                  <a:srgbClr val="ffffff"/>
                </a:buClr>
                <a:buFont typeface="Bookman Old Style"/>
                <a:buAutoNum type="roman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Value of another unit of capacity is 1 or 0 depending on whether or not the arc is part of the bottlen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9600" y="4330800"/>
              <a:ext cx="83800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35080" indent="-235080">
                <a:lnSpc>
                  <a:spcPct val="10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Note that the sum of the arc capacities with reduced costs of 1 equals the max flow valu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350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Max Flow Problem Solution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01" name=""/>
          <p:cNvSpPr/>
          <p:nvPr/>
        </p:nvSpPr>
        <p:spPr>
          <a:xfrm>
            <a:off x="5877000" y="6059520"/>
            <a:ext cx="1930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Bookman Old Style"/>
                <a:hlinkClick r:id="rId1" action="ppaction://hlinksldjump"/>
              </a:rPr>
              <a:t>MF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58840" y="1560600"/>
            <a:ext cx="85788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044720" y="1057320"/>
            <a:ext cx="6973920" cy="537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71800" y="11286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abl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485160" y="136692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098960" y="1366920"/>
            <a:ext cx="75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073480" y="1366920"/>
            <a:ext cx="80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120360" y="1366920"/>
            <a:ext cx="8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50680" y="1366920"/>
            <a:ext cx="8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97240" y="158904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436480" y="1589040"/>
            <a:ext cx="4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58520" y="1589040"/>
            <a:ext cx="47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270320" y="15890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018760" y="158904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71120" y="158904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167960" y="158904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375920" y="184140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E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024640" y="184140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1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57040" y="1841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70000" y="1841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57200" y="1841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471360" y="1841400"/>
            <a:ext cx="52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E+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916400" y="1841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380240" y="206856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E$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24640" y="206856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2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57040" y="2068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770000" y="2068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857200" y="2068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87520" y="2068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916400" y="2068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380240" y="229536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E$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024640" y="229536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3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57040" y="2295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70000" y="2295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857200" y="2295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87520" y="2295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01680" y="2295360"/>
            <a:ext cx="52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E+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80240" y="252252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E$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24640" y="252252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4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57040" y="252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770000" y="252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857200" y="252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471360" y="2522520"/>
            <a:ext cx="52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E+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916400" y="252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80240" y="274968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E$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24640" y="274968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5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57040" y="274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770000" y="274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857200" y="274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471360" y="2749680"/>
            <a:ext cx="52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E+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916400" y="274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380240" y="297648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E$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24640" y="297648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6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57040" y="2976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70000" y="2976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857200" y="2976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71360" y="2976480"/>
            <a:ext cx="52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E+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916400" y="2976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380240" y="320364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E$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024640" y="320364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7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57040" y="3203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70000" y="3203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857200" y="3203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887520" y="3203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501680" y="3203640"/>
            <a:ext cx="52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E+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380240" y="343044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E$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24640" y="343044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8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57040" y="3430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770000" y="3430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857200" y="3430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887520" y="3430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16400" y="3430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80240" y="365760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E$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024640" y="365760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9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57040" y="3657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70000" y="3657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857200" y="3657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471360" y="3657600"/>
            <a:ext cx="52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E+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916400" y="3657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80240" y="388152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E$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27160" y="3881520"/>
            <a:ext cx="89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10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57040" y="3881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770000" y="3881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857200" y="3881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471360" y="3881520"/>
            <a:ext cx="52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E+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916400" y="3881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59200" y="4348080"/>
            <a:ext cx="90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485160" y="458640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134960" y="4586400"/>
            <a:ext cx="68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31720" y="4586400"/>
            <a:ext cx="89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120360" y="4586400"/>
            <a:ext cx="8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150680" y="4586400"/>
            <a:ext cx="8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97240" y="480852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36480" y="4808520"/>
            <a:ext cx="4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458520" y="4808520"/>
            <a:ext cx="47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49800" y="480852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083200" y="4808520"/>
            <a:ext cx="78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H.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71120" y="480852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167960" y="480852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377720" y="506088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N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37960" y="5060880"/>
            <a:ext cx="122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1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857040" y="5060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770000" y="5060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857200" y="5060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87520" y="5060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916400" y="5060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380600" y="528804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N$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037960" y="5288040"/>
            <a:ext cx="122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2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57040" y="528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770000" y="528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857200" y="528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1360" y="5288040"/>
            <a:ext cx="52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E+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916400" y="528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80600" y="551484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N$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037960" y="5514840"/>
            <a:ext cx="122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3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57040" y="5514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770000" y="5514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857200" y="5514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887520" y="5514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16400" y="5514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80600" y="5742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N$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037960" y="5742000"/>
            <a:ext cx="122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4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57040" y="574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770000" y="574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857200" y="574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87520" y="574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16400" y="574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80600" y="596916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N$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037960" y="5969160"/>
            <a:ext cx="122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5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57040" y="5969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70000" y="5969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57200" y="5969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887520" y="5969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916400" y="5969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380600" y="619128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N$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037960" y="6191280"/>
            <a:ext cx="122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6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57040" y="6191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770000" y="6191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857200" y="6191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87520" y="6191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916400" y="6191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284120" y="1344600"/>
            <a:ext cx="6728040" cy="3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84120" y="1812960"/>
            <a:ext cx="6728040" cy="3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284120" y="2048040"/>
            <a:ext cx="67280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284120" y="2048040"/>
            <a:ext cx="6728040" cy="1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84120" y="2274840"/>
            <a:ext cx="672804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284120" y="2274840"/>
            <a:ext cx="6728040" cy="1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284120" y="2502000"/>
            <a:ext cx="67280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284120" y="2502000"/>
            <a:ext cx="672804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284120" y="2728800"/>
            <a:ext cx="672804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284120" y="2728800"/>
            <a:ext cx="672804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84120" y="2957400"/>
            <a:ext cx="672804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284120" y="2957400"/>
            <a:ext cx="6728040" cy="1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284120" y="3184560"/>
            <a:ext cx="67280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84120" y="3184560"/>
            <a:ext cx="6728040" cy="1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284120" y="3411360"/>
            <a:ext cx="672804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284120" y="3411360"/>
            <a:ext cx="6728040" cy="1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284120" y="3638520"/>
            <a:ext cx="67280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84120" y="3638520"/>
            <a:ext cx="6728040" cy="1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284120" y="3865680"/>
            <a:ext cx="67280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84120" y="3865680"/>
            <a:ext cx="6728040" cy="1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84120" y="4097160"/>
            <a:ext cx="6728040" cy="3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284120" y="4564080"/>
            <a:ext cx="6728040" cy="3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84120" y="5032440"/>
            <a:ext cx="6728040" cy="3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84120" y="5267160"/>
            <a:ext cx="672804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84120" y="5267160"/>
            <a:ext cx="6728040" cy="1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84120" y="5494320"/>
            <a:ext cx="67280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84120" y="5494320"/>
            <a:ext cx="6728040" cy="1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284120" y="5721480"/>
            <a:ext cx="67280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284120" y="5721480"/>
            <a:ext cx="6728040" cy="1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84120" y="5948280"/>
            <a:ext cx="672804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284120" y="5948280"/>
            <a:ext cx="672804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284120" y="6175440"/>
            <a:ext cx="67280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84120" y="6175440"/>
            <a:ext cx="672804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284120" y="6407280"/>
            <a:ext cx="6728040" cy="3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65040" y="138240"/>
            <a:ext cx="8575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Sensitivity Report for Max Flow Problem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What You Should Know About Network Flow Programming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formulate a network flow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distinguish between the different network-type probl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construct a network diagram for a particula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find a solution to a problem using the network Excel add-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06000" y="266760"/>
            <a:ext cx="64897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Terminology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51" name=""/>
          <p:cNvSpPr/>
          <p:nvPr/>
        </p:nvSpPr>
        <p:spPr>
          <a:xfrm>
            <a:off x="1359000" y="1282680"/>
            <a:ext cx="6527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odes and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rc flow (v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pper and lower 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ains (and lo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External flow (supply an dem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ptimal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5480" y="458280"/>
            <a:ext cx="69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Network Flow Problem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66960" y="1806480"/>
            <a:ext cx="729612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69520" y="981000"/>
            <a:ext cx="587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We wish to ship goods (a single commodity)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5240" y="1311120"/>
            <a:ext cx="659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      </a:t>
            </a:r>
            <a:r>
              <a:rPr b="0" i="1" lang="en-US" sz="2000" spc="-1" strike="noStrike">
                <a:solidFill>
                  <a:srgbClr val="ffff00"/>
                </a:solidFill>
                <a:latin typeface="Bookman Old Style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warehouses to </a:t>
            </a:r>
            <a:r>
              <a:rPr b="0" i="1" lang="en-US" sz="2000" spc="-1" strike="noStrike">
                <a:solidFill>
                  <a:srgbClr val="ffff00"/>
                </a:solidFill>
                <a:latin typeface="Bookman Old Style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destinations at minimum c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0600" y="1684440"/>
            <a:ext cx="7025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Warehous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has </a:t>
            </a:r>
            <a:r>
              <a:rPr b="0" i="1" lang="en-US" sz="2000" spc="-1" strike="noStrike">
                <a:solidFill>
                  <a:srgbClr val="ff9900"/>
                </a:solidFill>
                <a:latin typeface="Bookman Old Style"/>
              </a:rPr>
              <a:t>s</a:t>
            </a:r>
            <a:r>
              <a:rPr b="0" i="1" lang="en-US" sz="2000" spc="-1" strike="noStrike" baseline="-25000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units available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and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55760" y="2111400"/>
            <a:ext cx="4024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has a demand of </a:t>
            </a:r>
            <a:r>
              <a:rPr b="0" i="1" lang="en-US" sz="2000" spc="-1" strike="noStrike">
                <a:solidFill>
                  <a:srgbClr val="ff9900"/>
                </a:solidFill>
                <a:latin typeface="Bookman Old Style"/>
              </a:rPr>
              <a:t>d</a:t>
            </a:r>
            <a:r>
              <a:rPr b="0" i="1" lang="en-US" sz="2000" spc="-1" strike="noStrike" baseline="-25000">
                <a:solidFill>
                  <a:srgbClr val="ff9900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99600" y="205416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3560" y="2795760"/>
            <a:ext cx="6607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Goal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Ship the goods from warehouses to destin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t minimum c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16240" y="3686040"/>
            <a:ext cx="7643880" cy="2605680"/>
            <a:chOff x="516240" y="3686040"/>
            <a:chExt cx="7643880" cy="2605680"/>
          </a:xfrm>
        </p:grpSpPr>
        <p:sp>
          <p:nvSpPr>
            <p:cNvPr id="61" name=""/>
            <p:cNvSpPr/>
            <p:nvPr/>
          </p:nvSpPr>
          <p:spPr>
            <a:xfrm>
              <a:off x="516240" y="3699000"/>
              <a:ext cx="1091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Bookman Old Style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28960" y="3686040"/>
              <a:ext cx="136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Wareho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56480" y="3686040"/>
              <a:ext cx="80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93600" y="3686040"/>
              <a:ext cx="971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Mark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35200" y="3686040"/>
              <a:ext cx="102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88720" y="4000680"/>
              <a:ext cx="162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San Franci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71040" y="400860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3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9280" y="4000680"/>
              <a:ext cx="1142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New Y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46240" y="402912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3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4360" y="4325760"/>
              <a:ext cx="142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Los Ange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94800" y="433224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8560" y="4325760"/>
              <a:ext cx="96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Chica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46240" y="435276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04040" y="4654440"/>
              <a:ext cx="75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Aus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46240" y="468324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8000" y="5330880"/>
              <a:ext cx="2338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Bookman Old Style"/>
                </a:rPr>
                <a:t>Unit Shipping Co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73080" y="531828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From/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96880" y="5318280"/>
              <a:ext cx="33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02640" y="5305320"/>
              <a:ext cx="96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Chica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46880" y="5318280"/>
              <a:ext cx="75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Aus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4160" y="5635800"/>
              <a:ext cx="27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S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8400" y="564840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2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18360" y="564840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43800" y="564840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39400" y="5959440"/>
              <a:ext cx="29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62400" y="5986440"/>
              <a:ext cx="16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18360" y="597204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43800" y="597204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1.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4300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Transportation Problem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14480" y="4189320"/>
            <a:ext cx="498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5080" indent="-2224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otal supply = 950, total demand = 9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4160" y="4708440"/>
            <a:ext cx="70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ransportation problem is defined on a bipartit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53920" y="5229360"/>
            <a:ext cx="76726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rcs only go from supply nodes to destination nodes; to handle excess supply we can create a </a:t>
            </a:r>
            <a:r>
              <a:rPr b="0" lang="en-US" sz="2000" spc="-1" strike="noStrike">
                <a:solidFill>
                  <a:srgbClr val="ff0066"/>
                </a:solidFill>
                <a:latin typeface="Bookman Old Style"/>
              </a:rPr>
              <a:t>dumm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destination with a demand of 50 and 0 shipmen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5320" y="374760"/>
            <a:ext cx="7939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e min-cost flow network for this transportation problem is give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15880" y="1474920"/>
            <a:ext cx="687600" cy="5270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2813040"/>
            <a:ext cx="685800" cy="5270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15200" y="1177920"/>
            <a:ext cx="603000" cy="322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1986120"/>
            <a:ext cx="608040" cy="322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42200" y="2728800"/>
            <a:ext cx="606240" cy="327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28680" y="1685880"/>
            <a:ext cx="4286520" cy="512640"/>
            <a:chOff x="2128680" y="1685880"/>
            <a:chExt cx="4286520" cy="512640"/>
          </a:xfrm>
        </p:grpSpPr>
        <p:sp>
          <p:nvSpPr>
            <p:cNvPr id="100" name=""/>
            <p:cNvSpPr/>
            <p:nvPr/>
          </p:nvSpPr>
          <p:spPr>
            <a:xfrm>
              <a:off x="2128680" y="1685880"/>
              <a:ext cx="428652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67600" y="2073240"/>
              <a:ext cx="147600" cy="12528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0" y="79"/>
                  </a:moveTo>
                  <a:lnTo>
                    <a:pt x="93" y="48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16080" y="1781280"/>
            <a:ext cx="4259160" cy="1094760"/>
            <a:chOff x="2116080" y="1781280"/>
            <a:chExt cx="4259160" cy="1094760"/>
          </a:xfrm>
        </p:grpSpPr>
        <p:sp>
          <p:nvSpPr>
            <p:cNvPr id="103" name=""/>
            <p:cNvSpPr/>
            <p:nvPr/>
          </p:nvSpPr>
          <p:spPr>
            <a:xfrm>
              <a:off x="2116080" y="1781280"/>
              <a:ext cx="4259160" cy="106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22960" y="2759040"/>
              <a:ext cx="152280" cy="11700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0" y="74"/>
                  </a:moveTo>
                  <a:lnTo>
                    <a:pt x="96" y="58"/>
                  </a:lnTo>
                  <a:lnTo>
                    <a:pt x="25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058840" y="1303200"/>
            <a:ext cx="4299120" cy="277920"/>
            <a:chOff x="2058840" y="1303200"/>
            <a:chExt cx="4299120" cy="277920"/>
          </a:xfrm>
        </p:grpSpPr>
        <p:sp>
          <p:nvSpPr>
            <p:cNvPr id="106" name=""/>
            <p:cNvSpPr/>
            <p:nvPr/>
          </p:nvSpPr>
          <p:spPr>
            <a:xfrm flipV="1">
              <a:off x="2058840" y="1357200"/>
              <a:ext cx="4299120" cy="22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15040" y="1303200"/>
              <a:ext cx="142920" cy="12528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5" y="79"/>
                  </a:moveTo>
                  <a:lnTo>
                    <a:pt x="90" y="3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058840" y="1450800"/>
            <a:ext cx="4395960" cy="1482840"/>
            <a:chOff x="2058840" y="1450800"/>
            <a:chExt cx="4395960" cy="1482840"/>
          </a:xfrm>
        </p:grpSpPr>
        <p:sp>
          <p:nvSpPr>
            <p:cNvPr id="109" name=""/>
            <p:cNvSpPr/>
            <p:nvPr/>
          </p:nvSpPr>
          <p:spPr>
            <a:xfrm flipV="1">
              <a:off x="2058840" y="1461960"/>
              <a:ext cx="4395960" cy="147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97480" y="1450800"/>
              <a:ext cx="157320" cy="11736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36" y="74"/>
                  </a:moveTo>
                  <a:lnTo>
                    <a:pt x="99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28680" y="2209680"/>
            <a:ext cx="4299120" cy="841320"/>
            <a:chOff x="2128680" y="2209680"/>
            <a:chExt cx="4299120" cy="841320"/>
          </a:xfrm>
        </p:grpSpPr>
        <p:sp>
          <p:nvSpPr>
            <p:cNvPr id="112" name=""/>
            <p:cNvSpPr/>
            <p:nvPr/>
          </p:nvSpPr>
          <p:spPr>
            <a:xfrm flipV="1">
              <a:off x="2128680" y="2244600"/>
              <a:ext cx="429912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5520" y="2209680"/>
              <a:ext cx="152280" cy="125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22" y="79"/>
                  </a:moveTo>
                  <a:lnTo>
                    <a:pt x="96" y="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085840" y="2914560"/>
            <a:ext cx="4341960" cy="231840"/>
            <a:chOff x="2085840" y="2914560"/>
            <a:chExt cx="4341960" cy="231840"/>
          </a:xfrm>
        </p:grpSpPr>
        <p:sp>
          <p:nvSpPr>
            <p:cNvPr id="115" name=""/>
            <p:cNvSpPr/>
            <p:nvPr/>
          </p:nvSpPr>
          <p:spPr>
            <a:xfrm flipV="1">
              <a:off x="2085840" y="2968560"/>
              <a:ext cx="434196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84880" y="2914560"/>
              <a:ext cx="142920" cy="12528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5" y="79"/>
                  </a:moveTo>
                  <a:lnTo>
                    <a:pt x="90" y="3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30080" y="161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5240" y="296856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46960" y="125100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19960" y="202104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32560" y="2778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6160" y="16304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35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8760" y="2960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6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2520" y="28083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-27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02520" y="20509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-3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120" y="1254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[-32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84160" y="127332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7360" y="155592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.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62080" y="26002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89400" y="24400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0960" y="182412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52600" y="285120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.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046240" y="1841400"/>
            <a:ext cx="5587560" cy="1949400"/>
            <a:chOff x="2046240" y="1841400"/>
            <a:chExt cx="5587560" cy="1949400"/>
          </a:xfrm>
        </p:grpSpPr>
        <p:sp>
          <p:nvSpPr>
            <p:cNvPr id="134" name=""/>
            <p:cNvSpPr/>
            <p:nvPr/>
          </p:nvSpPr>
          <p:spPr>
            <a:xfrm>
              <a:off x="2619360" y="211140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46240" y="1841400"/>
              <a:ext cx="5587560" cy="1949400"/>
              <a:chOff x="2046240" y="1841400"/>
              <a:chExt cx="5587560" cy="1949400"/>
            </a:xfrm>
          </p:grpSpPr>
          <p:sp>
            <p:nvSpPr>
              <p:cNvPr id="136" name=""/>
              <p:cNvSpPr/>
              <p:nvPr/>
            </p:nvSpPr>
            <p:spPr>
              <a:xfrm>
                <a:off x="6454800" y="3465360"/>
                <a:ext cx="606240" cy="325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085840" y="1841400"/>
                <a:ext cx="4356360" cy="1763640"/>
                <a:chOff x="2085840" y="1841400"/>
                <a:chExt cx="4356360" cy="17636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085840" y="1841400"/>
                  <a:ext cx="4356360" cy="1755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284880" y="3490560"/>
                  <a:ext cx="157320" cy="114480"/>
                </a:xfrm>
                <a:custGeom>
                  <a:avLst/>
                  <a:gdLst/>
                  <a:ahLst/>
                  <a:rect l="l" t="t" r="r" b="b"/>
                  <a:pathLst>
                    <a:path w="99" h="72">
                      <a:moveTo>
                        <a:pt x="0" y="72"/>
                      </a:moveTo>
                      <a:lnTo>
                        <a:pt x="99" y="67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046240" y="3203640"/>
                <a:ext cx="4381560" cy="522360"/>
                <a:chOff x="2046240" y="3203640"/>
                <a:chExt cx="4381560" cy="5223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46240" y="3203640"/>
                  <a:ext cx="4381560" cy="473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280200" y="3602160"/>
                  <a:ext cx="147600" cy="123840"/>
                </a:xfrm>
                <a:custGeom>
                  <a:avLst/>
                  <a:gdLst/>
                  <a:ahLst/>
                  <a:rect l="l" t="t" r="r" b="b"/>
                  <a:pathLst>
                    <a:path w="93" h="78">
                      <a:moveTo>
                        <a:pt x="0" y="78"/>
                      </a:moveTo>
                      <a:lnTo>
                        <a:pt x="93" y="47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6520680" y="3502080"/>
                <a:ext cx="473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D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27720" y="352908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[-5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41480" y="3336840"/>
                <a:ext cx="23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(0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4680" y="1200240"/>
            <a:ext cx="136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3120" y="1233360"/>
            <a:ext cx="6964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Costs on arcs to dummy destination = 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In some settings it would be necess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o include a nonzero warehousing cost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2280" y="1622520"/>
            <a:ext cx="91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2280" y="2009880"/>
            <a:ext cx="91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4000"/>
            <a:ext cx="350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0560" y="2685960"/>
            <a:ext cx="78555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he objective coefficient on the LA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NY arc is </a:t>
            </a:r>
            <a:r>
              <a:rPr b="0" i="1" lang="en-US" sz="2600" spc="-1" strike="noStrike">
                <a:solidFill>
                  <a:srgbClr val="ff9900"/>
                </a:solidFill>
                <a:latin typeface="Bookman Old Style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his denotes a large value and effectively prohib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use of this arc (could eliminate arc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680" y="4081320"/>
            <a:ext cx="136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760" y="4140360"/>
            <a:ext cx="6878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We are assured of integer solutions beca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technological matrix </a:t>
            </a:r>
            <a:r>
              <a:rPr b="0" i="1" lang="en-US" sz="2600" spc="-1" strike="noStrike">
                <a:solidFill>
                  <a:srgbClr val="ff9900"/>
                </a:solidFill>
                <a:latin typeface="Bookman Old Style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is totally unimodul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important in some applicatio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4920" y="5126040"/>
            <a:ext cx="91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2640" y="5143680"/>
            <a:ext cx="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529240"/>
            <a:ext cx="804384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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Decision variables: </a:t>
            </a:r>
            <a:r>
              <a:rPr b="0" i="1" lang="en-US" sz="2600" spc="-1" strike="noStrike">
                <a:solidFill>
                  <a:srgbClr val="ff9900"/>
                </a:solidFill>
                <a:latin typeface="Bookman Old Style"/>
              </a:rPr>
              <a:t>x</a:t>
            </a:r>
            <a:r>
              <a:rPr b="0" i="1" lang="en-US" sz="2600" spc="-1" strike="noStrike" baseline="-25000">
                <a:solidFill>
                  <a:srgbClr val="ff9900"/>
                </a:solidFill>
                <a:latin typeface="Bookman Old Style"/>
              </a:rPr>
              <a:t>ij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= amount shipped from warehouse </a:t>
            </a:r>
            <a:r>
              <a:rPr b="0" i="1" lang="en-US" sz="2600" spc="-1" strike="noStrike">
                <a:solidFill>
                  <a:srgbClr val="ff9900"/>
                </a:solidFill>
                <a:latin typeface="Bookman Old Style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to destination</a:t>
            </a: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0" i="1" lang="en-US" sz="2600" spc="-1" strike="noStrike">
                <a:solidFill>
                  <a:srgbClr val="ff9900"/>
                </a:solidFill>
                <a:latin typeface="Bookman Old Style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6560" y="32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Modeling Issue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2720" y="349200"/>
            <a:ext cx="747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e LP formulation of the transportation problem with </a:t>
            </a: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5040" y="685800"/>
            <a:ext cx="5040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ources and </a:t>
            </a: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destinations is given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8720" y="1682640"/>
            <a:ext cx="497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7280" y="1314360"/>
            <a:ext cx="20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26720" y="1595520"/>
            <a:ext cx="256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67320" y="206676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82320" y="16826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63320" y="16826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53400" y="1327320"/>
            <a:ext cx="1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2360" y="1595520"/>
            <a:ext cx="256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78520" y="204804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200" y="1692360"/>
            <a:ext cx="4262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97360" y="3078000"/>
            <a:ext cx="38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0360" y="2698920"/>
            <a:ext cx="1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26720" y="2990880"/>
            <a:ext cx="256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0800" y="344340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82320" y="30780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98680" y="3070080"/>
            <a:ext cx="50068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s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   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(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no dummy node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26000" y="4027320"/>
            <a:ext cx="20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26720" y="4294080"/>
            <a:ext cx="256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68040" y="473400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82320" y="43830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2720" y="4363920"/>
            <a:ext cx="220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   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6440" y="5208480"/>
            <a:ext cx="4439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0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200" spc="-1" strike="noStrike" baseline="-25000">
                <a:solidFill>
                  <a:srgbClr val="ffffff"/>
                </a:solidFill>
                <a:latin typeface="Bookman Old Style"/>
              </a:rPr>
              <a:t>ij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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8:01:22Z</dcterms:created>
  <dc:creator>nt</dc:creator>
  <dc:description/>
  <dc:language>en-US</dc:language>
  <cp:lastModifiedBy>Jonathan Bard</cp:lastModifiedBy>
  <cp:lastPrinted>2000-02-02T19:35:13Z</cp:lastPrinted>
  <dcterms:modified xsi:type="dcterms:W3CDTF">2009-09-17T18:44:42Z</dcterms:modified>
  <cp:revision>152</cp:revision>
  <dc:subject/>
  <dc:title>No Slide Title</dc:title>
</cp:coreProperties>
</file>