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7F7-FCA0-4825-8EFD-0CFB5E6F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E9B-EFF2-40DB-9408-A06D884C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AB5-A526-44D7-86E4-6B4EF52C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474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4B0-EC7B-4400-AE2E-EF330722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7D1-2C2D-491E-9C00-65C7E356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AA9-400D-4350-912F-6FC38BE2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2E4-C4EA-4799-9D47-7FF5AC07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1DA-5318-4F4A-933B-9F490681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7F2-3AED-49B1-A58F-FA8CBE3F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FA3-4C96-4D83-B59D-BF330D1C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474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D11-1DA2-4EFD-8A70-1839EC78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474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6D0-D7AB-493C-9084-B3FA0193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315360" indent="-31536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315360" indent="-31536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315360" indent="-31536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315360" indent="-31536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315360" indent="-31536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315360" indent="-31536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9EA2-4BD2-42AE-B757-8EF3625C6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4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Lecture 11 – Stochastic Processes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eview of probability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ealization of a stochastic proces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ontinuous vs. discrete system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Discrete-Time Markov Chain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990720"/>
            <a:ext cx="746748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crete stat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ovian property for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-step transition probabilitie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remain constant over time (station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304812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impl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te-transition matrix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te-transition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2514600" cy="20480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990720" y="4267080"/>
            <a:ext cx="2895120" cy="2057040"/>
            <a:chOff x="990720" y="4267080"/>
            <a:chExt cx="2895120" cy="2057040"/>
          </a:xfrm>
        </p:grpSpPr>
        <p:sp>
          <p:nvSpPr>
            <p:cNvPr id="91" name=""/>
            <p:cNvSpPr/>
            <p:nvPr/>
          </p:nvSpPr>
          <p:spPr>
            <a:xfrm>
              <a:off x="990720" y="4267080"/>
              <a:ext cx="2895120" cy="20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040" y="4404600"/>
              <a:ext cx="11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22520" y="4404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21680" y="4404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90160" y="4404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99480" y="4404600"/>
              <a:ext cx="11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56320" y="5371920"/>
              <a:ext cx="29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75440" y="488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75440" y="5346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75440" y="580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62880" y="48873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6040" y="48873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31360" y="48873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62880" y="53460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96040" y="53460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28200" y="5346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60080" y="580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91800" y="580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28200" y="580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5760" y="4803480"/>
              <a:ext cx="0" cy="13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5760" y="614556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5760" y="480348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14400" y="4803480"/>
              <a:ext cx="0" cy="13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33680" y="614556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33680" y="480348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ame of Crap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oll 2 dice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utcome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ff99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Bookman Old Style"/>
              </a:rPr>
              <a:t>Wi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7 or 11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ff99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Bookman Old Style"/>
              </a:rPr>
              <a:t>Loos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2, 3, 12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ff99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Bookman Old Style"/>
              </a:rPr>
              <a:t>Point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4, 5, 6, 8, 9, 10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f point, then roll again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ff99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Bookman Old Style"/>
              </a:rPr>
              <a:t>Wi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f point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ff99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Bookman Old Style"/>
              </a:rPr>
              <a:t>Loose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f 7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therwise roll again, and so 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here are other possible bets not included here.)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tate-Transition Network for Crap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0572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Transition Matrix for Game of Crap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981080"/>
            <a:ext cx="8305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Probability of </a:t>
            </a:r>
            <a:r>
              <a:rPr b="0" lang="en-US" sz="1800" spc="-1" strike="noStrike">
                <a:solidFill>
                  <a:srgbClr val="ff9900"/>
                </a:solidFill>
                <a:latin typeface="Bookman Old Style"/>
              </a:rPr>
              <a:t>win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= Pr{ 7 or 11 } = 0.167 + 0.056 = 0.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Probability of </a:t>
            </a:r>
            <a:r>
              <a:rPr b="0" lang="en-US" sz="1800" spc="-1" strike="noStrike">
                <a:solidFill>
                  <a:srgbClr val="ff9900"/>
                </a:solidFill>
                <a:latin typeface="Bookman Old Style"/>
              </a:rPr>
              <a:t>loss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= Pr{ 2, 3, 12 } = 0.028 + 0.056 + 0.028 = 0.1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990880"/>
          <a:ext cx="8458200" cy="36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90880"/>
                    <a:ext cx="84582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57200" y="914400"/>
          <a:ext cx="8305560" cy="914040"/>
        </p:xfrm>
        <a:graphic>
          <a:graphicData uri="http://schemas.openxmlformats.org/drawingml/2006/table">
            <a:tbl>
              <a:tblPr/>
              <a:tblGrid>
                <a:gridCol w="216000"/>
                <a:gridCol w="652680"/>
                <a:gridCol w="216000"/>
                <a:gridCol w="452160"/>
                <a:gridCol w="216000"/>
                <a:gridCol w="453240"/>
                <a:gridCol w="216000"/>
                <a:gridCol w="451800"/>
                <a:gridCol w="216000"/>
                <a:gridCol w="452520"/>
                <a:gridCol w="216000"/>
                <a:gridCol w="452160"/>
                <a:gridCol w="216000"/>
                <a:gridCol w="452160"/>
                <a:gridCol w="216000"/>
                <a:gridCol w="453240"/>
                <a:gridCol w="216000"/>
                <a:gridCol w="451800"/>
                <a:gridCol w="216000"/>
                <a:gridCol w="507240"/>
                <a:gridCol w="216000"/>
                <a:gridCol w="507240"/>
                <a:gridCol w="216000"/>
                <a:gridCol w="427320"/>
              </a:tblGrid>
              <a:tr h="517320"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67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ob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0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0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xamples of Stochastic Process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57200" y="2971800"/>
            <a:ext cx="8229600" cy="3592440"/>
            <a:chOff x="457200" y="2971800"/>
            <a:chExt cx="8229600" cy="3592440"/>
          </a:xfrm>
        </p:grpSpPr>
        <p:sp>
          <p:nvSpPr>
            <p:cNvPr id="127" name=""/>
            <p:cNvSpPr/>
            <p:nvPr/>
          </p:nvSpPr>
          <p:spPr>
            <a:xfrm>
              <a:off x="457200" y="29718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Multistage assembly process with single worker, no que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1981080" y="3686040"/>
              <a:ext cx="571500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62120" y="5548320"/>
              <a:ext cx="7162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= 0, worker is id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, worker is performing operation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= 1, . . . ,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33520" y="1066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ingle stage assembly process with single worker, no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1600200" cy="1114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120" y="175248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, worker is i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, worker is bu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xamples (continued)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066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ultistage assembly process with single worker and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ssume 3 stages only; i.e., 3 opera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2209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787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, 2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48120" y="1968480"/>
          <a:ext cx="525780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68480"/>
                    <a:ext cx="5257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590920" y="3265560"/>
          <a:ext cx="4724280" cy="313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265560"/>
                    <a:ext cx="472428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Single Stage Process with Two Servers and Queue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38280" y="2762280"/>
            <a:ext cx="3886200" cy="1365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520" y="121932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040" indent="-25700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0880" y="4362480"/>
            <a:ext cx="8382240" cy="2114640"/>
            <a:chOff x="380880" y="4362480"/>
            <a:chExt cx="8382240" cy="211464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2438280" y="4362480"/>
              <a:ext cx="63248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80880" y="4591080"/>
              <a:ext cx="1905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Bookman Old Style"/>
                </a:rPr>
                <a:t>State-transition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7" name=""/>
          <p:cNvGraphicFramePr/>
          <p:nvPr/>
        </p:nvGraphicFramePr>
        <p:xfrm>
          <a:off x="3200400" y="990720"/>
          <a:ext cx="350532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990720"/>
                    <a:ext cx="35053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708660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eries System with No Queu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724280" cy="4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304920" y="1981080"/>
          <a:ext cx="8229600" cy="4087800"/>
        </p:xfrm>
        <a:graphic>
          <a:graphicData uri="http://schemas.openxmlformats.org/drawingml/2006/table">
            <a:tbl>
              <a:tblPr/>
              <a:tblGrid>
                <a:gridCol w="1676160"/>
                <a:gridCol w="2971800"/>
                <a:gridCol w="3581640"/>
              </a:tblGrid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</a:tr>
              <a:tr h="14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te 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{ (0,0,0), (1,0,0), . . . 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,1,1), (1,1,1) }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tate space consists of all possible binary vectors of 3 components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>
                      <a:noFill/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{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>
                      <a:noFill/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rival at operatio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letion of operation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for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1, 2, 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>
                      <a:noFill/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029200" y="2654280"/>
          <a:ext cx="2819520" cy="114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2654280"/>
                    <a:ext cx="281952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What You Should Know About Stochastic Processes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efinition of a state and an event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eaning of realization of a system (stationary vs. transient)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efinition of the state-transition matrix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ow to draw a state-transition network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ifference between a continuous and discrete-time system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ommon applications with multiple stages and servers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man Old Style"/>
              </a:rPr>
              <a:t>Basic Definitions</a:t>
            </a:r>
            <a:endParaRPr b="0" lang="en-US" sz="40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76520"/>
            <a:ext cx="84582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tochastic proces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 System that changes over time in an uncertain 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utomated teller machine (AT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inted circuit board assembly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unway activity at air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Snapshot of the system at some fixed point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Transiti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Movement from one state to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lements of Probability Theory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066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peri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ny situation where the outcome is uncer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00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ample Spa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possible outcomes of an experiment (we will call them the “state space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590920"/>
            <a:ext cx="7467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v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collection of outcomes (points) in the sample space.  A collection of event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…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said to be 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mutually exclus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≠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Random Variable (RV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Function or procedure that assigns a real number to each outcome in the sample spac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1814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umulative Distribution Function (CDF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·): Probability distribution function for the random variabl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≤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omponents of Stochastic Model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38080" y="1143000"/>
            <a:ext cx="6629400" cy="1214280"/>
            <a:chOff x="838080" y="1143000"/>
            <a:chExt cx="6629400" cy="1214280"/>
          </a:xfrm>
        </p:grpSpPr>
        <p:sp>
          <p:nvSpPr>
            <p:cNvPr id="53" name=""/>
            <p:cNvSpPr/>
            <p:nvPr/>
          </p:nvSpPr>
          <p:spPr>
            <a:xfrm>
              <a:off x="838080" y="1143000"/>
              <a:ext cx="66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Tim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: Either continuous or discrete parame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2133360" y="1752480"/>
              <a:ext cx="39387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838080" y="2819520"/>
            <a:ext cx="80773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5240" indent="-795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s the attributes of a system at some poin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95240" indent="-795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. . . 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; for ATM exampl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038480"/>
            <a:ext cx="76960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nient to assign 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nonnegative integer index to each possible value of the state vector.  We call this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require that for each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ATM example,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general,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 random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06848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360" indent="-12063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s some amount of time – duration.  Culminates in an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v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6360" indent="-12063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ATM exampl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rvice comp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557856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1200" indent="-2581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tochastic Proc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llection of random variables 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, wher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{0, 1, 2, . . .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2120" y="2590920"/>
            <a:ext cx="7619760" cy="2745720"/>
            <a:chOff x="762120" y="2590920"/>
            <a:chExt cx="7619760" cy="2745720"/>
          </a:xfrm>
        </p:grpSpPr>
        <p:sp>
          <p:nvSpPr>
            <p:cNvPr id="60" name=""/>
            <p:cNvSpPr/>
            <p:nvPr/>
          </p:nvSpPr>
          <p:spPr>
            <a:xfrm>
              <a:off x="762120" y="2590920"/>
              <a:ext cx="76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86080" indent="-1486080"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Transitio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used by an event and results in movement from one state to another.  For ATM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514600" y="3581280"/>
              <a:ext cx="49150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90920" y="487692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#   = state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,  a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= arrival,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= departure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48769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Model Components (continued)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Realization of the Proces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143000"/>
            <a:ext cx="41911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Determinist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38080" y="1752480"/>
          <a:ext cx="7848720" cy="2210040"/>
        </p:xfrm>
        <a:graphic>
          <a:graphicData uri="http://schemas.openxmlformats.org/drawingml/2006/table">
            <a:tbl>
              <a:tblPr/>
              <a:tblGrid>
                <a:gridCol w="1981440"/>
                <a:gridCol w="3581280"/>
                <a:gridCol w="2286000"/>
              </a:tblGrid>
              <a:tr h="12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ime between arriv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3000" indent="-11430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250"/>
                        </a:spcAft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{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}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= 0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&lt; 1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3000" indent="-11430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= 1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1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rrivals occur every minu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</a:tr>
              <a:tr h="12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ime for servicing custo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3000" indent="-11430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250"/>
                        </a:spcAft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{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}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= 0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&lt; 0.7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3000" indent="-11430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= 1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0.7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cessing takes exactly 0.75 minu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8" name=""/>
          <p:cNvGrpSpPr/>
          <p:nvPr/>
        </p:nvGrpSpPr>
        <p:grpSpPr>
          <a:xfrm>
            <a:off x="990720" y="4419720"/>
            <a:ext cx="8153280" cy="1788840"/>
            <a:chOff x="990720" y="4419720"/>
            <a:chExt cx="8153280" cy="17888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990720" y="4419720"/>
              <a:ext cx="6324480" cy="17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543800" y="4571640"/>
              <a:ext cx="160020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umber in system,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no transient respon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Realization of the Process (continued)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0666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tochast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752480"/>
          <a:ext cx="7315200" cy="1430280"/>
        </p:xfrm>
        <a:graphic>
          <a:graphicData uri="http://schemas.openxmlformats.org/drawingml/2006/table">
            <a:tbl>
              <a:tblPr/>
              <a:tblGrid>
                <a:gridCol w="2624400"/>
                <a:gridCol w="4690800"/>
              </a:tblGrid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ime for servicing a custo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3000" indent="-11430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250"/>
                        </a:spcAft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{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}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=  0, 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&lt; 0.7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3000" indent="-11430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250"/>
                        </a:spcAft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=  0.6,  0.75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1.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3000" indent="-11430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=  1, 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1.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99"/>
                      </a:solidFill>
                    </a:lnL>
                    <a:lnR w="5760">
                      <a:solidFill>
                        <a:srgbClr val="00ff99"/>
                      </a:solidFill>
                    </a:lnR>
                    <a:lnT w="5760">
                      <a:solidFill>
                        <a:srgbClr val="00ff99"/>
                      </a:solidFill>
                    </a:lnT>
                    <a:lnB w="5760">
                      <a:solidFill>
                        <a:srgbClr val="00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4" name=""/>
          <p:cNvGrpSpPr/>
          <p:nvPr/>
        </p:nvGrpSpPr>
        <p:grpSpPr>
          <a:xfrm>
            <a:off x="1600200" y="3657600"/>
            <a:ext cx="6934320" cy="2805120"/>
            <a:chOff x="1600200" y="3657600"/>
            <a:chExt cx="6934320" cy="280512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1600200" y="3657600"/>
              <a:ext cx="472428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705720" y="419076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Number in system,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Markovian Property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066680"/>
            <a:ext cx="853452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that the present state is known, the conditional probability of the next state is independent of the states prior to the present state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 state at tim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 state at tim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1 i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276720"/>
            <a:ext cx="82296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onditional Probability Statement of Markovian Proper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|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…,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= Pr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|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1,…, and all possible sequen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. . . 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nterpret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Given the present, the past is irrelevant in determining the future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Transitions for Markov Processe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219320"/>
            <a:ext cx="8153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space: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{1, 2, . . . 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ability of going from st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st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one move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348160"/>
            <a:ext cx="76960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oretical requirements:  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,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2438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tate-transitio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971800" y="3048120"/>
          <a:ext cx="31240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048120"/>
                    <a:ext cx="31240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23:15:35Z</dcterms:created>
  <dc:creator>Jonathan Bard</dc:creator>
  <dc:description/>
  <dc:language>en-US</dc:language>
  <cp:lastModifiedBy>Jonathan Bard</cp:lastModifiedBy>
  <dcterms:modified xsi:type="dcterms:W3CDTF">2009-10-29T20:36:02Z</dcterms:modified>
  <cp:revision>106</cp:revision>
  <dc:subject/>
  <dc:title>Models for Stochastic Processes</dc:title>
</cp:coreProperties>
</file>