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11C-FE5A-459A-B159-9C5FC94E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50E-CF97-44BD-BF0E-8C3795B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7C7-A46D-44E8-8327-3786794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1C1-67E1-429D-9A07-2A691300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B69-32B3-4678-8DA5-84B2DA6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412-4DF0-4C98-9B8C-BF7559C4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A20-1602-446D-BB24-5DE2DF2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359-4927-4B74-BFC6-DC15B03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DE7-2B88-4921-9AC9-3F4EE8C6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CBE-BBCD-4D93-A7A1-089E6E4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2CC-A4F2-4289-8C45-932E6FD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46C-CC93-4803-9DB6-8F92DF0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110-DBCC-45C6-BC26-3CE77991F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ecture 12.5 – Additional Issues Concerning Discrete-Time Markov Chai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of DT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 of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c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-time pa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bing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Illustration of Concept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995720" cy="230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4114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state communicates with every other state, so we have an irreducible stochastic proc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riod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105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, so Markov chain is irreducible and period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280" y="1066680"/>
            <a:ext cx="17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Example</a:t>
            </a:r>
            <a:r>
              <a:rPr b="1" lang="en-US" sz="2800" spc="-1" strike="noStrike">
                <a:solidFill>
                  <a:srgbClr val="ff9900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5880" y="3200400"/>
            <a:ext cx="703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lassification of Stat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66880" y="1219320"/>
                <a:ext cx="415296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</m:mr>
                    </m:m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52360" y="4114800"/>
            <a:ext cx="35424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678040" y="4471920"/>
            <a:ext cx="415440" cy="367920"/>
            <a:chOff x="2678040" y="4471920"/>
            <a:chExt cx="415440" cy="367920"/>
          </a:xfrm>
        </p:grpSpPr>
        <p:sp>
          <p:nvSpPr>
            <p:cNvPr id="91" name=""/>
            <p:cNvSpPr/>
            <p:nvPr/>
          </p:nvSpPr>
          <p:spPr>
            <a:xfrm>
              <a:off x="2678040" y="4471920"/>
              <a:ext cx="362880" cy="367920"/>
            </a:xfrm>
            <a:custGeom>
              <a:avLst/>
              <a:gdLst/>
              <a:ahLst/>
              <a:rect l="l" t="t" r="r" b="b"/>
              <a:pathLst>
                <a:path w="125" h="168">
                  <a:moveTo>
                    <a:pt x="34" y="0"/>
                  </a:moveTo>
                  <a:lnTo>
                    <a:pt x="23" y="21"/>
                  </a:lnTo>
                  <a:lnTo>
                    <a:pt x="13" y="41"/>
                  </a:lnTo>
                  <a:lnTo>
                    <a:pt x="7" y="61"/>
                  </a:lnTo>
                  <a:lnTo>
                    <a:pt x="2" y="80"/>
                  </a:lnTo>
                  <a:lnTo>
                    <a:pt x="0" y="97"/>
                  </a:lnTo>
                  <a:lnTo>
                    <a:pt x="2" y="115"/>
                  </a:lnTo>
                  <a:lnTo>
                    <a:pt x="4" y="131"/>
                  </a:lnTo>
                  <a:lnTo>
                    <a:pt x="10" y="144"/>
                  </a:lnTo>
                  <a:lnTo>
                    <a:pt x="20" y="153"/>
                  </a:lnTo>
                  <a:lnTo>
                    <a:pt x="31" y="161"/>
                  </a:lnTo>
                  <a:lnTo>
                    <a:pt x="44" y="166"/>
                  </a:lnTo>
                  <a:lnTo>
                    <a:pt x="58" y="168"/>
                  </a:lnTo>
                  <a:lnTo>
                    <a:pt x="66" y="166"/>
                  </a:lnTo>
                  <a:lnTo>
                    <a:pt x="74" y="165"/>
                  </a:lnTo>
                  <a:lnTo>
                    <a:pt x="93" y="158"/>
                  </a:lnTo>
                  <a:lnTo>
                    <a:pt x="111" y="149"/>
                  </a:lnTo>
                  <a:lnTo>
                    <a:pt x="117" y="142"/>
                  </a:lnTo>
                  <a:lnTo>
                    <a:pt x="122" y="136"/>
                  </a:lnTo>
                  <a:lnTo>
                    <a:pt x="125" y="128"/>
                  </a:lnTo>
                  <a:lnTo>
                    <a:pt x="125" y="118"/>
                  </a:lnTo>
                  <a:lnTo>
                    <a:pt x="124" y="96"/>
                  </a:lnTo>
                  <a:lnTo>
                    <a:pt x="119" y="75"/>
                  </a:lnTo>
                  <a:lnTo>
                    <a:pt x="117" y="64"/>
                  </a:lnTo>
                  <a:lnTo>
                    <a:pt x="114" y="56"/>
                  </a:lnTo>
                  <a:lnTo>
                    <a:pt x="108" y="41"/>
                  </a:lnTo>
                  <a:lnTo>
                    <a:pt x="101" y="29"/>
                  </a:lnTo>
                  <a:lnTo>
                    <a:pt x="92" y="17"/>
                  </a:lnTo>
                  <a:lnTo>
                    <a:pt x="82" y="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16360" y="4489200"/>
              <a:ext cx="177120" cy="1508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61" y="35"/>
                  </a:moveTo>
                  <a:lnTo>
                    <a:pt x="0" y="0"/>
                  </a:lnTo>
                  <a:lnTo>
                    <a:pt x="8" y="6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47680" y="4471920"/>
            <a:ext cx="414000" cy="367920"/>
            <a:chOff x="1147680" y="4471920"/>
            <a:chExt cx="414000" cy="367920"/>
          </a:xfrm>
        </p:grpSpPr>
        <p:sp>
          <p:nvSpPr>
            <p:cNvPr id="94" name=""/>
            <p:cNvSpPr/>
            <p:nvPr/>
          </p:nvSpPr>
          <p:spPr>
            <a:xfrm>
              <a:off x="1147680" y="4471920"/>
              <a:ext cx="361800" cy="367920"/>
            </a:xfrm>
            <a:custGeom>
              <a:avLst/>
              <a:gdLst/>
              <a:ahLst/>
              <a:rect l="l" t="t" r="r" b="b"/>
              <a:pathLst>
                <a:path w="125" h="168">
                  <a:moveTo>
                    <a:pt x="34" y="0"/>
                  </a:moveTo>
                  <a:lnTo>
                    <a:pt x="23" y="21"/>
                  </a:lnTo>
                  <a:lnTo>
                    <a:pt x="13" y="41"/>
                  </a:lnTo>
                  <a:lnTo>
                    <a:pt x="7" y="61"/>
                  </a:lnTo>
                  <a:lnTo>
                    <a:pt x="2" y="80"/>
                  </a:lnTo>
                  <a:lnTo>
                    <a:pt x="0" y="97"/>
                  </a:lnTo>
                  <a:lnTo>
                    <a:pt x="2" y="115"/>
                  </a:lnTo>
                  <a:lnTo>
                    <a:pt x="4" y="131"/>
                  </a:lnTo>
                  <a:lnTo>
                    <a:pt x="10" y="144"/>
                  </a:lnTo>
                  <a:lnTo>
                    <a:pt x="20" y="153"/>
                  </a:lnTo>
                  <a:lnTo>
                    <a:pt x="31" y="161"/>
                  </a:lnTo>
                  <a:lnTo>
                    <a:pt x="44" y="166"/>
                  </a:lnTo>
                  <a:lnTo>
                    <a:pt x="58" y="168"/>
                  </a:lnTo>
                  <a:lnTo>
                    <a:pt x="66" y="166"/>
                  </a:lnTo>
                  <a:lnTo>
                    <a:pt x="74" y="165"/>
                  </a:lnTo>
                  <a:lnTo>
                    <a:pt x="93" y="158"/>
                  </a:lnTo>
                  <a:lnTo>
                    <a:pt x="111" y="149"/>
                  </a:lnTo>
                  <a:lnTo>
                    <a:pt x="117" y="142"/>
                  </a:lnTo>
                  <a:lnTo>
                    <a:pt x="122" y="136"/>
                  </a:lnTo>
                  <a:lnTo>
                    <a:pt x="125" y="128"/>
                  </a:lnTo>
                  <a:lnTo>
                    <a:pt x="125" y="118"/>
                  </a:lnTo>
                  <a:lnTo>
                    <a:pt x="124" y="96"/>
                  </a:lnTo>
                  <a:lnTo>
                    <a:pt x="119" y="75"/>
                  </a:lnTo>
                  <a:lnTo>
                    <a:pt x="117" y="64"/>
                  </a:lnTo>
                  <a:lnTo>
                    <a:pt x="114" y="56"/>
                  </a:lnTo>
                  <a:lnTo>
                    <a:pt x="108" y="41"/>
                  </a:lnTo>
                  <a:lnTo>
                    <a:pt x="101" y="29"/>
                  </a:lnTo>
                  <a:lnTo>
                    <a:pt x="92" y="17"/>
                  </a:lnTo>
                  <a:lnTo>
                    <a:pt x="82" y="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84920" y="4489200"/>
              <a:ext cx="176760" cy="1508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61" y="35"/>
                  </a:moveTo>
                  <a:lnTo>
                    <a:pt x="0" y="0"/>
                  </a:lnTo>
                  <a:lnTo>
                    <a:pt x="8" y="6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32080" y="4133880"/>
            <a:ext cx="1159920" cy="129960"/>
            <a:chOff x="1432080" y="4133880"/>
            <a:chExt cx="1159920" cy="129960"/>
          </a:xfrm>
        </p:grpSpPr>
        <p:sp>
          <p:nvSpPr>
            <p:cNvPr id="97" name=""/>
            <p:cNvSpPr/>
            <p:nvPr/>
          </p:nvSpPr>
          <p:spPr>
            <a:xfrm>
              <a:off x="1432080" y="4166640"/>
              <a:ext cx="1159920" cy="77040"/>
            </a:xfrm>
            <a:custGeom>
              <a:avLst/>
              <a:gdLst/>
              <a:ahLst/>
              <a:rect l="l" t="t" r="r" b="b"/>
              <a:pathLst>
                <a:path w="400" h="35">
                  <a:moveTo>
                    <a:pt x="400" y="35"/>
                  </a:moveTo>
                  <a:lnTo>
                    <a:pt x="373" y="25"/>
                  </a:lnTo>
                  <a:lnTo>
                    <a:pt x="344" y="16"/>
                  </a:lnTo>
                  <a:lnTo>
                    <a:pt x="314" y="8"/>
                  </a:lnTo>
                  <a:lnTo>
                    <a:pt x="280" y="3"/>
                  </a:lnTo>
                  <a:lnTo>
                    <a:pt x="262" y="1"/>
                  </a:lnTo>
                  <a:lnTo>
                    <a:pt x="242" y="0"/>
                  </a:lnTo>
                  <a:lnTo>
                    <a:pt x="200" y="0"/>
                  </a:lnTo>
                  <a:lnTo>
                    <a:pt x="158" y="1"/>
                  </a:lnTo>
                  <a:lnTo>
                    <a:pt x="138" y="1"/>
                  </a:lnTo>
                  <a:lnTo>
                    <a:pt x="120" y="3"/>
                  </a:lnTo>
                  <a:lnTo>
                    <a:pt x="86" y="4"/>
                  </a:lnTo>
                  <a:lnTo>
                    <a:pt x="56" y="9"/>
                  </a:lnTo>
                  <a:lnTo>
                    <a:pt x="27" y="14"/>
                  </a:ln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1480" y="4133880"/>
              <a:ext cx="200520" cy="12996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9"/>
                  </a:moveTo>
                  <a:lnTo>
                    <a:pt x="69" y="50"/>
                  </a:lnTo>
                  <a:lnTo>
                    <a:pt x="19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77800" y="4334040"/>
            <a:ext cx="1114200" cy="183600"/>
            <a:chOff x="1477800" y="4334040"/>
            <a:chExt cx="1114200" cy="183600"/>
          </a:xfrm>
        </p:grpSpPr>
        <p:sp>
          <p:nvSpPr>
            <p:cNvPr id="100" name=""/>
            <p:cNvSpPr/>
            <p:nvPr/>
          </p:nvSpPr>
          <p:spPr>
            <a:xfrm>
              <a:off x="1477800" y="4334040"/>
              <a:ext cx="1114200" cy="161640"/>
            </a:xfrm>
            <a:custGeom>
              <a:avLst/>
              <a:gdLst/>
              <a:ahLst/>
              <a:rect l="l" t="t" r="r" b="b"/>
              <a:pathLst>
                <a:path w="384" h="74">
                  <a:moveTo>
                    <a:pt x="384" y="0"/>
                  </a:moveTo>
                  <a:lnTo>
                    <a:pt x="357" y="21"/>
                  </a:lnTo>
                  <a:lnTo>
                    <a:pt x="330" y="40"/>
                  </a:lnTo>
                  <a:lnTo>
                    <a:pt x="301" y="56"/>
                  </a:lnTo>
                  <a:lnTo>
                    <a:pt x="269" y="68"/>
                  </a:lnTo>
                  <a:lnTo>
                    <a:pt x="251" y="71"/>
                  </a:lnTo>
                  <a:lnTo>
                    <a:pt x="232" y="72"/>
                  </a:lnTo>
                  <a:lnTo>
                    <a:pt x="192" y="74"/>
                  </a:lnTo>
                  <a:lnTo>
                    <a:pt x="152" y="71"/>
                  </a:lnTo>
                  <a:lnTo>
                    <a:pt x="133" y="69"/>
                  </a:lnTo>
                  <a:lnTo>
                    <a:pt x="115" y="68"/>
                  </a:lnTo>
                  <a:lnTo>
                    <a:pt x="83" y="61"/>
                  </a:lnTo>
                  <a:lnTo>
                    <a:pt x="54" y="53"/>
                  </a:lnTo>
                  <a:lnTo>
                    <a:pt x="27" y="45"/>
                  </a:lnTo>
                  <a:lnTo>
                    <a:pt x="0" y="3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77800" y="4386600"/>
              <a:ext cx="200520" cy="13104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69" y="0"/>
                  </a:moveTo>
                  <a:lnTo>
                    <a:pt x="0" y="10"/>
                  </a:lnTo>
                  <a:lnTo>
                    <a:pt x="48" y="6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614680" y="4816440"/>
            <a:ext cx="539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5280" y="48830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799160"/>
            <a:ext cx="60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1320" y="48639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2520" y="4149720"/>
            <a:ext cx="492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8280" y="3809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5880" y="4448160"/>
            <a:ext cx="703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8280" y="4572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4167360"/>
            <a:ext cx="493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775040"/>
            <a:ext cx="495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53600" y="49528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57680" y="4311720"/>
            <a:ext cx="1922040" cy="245520"/>
            <a:chOff x="4657680" y="4311720"/>
            <a:chExt cx="1922040" cy="245520"/>
          </a:xfrm>
        </p:grpSpPr>
        <p:sp>
          <p:nvSpPr>
            <p:cNvPr id="114" name=""/>
            <p:cNvSpPr/>
            <p:nvPr/>
          </p:nvSpPr>
          <p:spPr>
            <a:xfrm>
              <a:off x="4657680" y="4311720"/>
              <a:ext cx="1922040" cy="245520"/>
            </a:xfrm>
            <a:custGeom>
              <a:avLst/>
              <a:gdLst/>
              <a:ahLst/>
              <a:rect l="l" t="t" r="r" b="b"/>
              <a:pathLst>
                <a:path w="816" h="99">
                  <a:moveTo>
                    <a:pt x="816" y="99"/>
                  </a:moveTo>
                  <a:lnTo>
                    <a:pt x="760" y="70"/>
                  </a:lnTo>
                  <a:lnTo>
                    <a:pt x="701" y="44"/>
                  </a:lnTo>
                  <a:lnTo>
                    <a:pt x="671" y="33"/>
                  </a:lnTo>
                  <a:lnTo>
                    <a:pt x="639" y="24"/>
                  </a:lnTo>
                  <a:lnTo>
                    <a:pt x="607" y="16"/>
                  </a:lnTo>
                  <a:lnTo>
                    <a:pt x="571" y="9"/>
                  </a:lnTo>
                  <a:lnTo>
                    <a:pt x="533" y="4"/>
                  </a:lnTo>
                  <a:lnTo>
                    <a:pt x="493" y="1"/>
                  </a:lnTo>
                  <a:lnTo>
                    <a:pt x="451" y="0"/>
                  </a:lnTo>
                  <a:lnTo>
                    <a:pt x="408" y="0"/>
                  </a:lnTo>
                  <a:lnTo>
                    <a:pt x="365" y="1"/>
                  </a:lnTo>
                  <a:lnTo>
                    <a:pt x="322" y="4"/>
                  </a:lnTo>
                  <a:lnTo>
                    <a:pt x="282" y="6"/>
                  </a:lnTo>
                  <a:lnTo>
                    <a:pt x="245" y="9"/>
                  </a:lnTo>
                  <a:lnTo>
                    <a:pt x="210" y="12"/>
                  </a:lnTo>
                  <a:lnTo>
                    <a:pt x="176" y="16"/>
                  </a:lnTo>
                  <a:lnTo>
                    <a:pt x="114" y="27"/>
                  </a:lnTo>
                  <a:lnTo>
                    <a:pt x="56" y="40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5200" y="4418280"/>
              <a:ext cx="164520" cy="1386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56"/>
                  </a:moveTo>
                  <a:lnTo>
                    <a:pt x="70" y="56"/>
                  </a:ln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148360" y="4438800"/>
            <a:ext cx="588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3040" y="487692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398840"/>
            <a:ext cx="40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45280" y="420048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88640" y="4275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913280"/>
            <a:ext cx="569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160" y="4987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7840" y="4417920"/>
            <a:ext cx="438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638600" y="4668840"/>
            <a:ext cx="1960200" cy="145800"/>
            <a:chOff x="4638600" y="4668840"/>
            <a:chExt cx="1960200" cy="145800"/>
          </a:xfrm>
        </p:grpSpPr>
        <p:sp>
          <p:nvSpPr>
            <p:cNvPr id="125" name=""/>
            <p:cNvSpPr/>
            <p:nvPr/>
          </p:nvSpPr>
          <p:spPr>
            <a:xfrm>
              <a:off x="4638600" y="4688640"/>
              <a:ext cx="1960200" cy="101160"/>
            </a:xfrm>
            <a:custGeom>
              <a:avLst/>
              <a:gdLst/>
              <a:ahLst/>
              <a:rect l="l" t="t" r="r" b="b"/>
              <a:pathLst>
                <a:path w="832" h="41">
                  <a:moveTo>
                    <a:pt x="832" y="0"/>
                  </a:moveTo>
                  <a:lnTo>
                    <a:pt x="733" y="12"/>
                  </a:lnTo>
                  <a:lnTo>
                    <a:pt x="635" y="24"/>
                  </a:lnTo>
                  <a:lnTo>
                    <a:pt x="539" y="33"/>
                  </a:lnTo>
                  <a:lnTo>
                    <a:pt x="448" y="40"/>
                  </a:lnTo>
                  <a:lnTo>
                    <a:pt x="403" y="41"/>
                  </a:lnTo>
                  <a:lnTo>
                    <a:pt x="357" y="41"/>
                  </a:lnTo>
                  <a:lnTo>
                    <a:pt x="312" y="41"/>
                  </a:lnTo>
                  <a:lnTo>
                    <a:pt x="267" y="40"/>
                  </a:lnTo>
                  <a:lnTo>
                    <a:pt x="226" y="38"/>
                  </a:lnTo>
                  <a:lnTo>
                    <a:pt x="186" y="36"/>
                  </a:lnTo>
                  <a:lnTo>
                    <a:pt x="151" y="35"/>
                  </a:lnTo>
                  <a:lnTo>
                    <a:pt x="120" y="32"/>
                  </a:lnTo>
                  <a:lnTo>
                    <a:pt x="95" y="28"/>
                  </a:lnTo>
                  <a:lnTo>
                    <a:pt x="72" y="25"/>
                  </a:lnTo>
                  <a:lnTo>
                    <a:pt x="55" y="20"/>
                  </a:lnTo>
                  <a:lnTo>
                    <a:pt x="40" y="17"/>
                  </a:lnTo>
                  <a:lnTo>
                    <a:pt x="29" y="12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8600" y="4668840"/>
              <a:ext cx="167040" cy="14580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1" y="0"/>
                  </a:moveTo>
                  <a:lnTo>
                    <a:pt x="0" y="8"/>
                  </a:lnTo>
                  <a:lnTo>
                    <a:pt x="48" y="5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89760" y="4767120"/>
            <a:ext cx="545760" cy="988920"/>
            <a:chOff x="6089760" y="4767120"/>
            <a:chExt cx="545760" cy="988920"/>
          </a:xfrm>
        </p:grpSpPr>
        <p:sp>
          <p:nvSpPr>
            <p:cNvPr id="128" name=""/>
            <p:cNvSpPr/>
            <p:nvPr/>
          </p:nvSpPr>
          <p:spPr>
            <a:xfrm>
              <a:off x="6089760" y="4767120"/>
              <a:ext cx="545760" cy="988920"/>
            </a:xfrm>
            <a:custGeom>
              <a:avLst/>
              <a:gdLst/>
              <a:ahLst/>
              <a:rect l="l" t="t" r="r" b="b"/>
              <a:pathLst>
                <a:path w="232" h="399">
                  <a:moveTo>
                    <a:pt x="0" y="399"/>
                  </a:moveTo>
                  <a:lnTo>
                    <a:pt x="31" y="337"/>
                  </a:lnTo>
                  <a:lnTo>
                    <a:pt x="61" y="276"/>
                  </a:lnTo>
                  <a:lnTo>
                    <a:pt x="91" y="220"/>
                  </a:lnTo>
                  <a:lnTo>
                    <a:pt x="106" y="193"/>
                  </a:lnTo>
                  <a:lnTo>
                    <a:pt x="120" y="167"/>
                  </a:lnTo>
                  <a:lnTo>
                    <a:pt x="151" y="116"/>
                  </a:lnTo>
                  <a:lnTo>
                    <a:pt x="168" y="92"/>
                  </a:lnTo>
                  <a:lnTo>
                    <a:pt x="184" y="68"/>
                  </a:lnTo>
                  <a:lnTo>
                    <a:pt x="199" y="48"/>
                  </a:lnTo>
                  <a:lnTo>
                    <a:pt x="211" y="28"/>
                  </a:lnTo>
                  <a:lnTo>
                    <a:pt x="224" y="12"/>
                  </a:lnTo>
                  <a:lnTo>
                    <a:pt x="23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91880" y="4767120"/>
              <a:ext cx="143280" cy="16848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52" y="68"/>
                  </a:moveTo>
                  <a:lnTo>
                    <a:pt x="61" y="0"/>
                  </a:lnTo>
                  <a:lnTo>
                    <a:pt x="0" y="3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278400" y="4748040"/>
            <a:ext cx="471240" cy="1066680"/>
            <a:chOff x="6278400" y="4748040"/>
            <a:chExt cx="471240" cy="1066680"/>
          </a:xfrm>
        </p:grpSpPr>
        <p:sp>
          <p:nvSpPr>
            <p:cNvPr id="131" name=""/>
            <p:cNvSpPr/>
            <p:nvPr/>
          </p:nvSpPr>
          <p:spPr>
            <a:xfrm>
              <a:off x="6278400" y="4748040"/>
              <a:ext cx="471240" cy="1066680"/>
            </a:xfrm>
            <a:custGeom>
              <a:avLst/>
              <a:gdLst/>
              <a:ahLst/>
              <a:rect l="l" t="t" r="r" b="b"/>
              <a:pathLst>
                <a:path w="200" h="431">
                  <a:moveTo>
                    <a:pt x="200" y="0"/>
                  </a:moveTo>
                  <a:lnTo>
                    <a:pt x="186" y="65"/>
                  </a:lnTo>
                  <a:lnTo>
                    <a:pt x="170" y="129"/>
                  </a:lnTo>
                  <a:lnTo>
                    <a:pt x="151" y="191"/>
                  </a:lnTo>
                  <a:lnTo>
                    <a:pt x="128" y="247"/>
                  </a:lnTo>
                  <a:lnTo>
                    <a:pt x="101" y="299"/>
                  </a:lnTo>
                  <a:lnTo>
                    <a:pt x="69" y="345"/>
                  </a:lnTo>
                  <a:lnTo>
                    <a:pt x="35" y="388"/>
                  </a:lnTo>
                  <a:lnTo>
                    <a:pt x="0" y="43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8400" y="5646240"/>
              <a:ext cx="148320" cy="16812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15" y="0"/>
                  </a:moveTo>
                  <a:lnTo>
                    <a:pt x="0" y="68"/>
                  </a:lnTo>
                  <a:lnTo>
                    <a:pt x="63" y="3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992920" y="6060960"/>
            <a:ext cx="334080" cy="415800"/>
            <a:chOff x="5992920" y="6060960"/>
            <a:chExt cx="334080" cy="415800"/>
          </a:xfrm>
        </p:grpSpPr>
        <p:sp>
          <p:nvSpPr>
            <p:cNvPr id="134" name=""/>
            <p:cNvSpPr/>
            <p:nvPr/>
          </p:nvSpPr>
          <p:spPr>
            <a:xfrm>
              <a:off x="5992920" y="6060960"/>
              <a:ext cx="291600" cy="415800"/>
            </a:xfrm>
            <a:custGeom>
              <a:avLst/>
              <a:gdLst/>
              <a:ahLst/>
              <a:rect l="l" t="t" r="r" b="b"/>
              <a:pathLst>
                <a:path w="124" h="168">
                  <a:moveTo>
                    <a:pt x="33" y="0"/>
                  </a:moveTo>
                  <a:lnTo>
                    <a:pt x="22" y="21"/>
                  </a:lnTo>
                  <a:lnTo>
                    <a:pt x="12" y="42"/>
                  </a:lnTo>
                  <a:lnTo>
                    <a:pt x="6" y="61"/>
                  </a:lnTo>
                  <a:lnTo>
                    <a:pt x="1" y="80"/>
                  </a:lnTo>
                  <a:lnTo>
                    <a:pt x="0" y="98"/>
                  </a:lnTo>
                  <a:lnTo>
                    <a:pt x="1" y="116"/>
                  </a:lnTo>
                  <a:lnTo>
                    <a:pt x="3" y="132"/>
                  </a:lnTo>
                  <a:lnTo>
                    <a:pt x="9" y="144"/>
                  </a:lnTo>
                  <a:lnTo>
                    <a:pt x="19" y="154"/>
                  </a:lnTo>
                  <a:lnTo>
                    <a:pt x="30" y="162"/>
                  </a:lnTo>
                  <a:lnTo>
                    <a:pt x="43" y="167"/>
                  </a:lnTo>
                  <a:lnTo>
                    <a:pt x="57" y="168"/>
                  </a:lnTo>
                  <a:lnTo>
                    <a:pt x="65" y="167"/>
                  </a:lnTo>
                  <a:lnTo>
                    <a:pt x="73" y="165"/>
                  </a:lnTo>
                  <a:lnTo>
                    <a:pt x="92" y="159"/>
                  </a:lnTo>
                  <a:lnTo>
                    <a:pt x="110" y="149"/>
                  </a:lnTo>
                  <a:lnTo>
                    <a:pt x="116" y="143"/>
                  </a:lnTo>
                  <a:lnTo>
                    <a:pt x="121" y="136"/>
                  </a:lnTo>
                  <a:lnTo>
                    <a:pt x="124" y="128"/>
                  </a:lnTo>
                  <a:lnTo>
                    <a:pt x="124" y="119"/>
                  </a:lnTo>
                  <a:lnTo>
                    <a:pt x="123" y="96"/>
                  </a:lnTo>
                  <a:lnTo>
                    <a:pt x="118" y="76"/>
                  </a:lnTo>
                  <a:lnTo>
                    <a:pt x="116" y="64"/>
                  </a:lnTo>
                  <a:lnTo>
                    <a:pt x="113" y="56"/>
                  </a:lnTo>
                  <a:lnTo>
                    <a:pt x="107" y="42"/>
                  </a:lnTo>
                  <a:lnTo>
                    <a:pt x="100" y="29"/>
                  </a:lnTo>
                  <a:lnTo>
                    <a:pt x="91" y="18"/>
                  </a:lnTo>
                  <a:lnTo>
                    <a:pt x="81" y="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3720" y="6080400"/>
              <a:ext cx="143280" cy="1706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61" y="36"/>
                  </a:moveTo>
                  <a:lnTo>
                    <a:pt x="0" y="0"/>
                  </a:lnTo>
                  <a:lnTo>
                    <a:pt x="8" y="6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75120" y="4440240"/>
            <a:ext cx="418680" cy="455400"/>
            <a:chOff x="3975120" y="4440240"/>
            <a:chExt cx="418680" cy="455400"/>
          </a:xfrm>
        </p:grpSpPr>
        <p:sp>
          <p:nvSpPr>
            <p:cNvPr id="137" name=""/>
            <p:cNvSpPr/>
            <p:nvPr/>
          </p:nvSpPr>
          <p:spPr>
            <a:xfrm>
              <a:off x="3975120" y="4440240"/>
              <a:ext cx="418680" cy="42552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162" y="28"/>
                  </a:moveTo>
                  <a:lnTo>
                    <a:pt x="127" y="15"/>
                  </a:lnTo>
                  <a:lnTo>
                    <a:pt x="95" y="5"/>
                  </a:lnTo>
                  <a:lnTo>
                    <a:pt x="79" y="2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4"/>
                  </a:lnTo>
                  <a:lnTo>
                    <a:pt x="32" y="10"/>
                  </a:lnTo>
                  <a:lnTo>
                    <a:pt x="24" y="18"/>
                  </a:lnTo>
                  <a:lnTo>
                    <a:pt x="18" y="29"/>
                  </a:lnTo>
                  <a:lnTo>
                    <a:pt x="13" y="42"/>
                  </a:lnTo>
                  <a:lnTo>
                    <a:pt x="5" y="69"/>
                  </a:lnTo>
                  <a:lnTo>
                    <a:pt x="4" y="82"/>
                  </a:lnTo>
                  <a:lnTo>
                    <a:pt x="2" y="92"/>
                  </a:lnTo>
                  <a:lnTo>
                    <a:pt x="0" y="108"/>
                  </a:lnTo>
                  <a:lnTo>
                    <a:pt x="4" y="122"/>
                  </a:lnTo>
                  <a:lnTo>
                    <a:pt x="8" y="136"/>
                  </a:lnTo>
                  <a:lnTo>
                    <a:pt x="18" y="148"/>
                  </a:lnTo>
                  <a:lnTo>
                    <a:pt x="24" y="152"/>
                  </a:lnTo>
                  <a:lnTo>
                    <a:pt x="32" y="157"/>
                  </a:lnTo>
                  <a:lnTo>
                    <a:pt x="52" y="164"/>
                  </a:lnTo>
                  <a:lnTo>
                    <a:pt x="71" y="168"/>
                  </a:lnTo>
                  <a:lnTo>
                    <a:pt x="90" y="172"/>
                  </a:lnTo>
                  <a:lnTo>
                    <a:pt x="108" y="170"/>
                  </a:lnTo>
                  <a:lnTo>
                    <a:pt x="125" y="167"/>
                  </a:lnTo>
                  <a:lnTo>
                    <a:pt x="141" y="162"/>
                  </a:lnTo>
                  <a:lnTo>
                    <a:pt x="154" y="156"/>
                  </a:lnTo>
                  <a:lnTo>
                    <a:pt x="164" y="148"/>
                  </a:lnTo>
                  <a:lnTo>
                    <a:pt x="170" y="138"/>
                  </a:lnTo>
                  <a:lnTo>
                    <a:pt x="175" y="127"/>
                  </a:lnTo>
                  <a:lnTo>
                    <a:pt x="178" y="11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3320" y="4727160"/>
              <a:ext cx="150120" cy="168480"/>
            </a:xfrm>
            <a:custGeom>
              <a:avLst/>
              <a:gdLst/>
              <a:ahLst/>
              <a:rect l="l" t="t" r="r" b="b"/>
              <a:pathLst>
                <a:path w="64" h="68">
                  <a:moveTo>
                    <a:pt x="48" y="68"/>
                  </a:moveTo>
                  <a:lnTo>
                    <a:pt x="64" y="0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81760" y="4332240"/>
            <a:ext cx="345600" cy="421920"/>
            <a:chOff x="6881760" y="4332240"/>
            <a:chExt cx="345600" cy="421920"/>
          </a:xfrm>
        </p:grpSpPr>
        <p:sp>
          <p:nvSpPr>
            <p:cNvPr id="140" name=""/>
            <p:cNvSpPr/>
            <p:nvPr/>
          </p:nvSpPr>
          <p:spPr>
            <a:xfrm>
              <a:off x="6881760" y="4332240"/>
              <a:ext cx="345600" cy="35532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0" y="48"/>
                  </a:moveTo>
                  <a:lnTo>
                    <a:pt x="24" y="30"/>
                  </a:lnTo>
                  <a:lnTo>
                    <a:pt x="48" y="14"/>
                  </a:lnTo>
                  <a:lnTo>
                    <a:pt x="59" y="9"/>
                  </a:lnTo>
                  <a:lnTo>
                    <a:pt x="69" y="4"/>
                  </a:lnTo>
                  <a:lnTo>
                    <a:pt x="79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3"/>
                  </a:lnTo>
                  <a:lnTo>
                    <a:pt x="117" y="11"/>
                  </a:lnTo>
                  <a:lnTo>
                    <a:pt x="128" y="25"/>
                  </a:lnTo>
                  <a:lnTo>
                    <a:pt x="136" y="40"/>
                  </a:lnTo>
                  <a:lnTo>
                    <a:pt x="139" y="48"/>
                  </a:lnTo>
                  <a:lnTo>
                    <a:pt x="143" y="57"/>
                  </a:lnTo>
                  <a:lnTo>
                    <a:pt x="147" y="80"/>
                  </a:lnTo>
                  <a:lnTo>
                    <a:pt x="147" y="102"/>
                  </a:lnTo>
                  <a:lnTo>
                    <a:pt x="146" y="112"/>
                  </a:lnTo>
                  <a:lnTo>
                    <a:pt x="144" y="120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0" y="137"/>
                  </a:lnTo>
                  <a:lnTo>
                    <a:pt x="103" y="142"/>
                  </a:lnTo>
                  <a:lnTo>
                    <a:pt x="88" y="144"/>
                  </a:lnTo>
                  <a:lnTo>
                    <a:pt x="75" y="142"/>
                  </a:lnTo>
                  <a:lnTo>
                    <a:pt x="63" y="137"/>
                  </a:lnTo>
                  <a:lnTo>
                    <a:pt x="50" y="131"/>
                  </a:lnTo>
                  <a:lnTo>
                    <a:pt x="40" y="12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5360" y="4603680"/>
              <a:ext cx="157680" cy="15048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0"/>
                  </a:moveTo>
                  <a:lnTo>
                    <a:pt x="0" y="18"/>
                  </a:lnTo>
                  <a:lnTo>
                    <a:pt x="55" y="6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58000" y="5726160"/>
            <a:ext cx="39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52960" y="3962520"/>
            <a:ext cx="495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8120" y="396252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41920" y="5111640"/>
            <a:ext cx="588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5640" y="518652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48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419720"/>
            <a:ext cx="35388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4114800"/>
            <a:ext cx="353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5715000"/>
            <a:ext cx="353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44400" y="5715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2480" y="411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370400" y="4419720"/>
            <a:ext cx="353880" cy="358560"/>
            <a:chOff x="4370400" y="4419720"/>
            <a:chExt cx="353880" cy="358560"/>
          </a:xfrm>
        </p:grpSpPr>
        <p:sp>
          <p:nvSpPr>
            <p:cNvPr id="154" name=""/>
            <p:cNvSpPr/>
            <p:nvPr/>
          </p:nvSpPr>
          <p:spPr>
            <a:xfrm>
              <a:off x="4370400" y="4419720"/>
              <a:ext cx="35388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21960" y="4419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04640" y="4419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99720" y="624852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200" y="345960"/>
            <a:ext cx="8983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77480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A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accessible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from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0 for so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77480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177480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xample, state 2 is accessible from state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177480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 state 3 is accessible from stat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9720"/>
                <a:tab algn="l" pos="177480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ate 3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cessible from state 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200" y="2438280"/>
            <a:ext cx="79250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communicate</a:t>
            </a:r>
            <a:r>
              <a:rPr b="0" sz="24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accessible from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and</a:t>
            </a:r>
            <a:r>
              <a:rPr b="0" sz="24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accessible from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1 &amp; 2 communic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; also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tates 3, 4 &amp; 5 communic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2 &amp; 4 do not communic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120" y="5157720"/>
            <a:ext cx="73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1 &amp; 2 form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one communicating clas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3,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4 &amp; 5 form a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2</a:t>
            </a:r>
            <a:r>
              <a:rPr b="0" lang="en-US" sz="2400" spc="-1" strike="noStrike" baseline="30000">
                <a:solidFill>
                  <a:srgbClr val="00ffff"/>
                </a:solidFill>
                <a:latin typeface="Bookman Old Style"/>
              </a:rPr>
              <a:t>nd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 communicating clas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84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all states in a Markov chain communic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(i.e.,</a:t>
            </a:r>
            <a:r>
              <a:rPr b="0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9900"/>
                </a:solidFill>
                <a:latin typeface="Times New Roman"/>
              </a:rPr>
              <a:t>all states are members of the same communicating class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then the chain is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irreducibl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3520" y="1828800"/>
            <a:ext cx="81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c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urrent example is not an irreducible Markov cha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Neither is the Gambler’s Ruin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ample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which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has 3 class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{0}, {1, 2, 3} and {4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400" y="3429000"/>
            <a:ext cx="81147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First Passage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sz="2400" spc="-1" strike="noStrike" baseline="-25000">
                <a:solidFill>
                  <a:srgbClr val="ffffff"/>
                </a:solidFill>
                <a:latin typeface="Bookman Old Style"/>
              </a:rPr>
              <a:t>i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= probability that the process will return to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         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(eventually) given that it starts i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sz="2400" spc="-1" strike="noStrike" baseline="-25000">
                <a:solidFill>
                  <a:srgbClr val="ffffff"/>
                </a:solidFill>
                <a:latin typeface="Bookman Old Style"/>
              </a:rPr>
              <a:t>i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= 1, the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called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recurr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sz="2400" spc="-1" strike="noStrike" baseline="-25000">
                <a:solidFill>
                  <a:srgbClr val="ffffff"/>
                </a:solidFill>
                <a:latin typeface="Bookman Old Style"/>
              </a:rPr>
              <a:t>i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&lt; 1, the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called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transi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230040"/>
            <a:ext cx="89154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sz="2400" spc="-1" strike="noStrike" baseline="-25000">
                <a:solidFill>
                  <a:srgbClr val="ffffff"/>
                </a:solidFill>
                <a:latin typeface="Bookman Old Style"/>
              </a:rPr>
              <a:t>ii</a:t>
            </a:r>
            <a:r>
              <a:rPr b="0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= 1, the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called an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absorbing 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bove example has no absorbing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States 0 &amp; 4 are absorbing in Gambler’s Ruin proble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209680"/>
            <a:ext cx="8305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period of a state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the smalles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&gt; 1 such 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all paths leading back to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have a length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a multiple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.e.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= 0 unles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 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 3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a process can be i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at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or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tim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+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having started at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then state </a:t>
            </a:r>
            <a:r>
              <a:rPr b="0" i="1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aperi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0480" y="525780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Each of the states in the current example are aperiod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5880" y="4603680"/>
            <a:ext cx="77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If all states in a Markov chain 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recurrent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aperiodic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 &amp; the chain is 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irreducible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then it is </a:t>
            </a:r>
            <a:r>
              <a:rPr b="0" sz="2400" spc="-1" strike="noStrike">
                <a:solidFill>
                  <a:srgbClr val="00ffff"/>
                </a:solidFill>
                <a:latin typeface="Bookman Old Style"/>
              </a:rPr>
              <a:t>erg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400" y="1066680"/>
            <a:ext cx="57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tates 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1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2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sz="2400" spc="-1" strike="noStrike">
                <a:solidFill>
                  <a:srgbClr val="ffff00"/>
                </a:solidFill>
                <a:latin typeface="Bookman Old Style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Bookman Old Style"/>
              </a:rPr>
              <a:t>each have period 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       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ample of Periodicity - Gambler’s Ruin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19810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286000"/>
            <a:ext cx="487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191120"/>
            <a:ext cx="4952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istence of Steady-State Probabiliti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Markov chain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erg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f it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peri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allows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ttainm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ny future 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rom any initial state after one or more transitions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If these conditions hold,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44520" y="2438280"/>
          <a:ext cx="59691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2438280"/>
                    <a:ext cx="59691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"/>
          <p:cNvGrpSpPr/>
          <p:nvPr/>
        </p:nvGrpSpPr>
        <p:grpSpPr>
          <a:xfrm>
            <a:off x="609480" y="3276720"/>
            <a:ext cx="8382240" cy="2819160"/>
            <a:chOff x="609480" y="3276720"/>
            <a:chExt cx="8382240" cy="2819160"/>
          </a:xfrm>
        </p:grpSpPr>
        <p:grpSp>
          <p:nvGrpSpPr>
            <p:cNvPr id="179" name=""/>
            <p:cNvGrpSpPr/>
            <p:nvPr/>
          </p:nvGrpSpPr>
          <p:grpSpPr>
            <a:xfrm>
              <a:off x="609480" y="3276720"/>
              <a:ext cx="3111480" cy="2082240"/>
              <a:chOff x="609480" y="3276720"/>
              <a:chExt cx="3111480" cy="2082240"/>
            </a:xfrm>
          </p:grpSpPr>
          <p:sp>
            <p:nvSpPr>
              <p:cNvPr id="180" name=""/>
              <p:cNvSpPr/>
              <p:nvPr/>
            </p:nvSpPr>
            <p:spPr>
              <a:xfrm>
                <a:off x="609480" y="3276720"/>
                <a:ext cx="221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For example,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1219320" y="4038480"/>
                    <a:ext cx="2501640" cy="13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2" name=""/>
            <p:cNvGrpSpPr/>
            <p:nvPr/>
          </p:nvGrpSpPr>
          <p:grpSpPr>
            <a:xfrm>
              <a:off x="4952880" y="3276720"/>
              <a:ext cx="4038840" cy="2819160"/>
              <a:chOff x="4952880" y="3276720"/>
              <a:chExt cx="4038840" cy="2819160"/>
            </a:xfrm>
          </p:grpSpPr>
          <p:sp>
            <p:nvSpPr>
              <p:cNvPr id="183" name=""/>
              <p:cNvSpPr/>
              <p:nvPr/>
            </p:nvSpPr>
            <p:spPr>
              <a:xfrm>
                <a:off x="4952880" y="32767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State-transition networ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10080" y="419112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00800" y="51814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91520" y="4191120"/>
                <a:ext cx="53316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91320" y="4648320"/>
                <a:ext cx="68580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781320" y="4572000"/>
                <a:ext cx="68580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3600" y="441972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781680" y="4723920"/>
                <a:ext cx="76212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0552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77120" y="56386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724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6781680" y="5638680"/>
                <a:ext cx="7632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772400" y="411480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6400" y="411480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1008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24480" y="5181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91520" y="4267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7621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clusion: chain is ergod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conomic Analysi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0666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kinds of economic effe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incurred when the system is in a specified state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incurred when the system makes a transition from one state to anoth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3124080"/>
            <a:ext cx="8610480" cy="3225600"/>
            <a:chOff x="533520" y="3124080"/>
            <a:chExt cx="8610480" cy="3225600"/>
          </a:xfrm>
        </p:grpSpPr>
        <p:sp>
          <p:nvSpPr>
            <p:cNvPr id="204" name=""/>
            <p:cNvSpPr/>
            <p:nvPr/>
          </p:nvSpPr>
          <p:spPr>
            <a:xfrm>
              <a:off x="533520" y="3124080"/>
              <a:ext cx="8610480" cy="32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 cost (profit) of being in a particular state is represented by th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dimensional column vect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re each component is the cost associated with stat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 cost of a transition is embodied in th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matrix                  .  where each component specifies the cost of going from stat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to stat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 a single step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200400" y="4038480"/>
                  <a:ext cx="23875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Sup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S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S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S</m:t>
                                  </m:r>
                                </m:sup>
                              </m:sSubSup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7543800" y="5105520"/>
                  <a:ext cx="12319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R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pected Cost for Markov Chai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990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cted cost of being in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952880" y="838080"/>
                <a:ext cx="2286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1752480"/>
            <a:ext cx="807696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spcBef>
                <a:spcPts val="901"/>
              </a:spcBef>
              <a:tabLst>
                <a:tab algn="l" pos="0"/>
                <a:tab algn="l" pos="519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. . 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4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-1139760">
              <a:spcBef>
                <a:spcPts val="901"/>
              </a:spcBef>
              <a:tabLst>
                <a:tab algn="l" pos="0"/>
                <a:tab algn="l" pos="519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, 0, 1, 0, 0) be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ow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ty matrix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19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 variable representing the economic return associated with the stochastic process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038480"/>
            <a:ext cx="85341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spcBef>
                <a:spcPts val="1500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roperty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1, . . .} be a Markov chain with finite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tate-transition matri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expected state cost (profit)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Assuming that the process starts in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e expected cost (profit) a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p is given by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6080" indent="-1486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dditional Cost Result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66680"/>
            <a:ext cx="8534160" cy="31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spcBef>
                <a:spcPts val="1500"/>
              </a:spcBef>
              <a:tabLst>
                <a:tab algn="l" pos="0"/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f the initial state is not know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6080" indent="-1486080">
              <a:spcBef>
                <a:spcPts val="1500"/>
              </a:spcBef>
              <a:tabLst>
                <a:tab algn="l" pos="0"/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roperty 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1, . . .} be a Markov chain with finite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tate-transition matri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itial probability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xpected state cost (profit)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he expected economic return a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ep is give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6080" indent="-1486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]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4267080"/>
            <a:ext cx="86104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spcBef>
                <a:spcPts val="1500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roperty 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1, . . .} be a Markov chain with finite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tate-transition matri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teady-state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xpected state cost (profit) vec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hen the long-run average return per unit time is give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6080" indent="-1486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371600"/>
            <a:ext cx="861048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stochastic process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 whe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1, 2, . . . } is called 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iscrete-tim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Markov cha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|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Pr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transition prob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every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for ever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9040" y="4724280"/>
            <a:ext cx="812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futur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havior of the system depend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urrent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not on any of the previous st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Discrete-Time Markov Chai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42600" y="914400"/>
            <a:ext cx="73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 insurance company charges customers ann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emiums based on their accident his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e following fash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42670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3920" y="2286000"/>
            <a:ext cx="8282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 accident in last 2 years:          $250 annual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ccidents in each of last 2 years: $800 annual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ccident in only 1 of last 2 years: $400 annual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4038480"/>
            <a:ext cx="853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Historical statistic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a customer had an accident last year then they have a 10% chance of having one this yea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they had no accident last year then they have a 3% chance of having one this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Insurance Company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roble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Find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eady-state probabilit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the long-run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average annual premi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aid by the custom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1523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olution approac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Construct a Markov chain with four states:  (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, (N, Y), (Y, N), (Y,Y) where  these indicate (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accident last ye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accident this ye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26240" y="3095640"/>
            <a:ext cx="5836680" cy="2700000"/>
            <a:chOff x="1326240" y="3095640"/>
            <a:chExt cx="5836680" cy="2700000"/>
          </a:xfrm>
        </p:grpSpPr>
        <p:sp>
          <p:nvSpPr>
            <p:cNvPr id="223" name=""/>
            <p:cNvSpPr/>
            <p:nvPr/>
          </p:nvSpPr>
          <p:spPr>
            <a:xfrm>
              <a:off x="2057400" y="3095640"/>
              <a:ext cx="5105520" cy="27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N, N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N, Y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Y, N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Y, Y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N, N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97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03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N, Y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9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1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Y, N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97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03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(Y, Y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9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0.10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26240" y="388620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P =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5480" y="3581280"/>
              <a:ext cx="365760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400800" y="2057400"/>
            <a:ext cx="622080" cy="457200"/>
            <a:chOff x="6400800" y="2057400"/>
            <a:chExt cx="622080" cy="457200"/>
          </a:xfrm>
        </p:grpSpPr>
        <p:sp>
          <p:nvSpPr>
            <p:cNvPr id="227" name=""/>
            <p:cNvSpPr/>
            <p:nvPr/>
          </p:nvSpPr>
          <p:spPr>
            <a:xfrm>
              <a:off x="6438960" y="2057400"/>
              <a:ext cx="4316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133720"/>
              <a:ext cx="622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Times New Roman"/>
                </a:rPr>
                <a:t>Y,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80960" y="2155680"/>
            <a:ext cx="511200" cy="347760"/>
          </a:xfrm>
          <a:custGeom>
            <a:avLst/>
            <a:gdLst/>
            <a:ahLst/>
            <a:rect l="l" t="t" r="r" b="b"/>
            <a:pathLst>
              <a:path w="484" h="547">
                <a:moveTo>
                  <a:pt x="484" y="164"/>
                </a:moveTo>
                <a:cubicBezTo>
                  <a:pt x="427" y="85"/>
                  <a:pt x="370" y="7"/>
                  <a:pt x="304" y="4"/>
                </a:cubicBezTo>
                <a:cubicBezTo>
                  <a:pt x="237" y="0"/>
                  <a:pt x="130" y="84"/>
                  <a:pt x="84" y="144"/>
                </a:cubicBezTo>
                <a:cubicBezTo>
                  <a:pt x="37" y="203"/>
                  <a:pt x="0" y="300"/>
                  <a:pt x="24" y="364"/>
                </a:cubicBezTo>
                <a:cubicBezTo>
                  <a:pt x="47" y="427"/>
                  <a:pt x="164" y="500"/>
                  <a:pt x="224" y="524"/>
                </a:cubicBezTo>
                <a:cubicBezTo>
                  <a:pt x="283" y="547"/>
                  <a:pt x="340" y="520"/>
                  <a:pt x="384" y="504"/>
                </a:cubicBezTo>
                <a:cubicBezTo>
                  <a:pt x="427" y="487"/>
                  <a:pt x="455" y="455"/>
                  <a:pt x="484" y="4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2133720"/>
            <a:ext cx="1295280" cy="75960"/>
          </a:xfrm>
          <a:custGeom>
            <a:avLst/>
            <a:gdLst/>
            <a:ahLst/>
            <a:rect l="l" t="t" r="r" b="b"/>
            <a:pathLst>
              <a:path w="2160" h="200">
                <a:moveTo>
                  <a:pt x="0" y="160"/>
                </a:moveTo>
                <a:cubicBezTo>
                  <a:pt x="261" y="100"/>
                  <a:pt x="523" y="40"/>
                  <a:pt x="780" y="20"/>
                </a:cubicBezTo>
                <a:cubicBezTo>
                  <a:pt x="1036" y="0"/>
                  <a:pt x="1310" y="10"/>
                  <a:pt x="1540" y="40"/>
                </a:cubicBezTo>
                <a:cubicBezTo>
                  <a:pt x="1769" y="69"/>
                  <a:pt x="1964" y="134"/>
                  <a:pt x="2160" y="2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8560" y="2106720"/>
            <a:ext cx="1231920" cy="102960"/>
          </a:xfrm>
          <a:custGeom>
            <a:avLst/>
            <a:gdLst/>
            <a:ahLst/>
            <a:rect l="l" t="t" r="r" b="b"/>
            <a:pathLst>
              <a:path w="1860" h="147">
                <a:moveTo>
                  <a:pt x="0" y="147"/>
                </a:moveTo>
                <a:cubicBezTo>
                  <a:pt x="148" y="98"/>
                  <a:pt x="296" y="50"/>
                  <a:pt x="500" y="27"/>
                </a:cubicBezTo>
                <a:cubicBezTo>
                  <a:pt x="703" y="3"/>
                  <a:pt x="993" y="0"/>
                  <a:pt x="1220" y="7"/>
                </a:cubicBezTo>
                <a:cubicBezTo>
                  <a:pt x="1446" y="13"/>
                  <a:pt x="1743" y="47"/>
                  <a:pt x="1860" y="6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111400"/>
            <a:ext cx="1218960" cy="98280"/>
          </a:xfrm>
          <a:custGeom>
            <a:avLst/>
            <a:gdLst/>
            <a:ahLst/>
            <a:rect l="l" t="t" r="r" b="b"/>
            <a:pathLst>
              <a:path w="2060" h="254">
                <a:moveTo>
                  <a:pt x="0" y="254"/>
                </a:moveTo>
                <a:cubicBezTo>
                  <a:pt x="261" y="160"/>
                  <a:pt x="523" y="67"/>
                  <a:pt x="780" y="34"/>
                </a:cubicBezTo>
                <a:cubicBezTo>
                  <a:pt x="1036" y="0"/>
                  <a:pt x="1326" y="24"/>
                  <a:pt x="1540" y="54"/>
                </a:cubicBezTo>
                <a:cubicBezTo>
                  <a:pt x="1753" y="84"/>
                  <a:pt x="1906" y="149"/>
                  <a:pt x="2060" y="21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07240" y="2101680"/>
            <a:ext cx="609480" cy="419400"/>
          </a:xfrm>
          <a:custGeom>
            <a:avLst/>
            <a:gdLst/>
            <a:ahLst/>
            <a:rect l="l" t="t" r="r" b="b"/>
            <a:pathLst>
              <a:path w="960" h="660">
                <a:moveTo>
                  <a:pt x="20" y="150"/>
                </a:moveTo>
                <a:cubicBezTo>
                  <a:pt x="195" y="75"/>
                  <a:pt x="370" y="0"/>
                  <a:pt x="520" y="30"/>
                </a:cubicBezTo>
                <a:cubicBezTo>
                  <a:pt x="669" y="59"/>
                  <a:pt x="880" y="226"/>
                  <a:pt x="920" y="330"/>
                </a:cubicBezTo>
                <a:cubicBezTo>
                  <a:pt x="960" y="433"/>
                  <a:pt x="913" y="640"/>
                  <a:pt x="760" y="650"/>
                </a:cubicBezTo>
                <a:cubicBezTo>
                  <a:pt x="606" y="660"/>
                  <a:pt x="303" y="525"/>
                  <a:pt x="0" y="39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46520" y="2336760"/>
            <a:ext cx="1231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45000" y="2413080"/>
            <a:ext cx="2857320" cy="279360"/>
          </a:xfrm>
          <a:custGeom>
            <a:avLst/>
            <a:gdLst/>
            <a:ahLst/>
            <a:rect l="l" t="t" r="r" b="b"/>
            <a:pathLst>
              <a:path w="4500" h="439">
                <a:moveTo>
                  <a:pt x="0" y="120"/>
                </a:moveTo>
                <a:cubicBezTo>
                  <a:pt x="375" y="279"/>
                  <a:pt x="750" y="439"/>
                  <a:pt x="1500" y="420"/>
                </a:cubicBezTo>
                <a:cubicBezTo>
                  <a:pt x="2249" y="400"/>
                  <a:pt x="3374" y="200"/>
                  <a:pt x="450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7080" y="2451240"/>
            <a:ext cx="2870280" cy="193680"/>
          </a:xfrm>
          <a:custGeom>
            <a:avLst/>
            <a:gdLst/>
            <a:ahLst/>
            <a:rect l="l" t="t" r="r" b="b"/>
            <a:pathLst>
              <a:path w="4520" h="306">
                <a:moveTo>
                  <a:pt x="4520" y="0"/>
                </a:moveTo>
                <a:cubicBezTo>
                  <a:pt x="3586" y="146"/>
                  <a:pt x="2653" y="293"/>
                  <a:pt x="1900" y="300"/>
                </a:cubicBezTo>
                <a:cubicBezTo>
                  <a:pt x="1146" y="306"/>
                  <a:pt x="573" y="173"/>
                  <a:pt x="0" y="4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209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182880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641680"/>
            <a:ext cx="533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02200" y="1828800"/>
            <a:ext cx="92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2057400"/>
            <a:ext cx="68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87720" y="2717640"/>
            <a:ext cx="432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8360" y="1752480"/>
            <a:ext cx="5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2286000"/>
            <a:ext cx="673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76920" y="2057400"/>
            <a:ext cx="660240" cy="457200"/>
            <a:chOff x="4876920" y="2057400"/>
            <a:chExt cx="660240" cy="457200"/>
          </a:xfrm>
        </p:grpSpPr>
        <p:sp>
          <p:nvSpPr>
            <p:cNvPr id="246" name=""/>
            <p:cNvSpPr/>
            <p:nvPr/>
          </p:nvSpPr>
          <p:spPr>
            <a:xfrm>
              <a:off x="4927680" y="2057400"/>
              <a:ext cx="4316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6920" y="2133360"/>
              <a:ext cx="660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Times New Roman"/>
                </a:rPr>
                <a:t>Y,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76720" y="2133720"/>
            <a:ext cx="990360" cy="457200"/>
            <a:chOff x="3276720" y="2133720"/>
            <a:chExt cx="990360" cy="457200"/>
          </a:xfrm>
        </p:grpSpPr>
        <p:sp>
          <p:nvSpPr>
            <p:cNvPr id="249" name=""/>
            <p:cNvSpPr/>
            <p:nvPr/>
          </p:nvSpPr>
          <p:spPr>
            <a:xfrm>
              <a:off x="3301920" y="2133720"/>
              <a:ext cx="4320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221004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Times New Roman"/>
                </a:rPr>
                <a:t>N,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52480" y="2133720"/>
            <a:ext cx="762120" cy="457200"/>
            <a:chOff x="1752480" y="2133720"/>
            <a:chExt cx="762120" cy="457200"/>
          </a:xfrm>
        </p:grpSpPr>
        <p:sp>
          <p:nvSpPr>
            <p:cNvPr id="252" name=""/>
            <p:cNvSpPr/>
            <p:nvPr/>
          </p:nvSpPr>
          <p:spPr>
            <a:xfrm>
              <a:off x="1828800" y="2133720"/>
              <a:ext cx="4316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2480" y="221004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Times New Roman"/>
                </a:rPr>
                <a:t>N,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04920" y="38098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409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tate-Transition Network for Insurance Company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35268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is is an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ergodic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rkov ch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states communicate (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irreducibl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state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recurr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you will return, eventual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state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aperio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70000" y="380880"/>
            <a:ext cx="68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olving the Steady–State Eq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91560" y="1295280"/>
            <a:ext cx="40053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Y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0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0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Y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+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.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Y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Y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6200" y="3581280"/>
            <a:ext cx="7195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olu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93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N,Y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02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N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02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(Y,Y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3640" y="4800600"/>
            <a:ext cx="815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&amp; the long-run average annual premium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93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*250 +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02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*400 +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0.02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*400 + 0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.00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*800 =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26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4840" y="1371600"/>
            <a:ext cx="286128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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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00080" y="1143000"/>
            <a:ext cx="322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1440" y="2133720"/>
            <a:ext cx="38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rkov Chain Add-in Matrix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828800"/>
          <a:ext cx="8229600" cy="31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conomic Data and Solu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2120" y="1219320"/>
          <a:ext cx="7543800" cy="23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5438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85800" y="4038480"/>
          <a:ext cx="7772400" cy="1617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38480"/>
                    <a:ext cx="777240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220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ient Analysis for Insurance Company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280" y="1371600"/>
          <a:ext cx="8763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763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38360" y="1219320"/>
            <a:ext cx="7497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expected number of steps to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om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the probability that we will eventually visit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iven that we start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less than 1,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will hav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First Passage Tim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886200"/>
            <a:ext cx="7924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example, in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Gambler’s Ru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roble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cause there is a positive prob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we will be absorbed in state 4 given that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rt in state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7120" y="992160"/>
            <a:ext cx="74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 the probability of eventually visiting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at we start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hen the expected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f steps until we first visi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give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6960" y="4191120"/>
            <a:ext cx="2248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always t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least one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05120" y="3276720"/>
            <a:ext cx="456480" cy="810000"/>
            <a:chOff x="1905120" y="3276720"/>
            <a:chExt cx="456480" cy="810000"/>
          </a:xfrm>
        </p:grpSpPr>
        <p:sp>
          <p:nvSpPr>
            <p:cNvPr id="281" name=""/>
            <p:cNvSpPr/>
            <p:nvPr/>
          </p:nvSpPr>
          <p:spPr>
            <a:xfrm flipV="1">
              <a:off x="1905120" y="3454560"/>
              <a:ext cx="357120" cy="63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8360" y="3276720"/>
              <a:ext cx="183240" cy="25056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103" y="138"/>
                  </a:moveTo>
                  <a:lnTo>
                    <a:pt x="121" y="0"/>
                  </a:lnTo>
                  <a:lnTo>
                    <a:pt x="0" y="69"/>
                  </a:lnTo>
                  <a:lnTo>
                    <a:pt x="103" y="138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657600" y="4114800"/>
            <a:ext cx="51055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go from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first step with probabilit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it take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eps from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ookman Old Style"/>
              </a:rPr>
              <a:t>Computations when All States are Recurrent</a:t>
            </a:r>
            <a:endParaRPr b="0" lang="en-US" sz="30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76520" y="2743200"/>
            <a:ext cx="6400800" cy="703800"/>
            <a:chOff x="1676520" y="2743200"/>
            <a:chExt cx="6400800" cy="703800"/>
          </a:xfrm>
        </p:grpSpPr>
        <p:sp>
          <p:nvSpPr>
            <p:cNvPr id="286" name=""/>
            <p:cNvSpPr/>
            <p:nvPr/>
          </p:nvSpPr>
          <p:spPr>
            <a:xfrm>
              <a:off x="1676520" y="2743200"/>
              <a:ext cx="64008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1 +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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r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r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,   for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0,1, . . . 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–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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886920" y="3352680"/>
            <a:ext cx="456480" cy="761040"/>
            <a:chOff x="3886920" y="3352680"/>
            <a:chExt cx="456480" cy="761040"/>
          </a:xfrm>
        </p:grpSpPr>
        <p:sp>
          <p:nvSpPr>
            <p:cNvPr id="289" name=""/>
            <p:cNvSpPr/>
            <p:nvPr/>
          </p:nvSpPr>
          <p:spPr>
            <a:xfrm flipH="1" flipV="1">
              <a:off x="3986280" y="3519720"/>
              <a:ext cx="357120" cy="59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886560" y="3352680"/>
              <a:ext cx="183240" cy="23544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103" y="138"/>
                  </a:moveTo>
                  <a:lnTo>
                    <a:pt x="121" y="0"/>
                  </a:lnTo>
                  <a:lnTo>
                    <a:pt x="0" y="69"/>
                  </a:lnTo>
                  <a:lnTo>
                    <a:pt x="103" y="138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066680" y="5486400"/>
            <a:ext cx="723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xed, we hav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inear syst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quations and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known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914400"/>
            <a:ext cx="846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ppose that we start in state (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and want to fi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expected number of years until we have accid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wo consecutive years (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is transition will occur with probability 1, eventu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First-Passage Analysis for Insurance Company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971800"/>
            <a:ext cx="838188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convenience number the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  1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  2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N,N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N,Y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Y,N)  (Y,Y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n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0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1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1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1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200" y="1176480"/>
            <a:ext cx="69487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} = Pr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}  for al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They don’t change over tim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will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only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sider stationary Markov ch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3048120"/>
            <a:ext cx="7772400" cy="3328920"/>
            <a:chOff x="609480" y="3048120"/>
            <a:chExt cx="7772400" cy="3328920"/>
          </a:xfrm>
        </p:grpSpPr>
        <p:sp>
          <p:nvSpPr>
            <p:cNvPr id="48" name=""/>
            <p:cNvSpPr/>
            <p:nvPr/>
          </p:nvSpPr>
          <p:spPr>
            <a:xfrm>
              <a:off x="609480" y="3048120"/>
              <a:ext cx="7772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e one-step </a:t>
              </a: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transition matrix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for a Markov chai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with states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{ 0, 1, 2 } 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341800" y="4267080"/>
              <a:ext cx="4182840" cy="2109960"/>
              <a:chOff x="2341800" y="4267080"/>
              <a:chExt cx="4182840" cy="2109960"/>
            </a:xfrm>
          </p:grpSpPr>
          <p:sp>
            <p:nvSpPr>
              <p:cNvPr id="50" name=""/>
              <p:cNvSpPr/>
              <p:nvPr/>
            </p:nvSpPr>
            <p:spPr>
              <a:xfrm>
                <a:off x="2341800" y="5866920"/>
                <a:ext cx="4182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where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ij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=  Pr{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1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j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|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i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}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895840" y="4267080"/>
                    <a:ext cx="2717640" cy="13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ationary Transition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82800" y="2819520"/>
            <a:ext cx="3995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0.97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0.0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0.9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+  0.97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3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0.0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990720"/>
            <a:ext cx="510516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N, 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97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0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N, Y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9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1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Y, 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97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03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Y, Y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9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0.1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s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1324080"/>
            <a:ext cx="3657600" cy="1371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50532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03880" y="4267080"/>
            <a:ext cx="7034400" cy="2217240"/>
            <a:chOff x="803880" y="4267080"/>
            <a:chExt cx="7034400" cy="2217240"/>
          </a:xfrm>
        </p:grpSpPr>
        <p:sp>
          <p:nvSpPr>
            <p:cNvPr id="301" name=""/>
            <p:cNvSpPr/>
            <p:nvPr/>
          </p:nvSpPr>
          <p:spPr>
            <a:xfrm>
              <a:off x="803880" y="4876920"/>
              <a:ext cx="703440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So, on average it takes </a:t>
              </a: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343.3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years to transi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from (N,N) to (Y,Y).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Note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03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23. 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Why?      Note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13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&lt;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03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02600" y="4267080"/>
              <a:ext cx="640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Solu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: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03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343.3,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13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 310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23 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343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02200" y="838080"/>
            <a:ext cx="383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N, 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N, Y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Y, N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(Y, Y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7480" y="1371600"/>
            <a:ext cx="32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1200" y="152280"/>
            <a:ext cx="48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First-Passage Compu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066680" y="1828800"/>
          <a:ext cx="6853320" cy="16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85332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First Passage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ame of Cra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1430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robability of win = Pr{ 7 or 11 } = 0.167 + 0.056 = 0.2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robability of loss = Pr{ 2, 3, 12 } = 0.028 + 0.56 + 0.028 = 0.1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04920" y="2286000"/>
          <a:ext cx="84582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4582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irst Passage Probabilities for Cra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371600" y="1219320"/>
          <a:ext cx="6595920" cy="45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65959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84600" y="992160"/>
            <a:ext cx="73144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 absorbing state is a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wit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iven that we start in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we can calculat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being absorbed in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essentially performed this calculation for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ambler’s Ruin problem by fi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65040" y="3776760"/>
            <a:ext cx="428184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(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3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 for larg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40320" y="4572000"/>
            <a:ext cx="708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ut we can use a more efficient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ike that used for calculating first passage ti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bsorbing Stat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77320" y="30542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4572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o directly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Go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then to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447920"/>
            <a:ext cx="8763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542960" indent="-1314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being absorbed in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given that we start in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ransi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42960" indent="-1314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42960" indent="-1314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n for eac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we have the following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42960" indent="-1314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42960" indent="-1314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r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 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2286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be transient states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– 1 be absorbing st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048120"/>
            <a:ext cx="129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24080" y="3885840"/>
            <a:ext cx="22860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4800600" y="3885840"/>
            <a:ext cx="45720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181480"/>
            <a:ext cx="7848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fixe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absorbing state) we hav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k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+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linear equations in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k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+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unknowns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 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5160" y="838080"/>
            <a:ext cx="8751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ppose that we start with $2 and want to calculat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bability of going broke, i.e., of being absorbed in state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know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 and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 th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 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4267080"/>
            <a:ext cx="579096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  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     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  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  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  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-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ff00"/>
                </a:solidFill>
                <a:latin typeface="Bookman Old Style"/>
              </a:rPr>
              <a:t>  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bsorbing States – Gambler’s Rui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800600"/>
            <a:ext cx="426708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36560" y="1073160"/>
            <a:ext cx="764532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w we have three equations with three unknow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sing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.75 (probability of winning a single b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0 + 0.25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0.75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0.25 + 0.75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0 + 0.25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28600" indent="46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lving yields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0.325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0.1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0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This is consistent with the values found earli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olution to Gambler’s Ruin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 About The Mathematics of DTMC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lassify st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n ergodic process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perform economic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mpute first-time pass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mpute absorbing probabi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Classification of States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914400"/>
            <a:ext cx="8001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1040" indent="-148104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ccess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to go from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ath exists in the network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11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6782040" cy="75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4267080"/>
            <a:ext cx="8382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tate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mmunic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both are accessible from each other.   A system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irreduc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all states commun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urr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the system will return to it after leaving some time in the fu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state is not recurrent, it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lassification of States (continue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14300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ate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riod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 can only return to itself after a fixed number of transitions greater than 1 (or multiple of a fixed numb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 that is not periodic i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period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667240" cy="204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54100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tate visited every 3 it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3809880" cy="20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5410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tate visited in multiples of 3 it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lassification of States (continue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95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bsorbing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is one that locks in the system once it enter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09624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3657600"/>
            <a:ext cx="777240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diagram might represent the wealth of a gambler who begins with $2 and makes a series of wagers for $1 eac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 the event of winning in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vent of losing in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wo absorbing states: 0 and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lassification of States (continue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066680"/>
            <a:ext cx="8077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et of states tha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mmunicat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each oth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lass is either al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recurren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al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ransien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ay b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i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eriodi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periodic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tat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ransien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communicate only with each other so no arcs enter any of the corresponding nodes in the network diagram from outside the class.  Arcs may leave, though, passing from a node in the class to one out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4368960"/>
            <a:ext cx="70866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Illustration of Concept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5486400" cy="244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0384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pair of stat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mmunicat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ing a singl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recurren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; moreover, the states are not period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 the stochastic process i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period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rreduc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Illustration of Concepts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6324840" cy="293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4495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0 and 1 communicate and form 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urrent 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3 and 4 form separat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ransient clas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2 is an absorbing state and forms 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urrent 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0:19:50Z</dcterms:created>
  <dc:creator>J. F. Bard</dc:creator>
  <dc:description/>
  <dc:language>en-US</dc:language>
  <cp:lastModifiedBy>Jonathan Bard</cp:lastModifiedBy>
  <dcterms:modified xsi:type="dcterms:W3CDTF">2009-11-09T15:10:37Z</dcterms:modified>
  <cp:revision>162</cp:revision>
  <dc:subject/>
  <dc:title>Markov Chains</dc:title>
</cp:coreProperties>
</file>