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6E6-34A5-4822-9169-A7E139D3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F01-67D8-4054-B0A9-D82126C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B6B-7C2F-4F68-8BB9-6E83A1CB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380-3DCB-438A-A61A-AF1BB89D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717-084D-4E51-91A8-DDAB103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286-427D-4152-8362-7739223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6FE-82DC-431D-A70F-D114263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AF9-BA47-4862-A7A4-74007A9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BD2-7F1E-4446-BBB0-1B4C48B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0DF-D189-455A-9E73-10657FB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211-EC91-4CB4-995C-9E26E74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33B-746A-48FC-8C18-3EEB07A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D55D-82CA-43D4-AD02-DD20AFFB6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6 – Integer Programming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 constr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ng decis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vs. integral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: staff scheduling, fixed charge, T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cewise linear approximations to nonlinear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0240" y="21276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he Days-Off Scheduling Probl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3280" y="1219320"/>
            <a:ext cx="757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9160"/>
                <a:tab algn="l" pos="237960"/>
                <a:tab algn="l" pos="357120"/>
                <a:tab algn="l" pos="476280"/>
                <a:tab algn="l" pos="595440"/>
                <a:tab algn="l" pos="714240"/>
                <a:tab algn="l" pos="833400"/>
                <a:tab algn="l" pos="952560"/>
                <a:tab algn="l" pos="1071720"/>
                <a:tab algn="l" pos="1190520"/>
                <a:tab algn="l" pos="1309680"/>
                <a:tab algn="l" pos="1428840"/>
                <a:tab algn="l" pos="1547640"/>
                <a:tab algn="l" pos="1666800"/>
                <a:tab algn="l" pos="1785960"/>
                <a:tab algn="l" pos="1905120"/>
                <a:tab algn="l" pos="2023920"/>
                <a:tab algn="l" pos="2143080"/>
                <a:tab algn="l" pos="2262240"/>
                <a:tab algn="l" pos="2381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employee works 5 days per week and is given 2 consecutive days off [ (5,7)-cycle proble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2360" y="2266920"/>
            <a:ext cx="719640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87240" indent="-687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ekly cost of patter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er employ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7240" indent="-687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umber of employees required on da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7240" indent="-687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umber of employees assigned to days-off pattern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5480" y="4160880"/>
            <a:ext cx="7659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77760" indent="-977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re ar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days-off patterns;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77760" indent="-977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Pattern </a:t>
            </a:r>
            <a:r>
              <a:rPr b="0" i="1" lang="en-US" sz="2400" spc="-1" strike="noStrike">
                <a:solidFill>
                  <a:srgbClr val="00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ha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ays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+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77760" indent="-977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 example, pattern 3 would 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77760" indent="-977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Mon, Tue, off, off, Thu, Fri, Sat, Su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77760" indent="-977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1, 1, 0, 0, 1, 1,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3240" y="2412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Days-Off Mathematical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7040" y="2809800"/>
            <a:ext cx="76579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bject to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 and integer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7;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8200" y="4778280"/>
            <a:ext cx="5897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lve problem to g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imum cost work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03680" y="5035680"/>
          <a:ext cx="153216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3680" y="5035680"/>
                    <a:ext cx="15321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519280" y="2533680"/>
          <a:ext cx="445320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2533680"/>
                    <a:ext cx="44532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770040" y="1365120"/>
          <a:ext cx="32097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040" y="1365120"/>
                    <a:ext cx="3209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930480" y="4699080"/>
          <a:ext cx="38124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30480" y="4699080"/>
                    <a:ext cx="381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0200" y="-36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ompact Mathematical Mod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39920" y="1127160"/>
            <a:ext cx="356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inimiz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z =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ubjec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13120" y="4929120"/>
            <a:ext cx="498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056040" y="2373480"/>
                <a:ext cx="403848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125880" y="5818320"/>
            <a:ext cx="2598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and in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61000" y="1219320"/>
            <a:ext cx="268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ither-or</a:t>
            </a:r>
            <a:r>
              <a:rPr b="1" lang="en-US" sz="22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onstrai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676520"/>
            <a:ext cx="348768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Either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r      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r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bo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73960" y="3276720"/>
            <a:ext cx="18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IP for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1480" y="4800600"/>
            <a:ext cx="58561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0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first constraint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hol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second constraint 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hol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Optimization process will choose the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valu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276720"/>
            <a:ext cx="537696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{0,1};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“large” numb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–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ogic Constrai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7400" y="2146320"/>
            <a:ext cx="1279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ut of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atisf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308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917720"/>
            <a:ext cx="23749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MT Extra"/>
              </a:rPr>
              <a:t>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0760" y="409248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9520" y="3898800"/>
            <a:ext cx="20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25080" y="4521240"/>
            <a:ext cx="33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5880" y="409248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0360" y="4127400"/>
            <a:ext cx="9241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2840" y="4743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62240" y="4965840"/>
            <a:ext cx="2662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{0, 1},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82400" y="1981080"/>
            <a:ext cx="3568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T Extra"/>
              </a:rPr>
              <a:t>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1 –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3200" y="36792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Bookman Old Style"/>
              </a:rPr>
              <a:t>K</a:t>
            </a:r>
            <a:r>
              <a:rPr b="0" lang="en-US" sz="36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out of</a:t>
            </a:r>
            <a:r>
              <a:rPr b="0" lang="en-US" sz="3600" spc="-1" strike="noStrike">
                <a:solidFill>
                  <a:srgbClr val="00ffff"/>
                </a:solidFill>
                <a:latin typeface="Bookman Old Style"/>
              </a:rPr>
              <a:t> </a:t>
            </a:r>
            <a:r>
              <a:rPr b="0" i="1" lang="en-US" sz="3600" spc="-1" strike="noStrike">
                <a:solidFill>
                  <a:srgbClr val="00ffff"/>
                </a:solidFill>
                <a:latin typeface="Bookman Old Style"/>
              </a:rPr>
              <a:t>N</a:t>
            </a:r>
            <a:r>
              <a:rPr b="0" lang="en-US" sz="3600" spc="-1" strike="noStrike">
                <a:solidFill>
                  <a:srgbClr val="ff9900"/>
                </a:solidFill>
                <a:latin typeface="Bookman Old Style"/>
              </a:rPr>
              <a:t> constraints must hol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88840" y="2197080"/>
            <a:ext cx="716292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 production system has </a:t>
            </a:r>
            <a:r>
              <a:rPr b="0" i="1" lang="en-US" sz="28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potential quality control inspection strateg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anagement has decided that </a:t>
            </a:r>
            <a:r>
              <a:rPr b="0" i="1" lang="en-US" sz="2800" spc="-1" strike="noStrike">
                <a:solidFill>
                  <a:srgbClr val="ff9900"/>
                </a:solidFill>
                <a:latin typeface="Bookman Old Style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of these strategies should be adop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504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of </a:t>
            </a:r>
            <a:r>
              <a:rPr b="0" i="1" lang="en-US" sz="3600" spc="-1" strike="noStrike">
                <a:solidFill>
                  <a:srgbClr val="ff9900"/>
                </a:solidFill>
                <a:latin typeface="Bookman Old Style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out of </a:t>
            </a:r>
            <a:r>
              <a:rPr b="0" i="1" lang="en-US" sz="36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Constrai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2040" y="1068480"/>
            <a:ext cx="6572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(Choice constraints for one region on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9760" y="2313000"/>
            <a:ext cx="3733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85640" y="2092320"/>
            <a:ext cx="2982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gion 1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5400" y="3294000"/>
            <a:ext cx="2982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gion 2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6160" y="4446720"/>
            <a:ext cx="2982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gion 3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3360" y="5410080"/>
            <a:ext cx="472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{0,1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5360" y="1990800"/>
            <a:ext cx="3834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12760" y="3173400"/>
            <a:ext cx="3969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12760" y="4325760"/>
            <a:ext cx="38862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5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6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36560" y="28692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ookman Old Style"/>
              </a:rPr>
              <a:t>Compound Alternativ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66440" y="977760"/>
            <a:ext cx="14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51600" y="1752480"/>
            <a:ext cx="3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7320" y="977760"/>
            <a:ext cx="4819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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,  where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{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15280" y="990720"/>
            <a:ext cx="2247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if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             if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2209680"/>
            <a:ext cx="5614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d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setup cost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per unit co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80560" y="2819520"/>
            <a:ext cx="5301000" cy="3374280"/>
            <a:chOff x="880560" y="2819520"/>
            <a:chExt cx="5301000" cy="3374280"/>
          </a:xfrm>
        </p:grpSpPr>
        <p:sp>
          <p:nvSpPr>
            <p:cNvPr id="270" name=""/>
            <p:cNvSpPr/>
            <p:nvPr/>
          </p:nvSpPr>
          <p:spPr>
            <a:xfrm>
              <a:off x="880560" y="2819520"/>
              <a:ext cx="2331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9900"/>
                  </a:solidFill>
                  <a:latin typeface="Bookman Old Style"/>
                </a:rPr>
                <a:t>IP formulation</a:t>
              </a:r>
              <a:r>
                <a:rPr b="0" lang="en-US" sz="2600" spc="-1" strike="noStrike">
                  <a:solidFill>
                    <a:srgbClr val="ffff00"/>
                  </a:solidFill>
                  <a:latin typeface="Bookman Old Style"/>
                </a:rPr>
                <a:t>: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47720" y="3713040"/>
              <a:ext cx="54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M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0440" y="3365640"/>
              <a:ext cx="14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91200" y="4038480"/>
              <a:ext cx="3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80080" y="3713040"/>
              <a:ext cx="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25120" y="3657600"/>
              <a:ext cx="1668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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c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+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f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0640" y="4495680"/>
              <a:ext cx="42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s.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4600" y="4470480"/>
              <a:ext cx="366696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My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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{0,1}</a:t>
              </a:r>
              <a:r>
                <a:rPr b="0" lang="en-US" sz="1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0,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1,…,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ixed-Charge Prob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762120" y="1295280"/>
            <a:ext cx="80550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company has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otential warehouse sites and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: demand for custome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: capacity (supply) of warehous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: build a warehouse at sit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1 = yes, 0 = 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: shipments from warehous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customer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ookman Old Style"/>
              </a:rPr>
              <a:t>Example:</a:t>
            </a:r>
            <a:r>
              <a:rPr b="0" lang="en-US" sz="32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acility Location Prob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75800" y="1511280"/>
            <a:ext cx="497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79680" y="1130400"/>
            <a:ext cx="2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13880" y="1447920"/>
            <a:ext cx="21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79240" y="185436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31760" y="14907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7680" y="1130400"/>
            <a:ext cx="14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29760" y="1447920"/>
            <a:ext cx="21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8480" y="184140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45840" y="14907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84080" y="1490760"/>
            <a:ext cx="802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8080" y="1143000"/>
            <a:ext cx="2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01520" y="1447920"/>
            <a:ext cx="21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21240" y="185436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61880" y="14907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080" y="1490760"/>
            <a:ext cx="331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1200" y="90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60760" y="273060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49800" y="2425680"/>
            <a:ext cx="2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15880" y="318780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74400" y="298116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16120" y="2654280"/>
            <a:ext cx="2620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35040" y="28177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40800" y="3683160"/>
            <a:ext cx="14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1080" y="440676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8480" y="41432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9920" y="3949560"/>
            <a:ext cx="2827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17640" y="5092560"/>
            <a:ext cx="35593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0,1}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35600" y="275904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3360" y="2806560"/>
            <a:ext cx="2774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atisfy each customer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de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394240" y="2882880"/>
            <a:ext cx="456840" cy="98280"/>
            <a:chOff x="5394240" y="2882880"/>
            <a:chExt cx="456840" cy="98280"/>
          </a:xfrm>
        </p:grpSpPr>
        <p:sp>
          <p:nvSpPr>
            <p:cNvPr id="311" name=""/>
            <p:cNvSpPr/>
            <p:nvPr/>
          </p:nvSpPr>
          <p:spPr>
            <a:xfrm flipH="1">
              <a:off x="5490720" y="2931840"/>
              <a:ext cx="360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4240" y="2882880"/>
              <a:ext cx="10008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64"/>
                  </a:lnTo>
                  <a:lnTo>
                    <a:pt x="125" y="12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835600" y="4054320"/>
            <a:ext cx="1557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70680" y="4102200"/>
            <a:ext cx="2542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ach warehouse 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hip no more than 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upply if it is bu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78400" y="4187880"/>
            <a:ext cx="456840" cy="98280"/>
            <a:chOff x="5378400" y="4187880"/>
            <a:chExt cx="456840" cy="98280"/>
          </a:xfrm>
        </p:grpSpPr>
        <p:sp>
          <p:nvSpPr>
            <p:cNvPr id="316" name=""/>
            <p:cNvSpPr/>
            <p:nvPr/>
          </p:nvSpPr>
          <p:spPr>
            <a:xfrm flipH="1">
              <a:off x="5474880" y="4238640"/>
              <a:ext cx="360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8400" y="4187880"/>
              <a:ext cx="9864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63"/>
                  </a:lnTo>
                  <a:lnTo>
                    <a:pt x="125" y="12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acility Location IP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6640" y="1600200"/>
            <a:ext cx="6183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ximize/Minimize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85000" y="2082960"/>
            <a:ext cx="3985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90000" y="255744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4560" y="220968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24560" y="251928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24560" y="283068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70880" y="25146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2560" y="2057400"/>
            <a:ext cx="3193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85320" y="2502000"/>
            <a:ext cx="1800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1400" y="2427120"/>
            <a:ext cx="56185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nteger for some or al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inear Integer Programming - I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79360" y="2095560"/>
            <a:ext cx="8686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1440" indent="-1711440">
              <a:lnSpc>
                <a:spcPct val="100000"/>
              </a:lnSpc>
              <a:tabLst>
                <a:tab algn="l" pos="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Problem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Open set of facilities and assign each customer to one facility such that cost is minimize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9000" y="3492360"/>
            <a:ext cx="6639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40" indent="-468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Bookman Old Style"/>
              </a:rPr>
              <a:t>Cost</a:t>
            </a:r>
            <a:r>
              <a:rPr b="0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uld be a function of distance from facility to customer or</a:t>
            </a:r>
            <a:r>
              <a:rPr b="0" lang="en-US" sz="2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uld be based on a response time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(e.g., locating fire stations)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4680" y="371160"/>
            <a:ext cx="874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718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man Old Style"/>
              </a:rPr>
              <a:t>Uncapacitated Facility Location Problem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96240" y="9698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Indices/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91960" y="1508040"/>
            <a:ext cx="583416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potential facility locations,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with 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|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ustomers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with 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|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120" y="2651040"/>
            <a:ext cx="78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184560"/>
            <a:ext cx="6093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: cost of opening a facility at locati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: cost of assigning custome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o facility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440" y="4479840"/>
            <a:ext cx="2883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Decision 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57560" y="5089680"/>
            <a:ext cx="64429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: open facility at locati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(1 = yes, 0 = 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: assign custome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o location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(1 = yes, 0 = 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09400" y="1295280"/>
            <a:ext cx="54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5800" y="2362320"/>
            <a:ext cx="4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06120" y="4444920"/>
            <a:ext cx="46746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{0,1}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{0,1}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2666880"/>
            <a:ext cx="3216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0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, 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must be 0 for all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1, up to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of th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can be 1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640" y="5092560"/>
            <a:ext cx="55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 computationally 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7520" y="2286000"/>
            <a:ext cx="24541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65640" y="2666880"/>
            <a:ext cx="5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38360" y="3146400"/>
            <a:ext cx="29019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2000" y="3581280"/>
            <a:ext cx="4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70760" y="1587600"/>
            <a:ext cx="5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93280" y="1600200"/>
            <a:ext cx="9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04640" y="1219320"/>
            <a:ext cx="31158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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eak Formul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13200" y="2654280"/>
            <a:ext cx="482760" cy="1575000"/>
          </a:xfrm>
          <a:custGeom>
            <a:avLst/>
            <a:gdLst>
              <a:gd name="textAreaLeft" fmla="*/ 308520 w 482760"/>
              <a:gd name="textAreaRight" fmla="*/ 483120 w 482760"/>
              <a:gd name="textAreaTop" fmla="*/ 41040 h 1575000"/>
              <a:gd name="textAreaBottom" fmla="*/ 1533960 h 15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98880" y="1766880"/>
            <a:ext cx="69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1040" y="278280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960" y="2681280"/>
            <a:ext cx="28166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1400" y="2604960"/>
            <a:ext cx="3332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Each customer is assigned to exactly one fac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Setup 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5094360"/>
            <a:ext cx="830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an assign custome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o facility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only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if we open facility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57680" y="3062160"/>
            <a:ext cx="5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65840" y="2058840"/>
            <a:ext cx="5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8360" y="2071800"/>
            <a:ext cx="9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54080" y="3519360"/>
            <a:ext cx="5638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 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,  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0,1}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0,1} 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1690560"/>
            <a:ext cx="31158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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+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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thematically Equivalent Strong Form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3840" y="977760"/>
            <a:ext cx="79246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>
              <a:lnSpc>
                <a:spcPct val="100000"/>
              </a:lnSpc>
              <a:spcAft>
                <a:spcPts val="11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3 crews -- each must be assigned a sequence of flights that begins and ends in Dallas (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FW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Each flight leg must be cover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83480" y="2311560"/>
            <a:ext cx="167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Possible t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056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4232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084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4224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100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9976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7272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8700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1040" y="2781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48240" y="27813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90960" y="27813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38720" y="27813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437080" y="2844720"/>
            <a:ext cx="6480" cy="49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351480" y="2844720"/>
            <a:ext cx="6480" cy="493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951560" y="3022560"/>
            <a:ext cx="79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FW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LAX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54960" y="3022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56640" y="3022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14120" y="3022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28520" y="3022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37880" y="3186000"/>
            <a:ext cx="79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FW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D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56720" y="31860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56600" y="31860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56840" y="31860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72680" y="31860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55880" y="3343320"/>
            <a:ext cx="783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FW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SE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56680" y="3330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13800" y="3330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42680" y="3292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15760" y="3305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53360" y="3519360"/>
            <a:ext cx="73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LAX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CH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56640" y="3494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14120" y="3494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2680" y="3494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8520" y="3494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15760" y="3494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45800" y="3657600"/>
            <a:ext cx="76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LAX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F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52800" y="3657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3800" y="365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28520" y="36957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72680" y="36957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5800" y="3821040"/>
            <a:ext cx="762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CHI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D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56640" y="382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56600" y="382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42680" y="382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57680" y="3986280"/>
            <a:ext cx="71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CHI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SE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1412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568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852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268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576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5880" y="4149720"/>
            <a:ext cx="82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EN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DF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6720" y="4149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56640" y="4149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56600" y="4149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42680" y="4149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45800" y="4325760"/>
            <a:ext cx="762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DEN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CH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51200" y="4338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44240" y="4300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72680" y="43131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55880" y="4516560"/>
            <a:ext cx="783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SEA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DF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56680" y="4516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39320" y="4503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44240" y="4503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8360" y="4465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62000" y="4667400"/>
            <a:ext cx="73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SEA </a:t>
            </a:r>
            <a:r>
              <a:rPr b="1" lang="en-US" sz="1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 LAX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13800" y="4641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84960" y="4925880"/>
            <a:ext cx="92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Cost ($10000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832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2008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6928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2000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8216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2676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5192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2020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0604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9188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084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40960" y="4925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093760" y="4390920"/>
            <a:ext cx="49320" cy="64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2143080" y="4390920"/>
            <a:ext cx="49320" cy="6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6338880" y="5076720"/>
            <a:ext cx="6480" cy="6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04360" y="5452920"/>
            <a:ext cx="258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05760" y="5905440"/>
            <a:ext cx="6736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(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1,…,12) assign a crew to tour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(1 = yes, 0 = 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15760" y="4668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55160" y="46594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98240" y="46594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74360" y="4668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21040" y="2806560"/>
            <a:ext cx="0" cy="238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16200" y="2984400"/>
            <a:ext cx="5460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90640" y="4863960"/>
            <a:ext cx="551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55880" y="2654280"/>
            <a:ext cx="64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ad23"/>
                </a:solidFill>
                <a:latin typeface="Bookman Old Style"/>
              </a:rPr>
              <a:t>L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79360" y="201600"/>
            <a:ext cx="85694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et Covering Problem (Airline Crew Scheduli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90280" y="1147680"/>
            <a:ext cx="570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i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7840" y="1135080"/>
            <a:ext cx="23047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3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4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02480" y="105876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89480" y="1135080"/>
            <a:ext cx="17208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8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1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9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91000" y="175752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0120" y="178272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38600" y="1782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8040" y="178272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87960" y="1782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87040" y="178272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35880" y="1782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39720" y="1782720"/>
            <a:ext cx="320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4000" y="1773360"/>
            <a:ext cx="154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DF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L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90120" y="216072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600" y="2160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8040" y="216072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87960" y="2160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4800" y="216072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51200" y="2325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35880" y="21607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39720" y="2160720"/>
            <a:ext cx="320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79680" y="2216160"/>
            <a:ext cx="161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DF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D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90120" y="247500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38600" y="24750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5440" y="247500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76640" y="26398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87960" y="24750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7040" y="247500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35880" y="24750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14520" y="247500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69680" y="26398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92640" y="2557440"/>
            <a:ext cx="153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DF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SE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74280" y="284328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22760" y="2843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21840" y="284328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72120" y="2843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71200" y="284328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19680" y="2843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98680" y="28432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79400" y="30067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86760" y="2843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6720" y="2855880"/>
            <a:ext cx="4809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76800" y="2928960"/>
            <a:ext cx="142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LAX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CH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74280" y="324468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22760" y="32446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21840" y="324468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68520" y="3244680"/>
            <a:ext cx="21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58960" y="32446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14120" y="34084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1840" y="32446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90840" y="32446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46000" y="34084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4000" y="3319560"/>
            <a:ext cx="154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LAX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DF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28800" y="3676680"/>
            <a:ext cx="14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T Extra"/>
              </a:rPr>
              <a:t>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74280" y="397980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22760" y="39798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21840" y="3979800"/>
            <a:ext cx="227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56280" y="40305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84160" y="3979800"/>
            <a:ext cx="320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11840" y="39798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90840" y="397980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46000" y="41450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51560" y="397980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97440" y="3979800"/>
            <a:ext cx="404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57880" y="4005360"/>
            <a:ext cx="457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95880" y="3979800"/>
            <a:ext cx="14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L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54120" y="4361040"/>
            <a:ext cx="3031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22760" y="43736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01680" y="4398840"/>
            <a:ext cx="3034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72120" y="43736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32400" y="430056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11840" y="43736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98760" y="4398840"/>
            <a:ext cx="5065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37720" y="441180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53760" y="4398840"/>
            <a:ext cx="188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assign 3 crew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4680" y="4805280"/>
            <a:ext cx="2650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{0,1},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5389560"/>
            <a:ext cx="7848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llows “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dead heading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”; i.e., multiple crews fly on 1 leg but only 1 crew works (</a:t>
            </a:r>
            <a:r>
              <a:rPr b="0" lang="en-US" sz="2200" spc="-1" strike="noStrike">
                <a:solidFill>
                  <a:srgbClr val="00ffff"/>
                </a:solidFill>
                <a:latin typeface="Bookman Old Style"/>
              </a:rPr>
              <a:t>all get pai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00280" y="3294000"/>
            <a:ext cx="45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00280" y="1757520"/>
            <a:ext cx="45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00280" y="2214720"/>
            <a:ext cx="45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00280" y="2519280"/>
            <a:ext cx="45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00280" y="2900520"/>
            <a:ext cx="45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482360" y="3664080"/>
            <a:ext cx="11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T Extra"/>
              </a:rPr>
              <a:t>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766840" y="3676680"/>
            <a:ext cx="11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T Extra"/>
              </a:rPr>
              <a:t>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45400" y="4983120"/>
            <a:ext cx="207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ookman Old Style"/>
              </a:rPr>
              <a:t>side 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7048080" y="4779720"/>
            <a:ext cx="546120" cy="253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ookman Old Style"/>
              </a:rPr>
              <a:t>Formulation (set covering problem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1866960" y="1440000"/>
            <a:ext cx="4571640" cy="3047760"/>
            <a:chOff x="1866960" y="1440000"/>
            <a:chExt cx="4571640" cy="3047760"/>
          </a:xfrm>
        </p:grpSpPr>
        <p:sp>
          <p:nvSpPr>
            <p:cNvPr id="537" name=""/>
            <p:cNvSpPr/>
            <p:nvPr/>
          </p:nvSpPr>
          <p:spPr>
            <a:xfrm>
              <a:off x="3867120" y="1440000"/>
              <a:ext cx="28548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67120" y="4129200"/>
              <a:ext cx="28548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53120" y="2515680"/>
              <a:ext cx="28548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66960" y="2515680"/>
              <a:ext cx="285480" cy="35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09520" y="3053520"/>
              <a:ext cx="1714320" cy="1254960"/>
            </a:xfrm>
            <a:custGeom>
              <a:avLst/>
              <a:gdLst/>
              <a:ahLst/>
              <a:rect l="l" t="t" r="r" b="b"/>
              <a:pathLst>
                <a:path w="1728" h="1008">
                  <a:moveTo>
                    <a:pt x="0" y="0"/>
                  </a:moveTo>
                  <a:cubicBezTo>
                    <a:pt x="216" y="204"/>
                    <a:pt x="432" y="408"/>
                    <a:pt x="720" y="576"/>
                  </a:cubicBezTo>
                  <a:cubicBezTo>
                    <a:pt x="1008" y="744"/>
                    <a:pt x="1368" y="876"/>
                    <a:pt x="1728" y="100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5880" y="1619280"/>
              <a:ext cx="1857240" cy="717120"/>
            </a:xfrm>
            <a:custGeom>
              <a:avLst/>
              <a:gdLst/>
              <a:ahLst/>
              <a:rect l="l" t="t" r="r" b="b"/>
              <a:pathLst>
                <a:path w="1872" h="576">
                  <a:moveTo>
                    <a:pt x="0" y="0"/>
                  </a:moveTo>
                  <a:cubicBezTo>
                    <a:pt x="348" y="24"/>
                    <a:pt x="696" y="48"/>
                    <a:pt x="1008" y="144"/>
                  </a:cubicBezTo>
                  <a:cubicBezTo>
                    <a:pt x="1320" y="240"/>
                    <a:pt x="1728" y="504"/>
                    <a:pt x="1872" y="5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2440" y="1619280"/>
              <a:ext cx="1571400" cy="717120"/>
            </a:xfrm>
            <a:custGeom>
              <a:avLst/>
              <a:gdLst/>
              <a:ahLst/>
              <a:rect l="l" t="t" r="r" b="b"/>
              <a:pathLst>
                <a:path w="1584" h="576">
                  <a:moveTo>
                    <a:pt x="1584" y="0"/>
                  </a:moveTo>
                  <a:cubicBezTo>
                    <a:pt x="1284" y="24"/>
                    <a:pt x="984" y="48"/>
                    <a:pt x="720" y="144"/>
                  </a:cubicBezTo>
                  <a:cubicBezTo>
                    <a:pt x="456" y="240"/>
                    <a:pt x="228" y="408"/>
                    <a:pt x="0" y="5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5880" y="3053520"/>
              <a:ext cx="2000160" cy="1254960"/>
            </a:xfrm>
            <a:custGeom>
              <a:avLst/>
              <a:gdLst/>
              <a:ahLst/>
              <a:rect l="l" t="t" r="r" b="b"/>
              <a:pathLst>
                <a:path w="2016" h="1008">
                  <a:moveTo>
                    <a:pt x="0" y="1008"/>
                  </a:moveTo>
                  <a:cubicBezTo>
                    <a:pt x="480" y="876"/>
                    <a:pt x="960" y="744"/>
                    <a:pt x="1296" y="576"/>
                  </a:cubicBezTo>
                  <a:cubicBezTo>
                    <a:pt x="1632" y="408"/>
                    <a:pt x="1824" y="204"/>
                    <a:pt x="201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152440" y="1798560"/>
              <a:ext cx="1714320" cy="71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2152440" y="2874240"/>
              <a:ext cx="1714320" cy="125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295520" y="2874240"/>
              <a:ext cx="1857240" cy="125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52960" y="1798560"/>
              <a:ext cx="2000160" cy="71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15160" y="2595240"/>
              <a:ext cx="371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2318760" y="2754720"/>
              <a:ext cx="367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85280" y="1883160"/>
              <a:ext cx="0" cy="211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926880" y="1957680"/>
              <a:ext cx="0" cy="201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848040" y="1440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34040" y="2506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48040" y="410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66960" y="2506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63640" y="4944960"/>
            <a:ext cx="71755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20840" indent="-1320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Proble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Find minimum distance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tou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hat starts at city 1, visits every other city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xactly once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and returns to city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20720" y="4395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veling Salesman Problem (TSP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837000" y="304920"/>
            <a:ext cx="3007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41040" y="838080"/>
            <a:ext cx="4542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 if tour includes arc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0  otherw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62640" y="1600200"/>
            <a:ext cx="439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6280" y="1905120"/>
            <a:ext cx="301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Initial for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06520" y="33764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88640" y="2604960"/>
            <a:ext cx="570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i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98560" y="2604960"/>
            <a:ext cx="763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50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24400" y="26049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46240" y="2604960"/>
            <a:ext cx="7891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44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3120" y="26049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94200" y="2617920"/>
            <a:ext cx="8650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5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31840" y="26049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1680" y="2590920"/>
            <a:ext cx="77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. . 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48400" y="2590920"/>
            <a:ext cx="826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20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48680" y="25909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45320" y="2590920"/>
            <a:ext cx="7891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45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39480" y="25909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848720" y="2590920"/>
            <a:ext cx="7380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40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53080" y="312588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05000" y="31258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58720" y="32907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57880" y="31258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84400" y="31258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39560" y="32907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34040" y="31258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16280" y="3125880"/>
            <a:ext cx="20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30120" y="32907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42240" y="312588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5000" y="350676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83920" y="3657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57880" y="35067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0" y="350676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9560" y="3670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1440" y="350676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74960" y="350676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30120" y="3670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42240" y="350676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5000" y="38116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58720" y="3976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57880" y="38116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84400" y="38116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39560" y="3976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21440" y="38116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74960" y="38116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68280" y="3976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42240" y="381168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5000" y="411624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58720" y="42814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57880" y="4116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84400" y="411624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39560" y="42814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21440" y="411624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74960" y="411624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55680" y="42688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42240" y="411624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44280" y="42372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44280" y="4299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44280" y="44528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5000" y="47512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58720" y="491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57880" y="4751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84400" y="47512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39560" y="491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21440" y="475128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74960" y="475128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30120" y="49150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4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42240" y="475128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5000" y="513252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58720" y="52974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1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57880" y="51325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84400" y="513252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9560" y="52974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2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21440" y="5132520"/>
            <a:ext cx="16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74960" y="513252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68280" y="5284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3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39000" y="3301920"/>
            <a:ext cx="18280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{0,1}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8080" y="5842080"/>
            <a:ext cx="648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is is incomplete because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subtour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re possib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64160" y="4033800"/>
            <a:ext cx="182880" cy="18252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67240" y="4611600"/>
            <a:ext cx="182520" cy="18432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49760" y="4521240"/>
            <a:ext cx="2103480" cy="90360"/>
          </a:xfrm>
          <a:custGeom>
            <a:avLst/>
            <a:gdLst/>
            <a:ahLst/>
            <a:rect l="l" t="t" r="r" b="b"/>
            <a:pathLst>
              <a:path w="3312" h="144">
                <a:moveTo>
                  <a:pt x="0" y="144"/>
                </a:moveTo>
                <a:cubicBezTo>
                  <a:pt x="516" y="72"/>
                  <a:pt x="1032" y="0"/>
                  <a:pt x="1584" y="0"/>
                </a:cubicBezTo>
                <a:cubicBezTo>
                  <a:pt x="2136" y="0"/>
                  <a:pt x="2724" y="72"/>
                  <a:pt x="3312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41920" y="4795920"/>
            <a:ext cx="1919520" cy="90360"/>
          </a:xfrm>
          <a:custGeom>
            <a:avLst/>
            <a:gdLst/>
            <a:ahLst/>
            <a:rect l="l" t="t" r="r" b="b"/>
            <a:pathLst>
              <a:path w="3024" h="144">
                <a:moveTo>
                  <a:pt x="0" y="0"/>
                </a:moveTo>
                <a:cubicBezTo>
                  <a:pt x="756" y="72"/>
                  <a:pt x="1512" y="144"/>
                  <a:pt x="2016" y="144"/>
                </a:cubicBezTo>
                <a:cubicBezTo>
                  <a:pt x="2520" y="144"/>
                  <a:pt x="2772" y="72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10160" y="4289400"/>
            <a:ext cx="66960" cy="941400"/>
          </a:xfrm>
          <a:custGeom>
            <a:avLst/>
            <a:gdLst/>
            <a:ahLst/>
            <a:rect l="l" t="t" r="r" b="b"/>
            <a:pathLst>
              <a:path w="106" h="1482">
                <a:moveTo>
                  <a:pt x="106" y="0"/>
                </a:moveTo>
                <a:cubicBezTo>
                  <a:pt x="53" y="257"/>
                  <a:pt x="0" y="515"/>
                  <a:pt x="0" y="762"/>
                </a:cubicBezTo>
                <a:cubicBezTo>
                  <a:pt x="0" y="1009"/>
                  <a:pt x="53" y="1245"/>
                  <a:pt x="106" y="14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38760" y="4289400"/>
            <a:ext cx="54000" cy="928800"/>
          </a:xfrm>
          <a:custGeom>
            <a:avLst/>
            <a:gdLst/>
            <a:ahLst/>
            <a:rect l="l" t="t" r="r" b="b"/>
            <a:pathLst>
              <a:path w="85" h="1461">
                <a:moveTo>
                  <a:pt x="0" y="1461"/>
                </a:moveTo>
                <a:cubicBezTo>
                  <a:pt x="42" y="1106"/>
                  <a:pt x="85" y="751"/>
                  <a:pt x="85" y="508"/>
                </a:cubicBezTo>
                <a:cubicBezTo>
                  <a:pt x="85" y="264"/>
                  <a:pt x="42" y="1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64160" y="5207040"/>
            <a:ext cx="182880" cy="18252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07160" y="4597560"/>
            <a:ext cx="182880" cy="18252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72480" y="5156280"/>
            <a:ext cx="3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27880" y="405144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27880" y="520704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0080" y="462276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45320" y="4610160"/>
            <a:ext cx="13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89040" y="3768840"/>
            <a:ext cx="794376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Alternative formula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3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4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4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o generalize, let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{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}, and let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SEC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: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| – 1,   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|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|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/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95440" y="551988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03440" y="4572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ubtour Elimination Constrai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80" y="1468440"/>
            <a:ext cx="5858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Let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{1,3} and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{2,4}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nd require at least 1 arc from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14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34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allows the “2 loop” sol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73200" y="17748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of SE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12880" y="1015920"/>
            <a:ext cx="72514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0 and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{ 2, 5, 6, 9 }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n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|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12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|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C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9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9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9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9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9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4 – 1 =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38080" y="5289480"/>
            <a:ext cx="7239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general, there are an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number of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btour elimination constra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301920" y="3645000"/>
            <a:ext cx="812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57880" y="3606840"/>
            <a:ext cx="939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521240" y="3733560"/>
            <a:ext cx="799920" cy="393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444920" y="4381200"/>
            <a:ext cx="876240" cy="393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521240" y="4444920"/>
            <a:ext cx="9396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378240" y="4444560"/>
            <a:ext cx="774720" cy="52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16400" y="4343400"/>
            <a:ext cx="69840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416400" y="3797280"/>
            <a:ext cx="698400" cy="36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40080" y="4203720"/>
            <a:ext cx="189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416400" y="4292640"/>
            <a:ext cx="1930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4064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463536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4064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5305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62240" y="4089240"/>
            <a:ext cx="2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97480" y="4102200"/>
            <a:ext cx="2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29280" y="3556080"/>
            <a:ext cx="2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41880" y="4686480"/>
            <a:ext cx="2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4480" y="14097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434960"/>
            <a:ext cx="7378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 IP is 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mixed integer progra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MIP) if some but not all of the decision variables are integ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60" y="25527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2577960"/>
            <a:ext cx="76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all decision variables are integer we have a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ur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4480" y="316224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4160" y="3187800"/>
            <a:ext cx="581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binary decision variable must be 0 o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355752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a yes-no decision vari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4480" y="429264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5680" y="4281480"/>
            <a:ext cx="7264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all decision variables are binary, then the IP is a binary IP (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BI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240" y="531828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7480" y="534348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cision variables that are not required to be integer-valued ar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ontinuou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cision Variables in IP Mod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0880" y="1384200"/>
            <a:ext cx="845820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Testing integrated circuit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(ICs): A machine is used to test several batches of ICs of differing typ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fter each batch the machine must be rese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changeover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ime depends on what type of IC was just tested and which type will be tested nex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295280" y="3670200"/>
            <a:ext cx="5740560" cy="2667240"/>
            <a:chOff x="1295280" y="3670200"/>
            <a:chExt cx="5740560" cy="2667240"/>
          </a:xfrm>
        </p:grpSpPr>
        <p:sp>
          <p:nvSpPr>
            <p:cNvPr id="676" name=""/>
            <p:cNvSpPr/>
            <p:nvPr/>
          </p:nvSpPr>
          <p:spPr>
            <a:xfrm>
              <a:off x="3752640" y="3670200"/>
              <a:ext cx="2443680" cy="8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9900"/>
                  </a:solidFill>
                  <a:latin typeface="Bookman Old Style"/>
                </a:rPr>
                <a:t>Changeover Tim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Bookman Old Style"/>
                </a:rPr>
                <a:t>IC typ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73200" y="46609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8560" y="46609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22480" y="46609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71800" y="46609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12800" y="49957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61680" y="4965840"/>
              <a:ext cx="18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-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419360" y="499572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5080" y="499572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7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92600" y="499572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4040" y="4979880"/>
              <a:ext cx="111744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11480" y="4979880"/>
              <a:ext cx="648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11480" y="4979880"/>
              <a:ext cx="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11480" y="4979880"/>
              <a:ext cx="1800" cy="6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17960" y="4979880"/>
              <a:ext cx="111924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37200" y="4979880"/>
              <a:ext cx="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37200" y="4979880"/>
              <a:ext cx="1440" cy="6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43680" y="4979880"/>
              <a:ext cx="111888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62560" y="4979880"/>
              <a:ext cx="50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62560" y="4979880"/>
              <a:ext cx="1800" cy="6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67600" y="4979880"/>
              <a:ext cx="76500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2894040" y="4979880"/>
              <a:ext cx="4138560" cy="1800"/>
              <a:chOff x="2894040" y="4979880"/>
              <a:chExt cx="4138560" cy="1800"/>
            </a:xfrm>
          </p:grpSpPr>
          <p:sp>
            <p:nvSpPr>
              <p:cNvPr id="698" name=""/>
              <p:cNvSpPr/>
              <p:nvPr/>
            </p:nvSpPr>
            <p:spPr>
              <a:xfrm>
                <a:off x="2894040" y="4979880"/>
                <a:ext cx="111744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017960" y="4979880"/>
                <a:ext cx="111924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43680" y="4979880"/>
                <a:ext cx="111888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267600" y="4979880"/>
                <a:ext cx="76500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2889360" y="5465880"/>
              <a:ext cx="46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12800" y="53244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94000" y="532440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04680" y="5346720"/>
              <a:ext cx="18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-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45080" y="532440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9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92600" y="532440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18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89360" y="5792760"/>
              <a:ext cx="4680" cy="32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12800" y="565164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94000" y="565164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5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19360" y="565164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47680" y="5651640"/>
              <a:ext cx="18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-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92600" y="565164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2800" y="597996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94000" y="597996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5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19360" y="597996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4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9760" y="5956200"/>
              <a:ext cx="381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62080" y="5956200"/>
              <a:ext cx="18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-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20800" y="5006880"/>
              <a:ext cx="725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95280" y="5473800"/>
              <a:ext cx="105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Bookman Old Style"/>
                </a:rPr>
                <a:t>IC typ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82880" y="4965840"/>
              <a:ext cx="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68480" y="6326280"/>
              <a:ext cx="1117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92400" y="6326280"/>
              <a:ext cx="1119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6326280"/>
              <a:ext cx="1119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16480" y="6326280"/>
              <a:ext cx="8035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35840" y="4965840"/>
              <a:ext cx="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2720" y="215640"/>
            <a:ext cx="8584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equencing problems with sequence-depend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    setup times can be modeled as a TS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 flipV="1">
            <a:off x="2908440" y="1325160"/>
            <a:ext cx="242388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3018960" y="3325320"/>
            <a:ext cx="2320920" cy="16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8454960" y="2400480"/>
            <a:ext cx="0" cy="198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29480" y="1511280"/>
            <a:ext cx="2465280" cy="277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751000" y="2319480"/>
            <a:ext cx="2543400" cy="25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raph for IC Testing 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112560" y="1393920"/>
            <a:ext cx="2359080" cy="1536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10120" y="1233360"/>
            <a:ext cx="2372040" cy="676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5924520" y="1379160"/>
            <a:ext cx="2278080" cy="662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818320" y="4599000"/>
            <a:ext cx="2490480" cy="477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686560" y="4730400"/>
            <a:ext cx="258264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22400" y="3314880"/>
            <a:ext cx="2373480" cy="172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599320" y="2371680"/>
            <a:ext cx="0" cy="19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11960" y="1536840"/>
            <a:ext cx="0" cy="32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646600" y="160308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5724000" y="1590840"/>
            <a:ext cx="2559240" cy="286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618160" y="2239920"/>
            <a:ext cx="2597040" cy="261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152880" y="2093760"/>
            <a:ext cx="5087880" cy="9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150720" y="2214720"/>
            <a:ext cx="5116680" cy="903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60720" y="3168720"/>
            <a:ext cx="5167440" cy="1284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3060360" y="3273480"/>
            <a:ext cx="5141880" cy="1271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27160" y="1920960"/>
            <a:ext cx="135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Dummy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7200" y="5208480"/>
            <a:ext cx="516888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ample path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 0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1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3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2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4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Cost of path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 0 + 17 + 44 + 18 + 0 = 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037360" y="288144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832880" y="3444840"/>
            <a:ext cx="39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41960" y="448452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32240" y="38973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54600" y="1728720"/>
            <a:ext cx="39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34040" y="4795920"/>
            <a:ext cx="5857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16560" y="491004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205840" y="4262400"/>
            <a:ext cx="585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97720" y="435276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205840" y="1862280"/>
            <a:ext cx="5857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05640" y="197496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50960" y="2814480"/>
            <a:ext cx="5860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2320" y="1062000"/>
            <a:ext cx="585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55800" y="28987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59480" y="114156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1840" y="343080"/>
            <a:ext cx="537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6880" y="673200"/>
            <a:ext cx="76201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the cycle is repeated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C1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C3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C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C4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C1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n the total changeover time for one cycl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7 + 44 + 18 +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24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[arc (4,1) added]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goal is to sequence the testing order so that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hroughpu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i.e., minimize cycle time) i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maximize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for fixed batch siz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te that in this example, the “travel times” are not symmetr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0680" y="-360"/>
            <a:ext cx="87249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eneral Piecewise Linear Approxim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714680" y="1041480"/>
            <a:ext cx="6188040" cy="33004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073160" y="4626000"/>
            <a:ext cx="58579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iven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,  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number of grid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b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grid point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73200" y="1731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Linear Transformation for </a:t>
            </a:r>
            <a:r>
              <a:rPr b="0" i="1" lang="en-US" sz="3200" spc="-1" strike="noStrike">
                <a:solidFill>
                  <a:srgbClr val="ffff00"/>
                </a:solidFill>
                <a:latin typeface="Bookman Old Style"/>
              </a:rPr>
              <a:t>j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 Vari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008000" y="1271520"/>
            <a:ext cx="667872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  i = 1,…,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t sufficient to guarantee solution is on one of the line seg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00320" y="3381480"/>
            <a:ext cx="84924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03680" y="1028880"/>
            <a:ext cx="84924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30560" y="2174760"/>
            <a:ext cx="84924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002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Additional Constraints for Piecewise Linear Approximation</a:t>
            </a: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6080" y="1986120"/>
            <a:ext cx="8458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9240" indent="-2289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equirem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 more than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wo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an b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ositiv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;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’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must b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adjacen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; i.e.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11440" y="3005280"/>
            <a:ext cx="44546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,…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· · ·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 or  1,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...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 Should Know About Integer Programm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44600" y="2158560"/>
            <a:ext cx="85089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nvert a problem statement in an IP mod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efine the decision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nvert logic statements into constra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formulation fixed charge problems, scheduling problems, covering problems,TSP, piece-wise linear approximation to nonlinear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92160" y="1590840"/>
            <a:ext cx="602784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LP divisibility assumption (fractional solutions are permissible) i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lways val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nary variables allow powerful new techniques lik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logical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onstra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6120" y="21924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1400" y="474840"/>
            <a:ext cx="723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Bookman Old Style"/>
              </a:rPr>
              <a:t>Why study integer programming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2400" y="317520"/>
            <a:ext cx="8102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Center Employee Schedul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7760" y="1371240"/>
            <a:ext cx="742968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ay is divided into 6 periods, 4 hours eac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mand/period = {15, 10, 40, 70, 40, 35}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rkforce consists of full-timers (FT) and part-timers (P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T = 8-hour shift, $121.6/ shif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T = 4-hr shift, $51.8/shif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ne PT =  5/6 F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any period, at least 2/3 of the staff must be FT employees (this is a headcount constrai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Proble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Find minimum cost workfo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52560" y="1397160"/>
            <a:ext cx="77724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5040" indent="-622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# of full-time employees that begin the day at the start of interva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work for 8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50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# of part-time employees that are assigned interval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12400" y="146052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800" y="3111480"/>
            <a:ext cx="125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2480" y="3111480"/>
            <a:ext cx="1117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21.6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6240" y="3111480"/>
            <a:ext cx="33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8640" y="30909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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9280" y="3143160"/>
            <a:ext cx="10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2840" y="3111480"/>
            <a:ext cx="42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60040" y="3111480"/>
            <a:ext cx="1520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 +  51.8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7720" y="3111480"/>
            <a:ext cx="25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6560" y="3090960"/>
            <a:ext cx="29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66840" y="3143160"/>
            <a:ext cx="10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10840" y="3111480"/>
            <a:ext cx="508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6560" y="3809880"/>
            <a:ext cx="4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6800" y="3809880"/>
            <a:ext cx="829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9680" y="3809880"/>
            <a:ext cx="33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54080" y="36399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1480" y="3967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6800" y="3949560"/>
            <a:ext cx="189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4080" y="380988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3809880"/>
            <a:ext cx="372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9960" y="378288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77920" y="380988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3800" y="4495680"/>
            <a:ext cx="249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2320" y="4495680"/>
            <a:ext cx="581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495680"/>
            <a:ext cx="33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54080" y="43243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54080" y="4651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32120" y="4648320"/>
            <a:ext cx="189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6680" y="449568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68360" y="4495680"/>
            <a:ext cx="2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2920" y="446724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0880" y="449568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67320" y="4784760"/>
            <a:ext cx="8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60480" y="4884840"/>
            <a:ext cx="1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0480" y="4962600"/>
            <a:ext cx="1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3800" y="5376960"/>
            <a:ext cx="249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2320" y="5376960"/>
            <a:ext cx="581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92640" y="5376960"/>
            <a:ext cx="33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54080" y="5205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7040" y="5570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32120" y="5524560"/>
            <a:ext cx="25704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6680" y="537696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8360" y="5376960"/>
            <a:ext cx="2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37696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28880" y="534816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6840" y="537696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38560" y="4081320"/>
            <a:ext cx="1151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6280" y="4094280"/>
            <a:ext cx="1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080" y="3924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18080" y="4251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3400" y="4235400"/>
            <a:ext cx="189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10680" y="409428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0120" y="4094280"/>
            <a:ext cx="340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0440" y="4094280"/>
            <a:ext cx="581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43600" y="41274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46200" y="4094280"/>
            <a:ext cx="5875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47160" y="4357800"/>
            <a:ext cx="8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47160" y="4446720"/>
            <a:ext cx="8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47160" y="4549680"/>
            <a:ext cx="8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4975200"/>
            <a:ext cx="249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2160" y="4975200"/>
            <a:ext cx="581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1640" y="494676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6280" y="4975200"/>
            <a:ext cx="1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18080" y="48038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8080" y="5130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13400" y="5114880"/>
            <a:ext cx="189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10680" y="49752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20120" y="4975200"/>
            <a:ext cx="340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20440" y="4975200"/>
            <a:ext cx="581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43600" y="50068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51600" y="4975200"/>
            <a:ext cx="666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8560" y="6058080"/>
            <a:ext cx="3719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0,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2,…,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" y="896760"/>
            <a:ext cx="266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23652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all Center Employee IP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6280" y="1112760"/>
            <a:ext cx="592452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 7.06,  0,  40,  12.94,  27.06,  7.94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= ( 0,  3.53,   0,  20.47,   0,  0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2,795.2   </a:t>
            </a:r>
            <a:r>
              <a:rPr b="0" lang="en-US" sz="2800" spc="-1" strike="noStrike">
                <a:solidFill>
                  <a:srgbClr val="00ffff"/>
                </a:solidFill>
                <a:latin typeface="Bookman Old Style"/>
              </a:rPr>
              <a:t>Not feasible to IP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200" y="2941560"/>
            <a:ext cx="698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correction method: round continuous sol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22920" y="3551400"/>
            <a:ext cx="63727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 8,  0,  40,  13,  27,  8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 0,  3,  0,  21,  0,  0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2,91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easible –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Ye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  Optimal?  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We do not know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2680" y="4581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3440" y="2206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Optimal LP so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8880" y="1054080"/>
            <a:ext cx="12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6760" y="995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2960" y="1219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ookman Old Style"/>
              </a:rPr>
              <a:t>LP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88240" y="1066680"/>
            <a:ext cx="6195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2,795.2 is a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lower bound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on integer optim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Hence, the rounded solution is no more th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438280"/>
            <a:ext cx="12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7760" y="2362320"/>
            <a:ext cx="2506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2,916.8 – 12,795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85680" y="2695680"/>
            <a:ext cx="111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2,795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3920" y="2681280"/>
            <a:ext cx="282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8120" y="25527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8280" y="2425680"/>
            <a:ext cx="2294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100% = 0.95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200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om the opti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3733920"/>
            <a:ext cx="8267760" cy="2867400"/>
            <a:chOff x="609480" y="3733920"/>
            <a:chExt cx="8267760" cy="2867400"/>
          </a:xfrm>
        </p:grpSpPr>
        <p:sp>
          <p:nvSpPr>
            <p:cNvPr id="163" name=""/>
            <p:cNvSpPr/>
            <p:nvPr/>
          </p:nvSpPr>
          <p:spPr>
            <a:xfrm>
              <a:off x="1392120" y="4343400"/>
              <a:ext cx="379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( 10,  0,  40,  20,  20,  5 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97880" y="4800600"/>
              <a:ext cx="369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y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( 10,  0,  0,  12,   0,  12 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67280" y="4356000"/>
              <a:ext cx="2286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z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P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= 12,795.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1280" y="50688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37339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Optimal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solution i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410080"/>
              <a:ext cx="819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Here the optimal LP and IP objective functions have the same val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This is </a:t>
              </a:r>
              <a:r>
                <a:rPr b="0" lang="en-US" sz="2400" spc="-1" strike="noStrike">
                  <a:solidFill>
                    <a:srgbClr val="00ffff"/>
                  </a:solidFill>
                  <a:latin typeface="Bookman Old Style"/>
                </a:rPr>
                <a:t>not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commonly tr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29280" y="4284720"/>
              <a:ext cx="17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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2320" y="23652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How good is this solution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52280"/>
            <a:ext cx="69343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ometimes there is no “obvious” feasible solution that can be obtained by roun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2960" y="5257800"/>
            <a:ext cx="7481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IP solution can be “far” from the LP rounded sol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ve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when the rounded solution is feasib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7400" y="1371600"/>
            <a:ext cx="5187960" cy="3657600"/>
            <a:chOff x="2057400" y="1371600"/>
            <a:chExt cx="5187960" cy="3657600"/>
          </a:xfrm>
        </p:grpSpPr>
        <p:sp>
          <p:nvSpPr>
            <p:cNvPr id="174" name=""/>
            <p:cNvSpPr/>
            <p:nvPr/>
          </p:nvSpPr>
          <p:spPr>
            <a:xfrm>
              <a:off x="3168720" y="2282760"/>
              <a:ext cx="322200" cy="2556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68720" y="3759120"/>
              <a:ext cx="322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8720" y="2774880"/>
              <a:ext cx="322200" cy="2556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0040" y="2282760"/>
              <a:ext cx="322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0040" y="3759120"/>
              <a:ext cx="322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40040" y="3267000"/>
              <a:ext cx="322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0040" y="2774880"/>
              <a:ext cx="322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886280" y="2282760"/>
              <a:ext cx="322200" cy="1731600"/>
              <a:chOff x="4886280" y="2282760"/>
              <a:chExt cx="322200" cy="1731600"/>
            </a:xfrm>
          </p:grpSpPr>
          <p:sp>
            <p:nvSpPr>
              <p:cNvPr id="182" name=""/>
              <p:cNvSpPr/>
              <p:nvPr/>
            </p:nvSpPr>
            <p:spPr>
              <a:xfrm>
                <a:off x="4886280" y="2282760"/>
                <a:ext cx="3222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86280" y="3758400"/>
                <a:ext cx="3222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86280" y="3266640"/>
                <a:ext cx="3222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86280" y="2774520"/>
                <a:ext cx="32220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313160" y="2282760"/>
              <a:ext cx="550800" cy="1830600"/>
              <a:chOff x="4313160" y="2282760"/>
              <a:chExt cx="550800" cy="1830600"/>
            </a:xfrm>
          </p:grpSpPr>
          <p:sp>
            <p:nvSpPr>
              <p:cNvPr id="187" name=""/>
              <p:cNvSpPr/>
              <p:nvPr/>
            </p:nvSpPr>
            <p:spPr>
              <a:xfrm>
                <a:off x="4313160" y="2282760"/>
                <a:ext cx="55080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13160" y="3758760"/>
                <a:ext cx="55080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13160" y="3266640"/>
                <a:ext cx="55080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3160" y="2774520"/>
                <a:ext cx="55080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95600" y="2282760"/>
              <a:ext cx="322200" cy="1731600"/>
              <a:chOff x="2595600" y="2282760"/>
              <a:chExt cx="322200" cy="1731600"/>
            </a:xfrm>
          </p:grpSpPr>
          <p:sp>
            <p:nvSpPr>
              <p:cNvPr id="192" name=""/>
              <p:cNvSpPr/>
              <p:nvPr/>
            </p:nvSpPr>
            <p:spPr>
              <a:xfrm>
                <a:off x="2595600" y="2282760"/>
                <a:ext cx="322200" cy="25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95600" y="3758400"/>
                <a:ext cx="322200" cy="25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95600" y="3266640"/>
                <a:ext cx="322200" cy="25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95600" y="2774520"/>
                <a:ext cx="322200" cy="2559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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H="1" flipV="1">
              <a:off x="2900160" y="1771200"/>
              <a:ext cx="1533240" cy="20970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75160" y="2693880"/>
              <a:ext cx="192240" cy="174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22680" y="2769840"/>
              <a:ext cx="1854000" cy="113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09720" y="3144600"/>
              <a:ext cx="430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139920" y="2765160"/>
              <a:ext cx="1443240" cy="36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4280" y="2514600"/>
              <a:ext cx="25210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timal LP solu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51360" y="3781440"/>
              <a:ext cx="5367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70200" y="1371600"/>
              <a:ext cx="536400" cy="26676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43434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tim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P solu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280" y="4114800"/>
              <a:ext cx="161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so-cost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2680" y="1454040"/>
              <a:ext cx="0" cy="244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56120" y="3267000"/>
              <a:ext cx="322200" cy="2556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84560" y="3311640"/>
              <a:ext cx="190440" cy="172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6720" y="2641680"/>
              <a:ext cx="298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3840" y="39243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90920" y="3781440"/>
              <a:ext cx="404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514600" y="3505320"/>
              <a:ext cx="6858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114800" y="3581280"/>
              <a:ext cx="7632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2:36:34Z</dcterms:created>
  <dc:creator>Administrator</dc:creator>
  <dc:description/>
  <dc:language>en-US</dc:language>
  <cp:lastModifiedBy>Jonathan Bard</cp:lastModifiedBy>
  <cp:lastPrinted>2000-02-09T23:41:54Z</cp:lastPrinted>
  <dcterms:modified xsi:type="dcterms:W3CDTF">2009-10-09T14:45:49Z</dcterms:modified>
  <cp:revision>159</cp:revision>
  <dc:subject/>
  <dc:title>No Slide Title</dc:title>
</cp:coreProperties>
</file>