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B08-C4A7-4DB7-905B-672497D8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8B8-8510-4E1D-837B-93994386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DBE-9532-4250-BE70-22ADFF2E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75A-C433-4DD2-984C-F28FA588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134-8639-483F-912C-44031835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1AF-C02C-48D8-A0D2-E9E99F04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A4B-4E56-4429-893F-53FD05B7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E0C-70A1-4DA3-9020-3E085833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128-716D-44C6-9E22-33BE3566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8C0-45B1-423D-B447-136C3E66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625-3713-4B7B-B5A2-A20C661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E21-AA1D-47CC-8074-775A386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1E39-7A7C-4D5B-BCC0-D79663A02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9760" y="304560"/>
            <a:ext cx="84582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8 – Nonlinear Programming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form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vs. global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xity and convex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905120" y="1511280"/>
          <a:ext cx="4800600" cy="47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11280"/>
                    <a:ext cx="480060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03040"/>
            <a:ext cx="7772400" cy="9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Constrained Function with Unique Global Maximum and Unique Global Minimu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5240" y="1054080"/>
            <a:ext cx="868680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0" indent="-228600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onvex fun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draw a straight line between any two points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the line will be above or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0" indent="-2286000">
              <a:spcBef>
                <a:spcPts val="1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ncave function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is convex than 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is concav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8480" y="5702400"/>
            <a:ext cx="57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ar functions are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o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vex and conca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9160" y="16524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vex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5400" y="2730240"/>
            <a:ext cx="6660360" cy="2626920"/>
            <a:chOff x="545400" y="2730240"/>
            <a:chExt cx="6660360" cy="2626920"/>
          </a:xfrm>
        </p:grpSpPr>
        <p:sp>
          <p:nvSpPr>
            <p:cNvPr id="165" name=""/>
            <p:cNvSpPr/>
            <p:nvPr/>
          </p:nvSpPr>
          <p:spPr>
            <a:xfrm>
              <a:off x="1029960" y="3927600"/>
              <a:ext cx="805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600" spc="-1" strike="noStrike" baseline="30000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70440" y="4340160"/>
              <a:ext cx="408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6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33640" y="4344840"/>
              <a:ext cx="7887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12480" y="4114800"/>
              <a:ext cx="1607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≥</a:t>
              </a: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0 for all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Times New Roman"/>
                </a:rPr>
                <a:t> x</a:t>
              </a: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400" y="3022560"/>
              <a:ext cx="31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nvexity condition f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nivariat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919760" y="2730240"/>
              <a:ext cx="12600" cy="222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06800" y="4952880"/>
              <a:ext cx="2298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452920" y="3517920"/>
              <a:ext cx="1054080" cy="1193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33880" y="3378240"/>
              <a:ext cx="1498680" cy="1328760"/>
            </a:xfrm>
            <a:custGeom>
              <a:avLst/>
              <a:gdLst/>
              <a:ahLst/>
              <a:rect l="l" t="t" r="r" b="b"/>
              <a:pathLst>
                <a:path w="2360" h="2093">
                  <a:moveTo>
                    <a:pt x="0" y="1420"/>
                  </a:moveTo>
                  <a:cubicBezTo>
                    <a:pt x="35" y="1491"/>
                    <a:pt x="70" y="1563"/>
                    <a:pt x="120" y="1640"/>
                  </a:cubicBezTo>
                  <a:cubicBezTo>
                    <a:pt x="169" y="1716"/>
                    <a:pt x="223" y="1810"/>
                    <a:pt x="300" y="1880"/>
                  </a:cubicBezTo>
                  <a:cubicBezTo>
                    <a:pt x="376" y="1949"/>
                    <a:pt x="496" y="2026"/>
                    <a:pt x="580" y="2060"/>
                  </a:cubicBezTo>
                  <a:cubicBezTo>
                    <a:pt x="663" y="2093"/>
                    <a:pt x="716" y="2093"/>
                    <a:pt x="800" y="2080"/>
                  </a:cubicBezTo>
                  <a:cubicBezTo>
                    <a:pt x="883" y="2066"/>
                    <a:pt x="976" y="2029"/>
                    <a:pt x="1080" y="1980"/>
                  </a:cubicBezTo>
                  <a:cubicBezTo>
                    <a:pt x="1183" y="1930"/>
                    <a:pt x="1323" y="1843"/>
                    <a:pt x="1420" y="1780"/>
                  </a:cubicBezTo>
                  <a:cubicBezTo>
                    <a:pt x="1516" y="1716"/>
                    <a:pt x="1579" y="1666"/>
                    <a:pt x="1660" y="1600"/>
                  </a:cubicBezTo>
                  <a:cubicBezTo>
                    <a:pt x="1740" y="1533"/>
                    <a:pt x="1826" y="1483"/>
                    <a:pt x="1900" y="1380"/>
                  </a:cubicBezTo>
                  <a:cubicBezTo>
                    <a:pt x="1973" y="1276"/>
                    <a:pt x="2043" y="1113"/>
                    <a:pt x="2100" y="980"/>
                  </a:cubicBezTo>
                  <a:cubicBezTo>
                    <a:pt x="2156" y="846"/>
                    <a:pt x="2203" y="699"/>
                    <a:pt x="2240" y="580"/>
                  </a:cubicBezTo>
                  <a:cubicBezTo>
                    <a:pt x="2276" y="460"/>
                    <a:pt x="2300" y="356"/>
                    <a:pt x="2320" y="260"/>
                  </a:cubicBezTo>
                  <a:cubicBezTo>
                    <a:pt x="2340" y="163"/>
                    <a:pt x="2350" y="81"/>
                    <a:pt x="236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4903920"/>
              <a:ext cx="53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75240" y="4916520"/>
              <a:ext cx="53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60840" y="4724280"/>
              <a:ext cx="0" cy="216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15280" y="3543480"/>
              <a:ext cx="0" cy="13842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8720" y="279072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efinition of Convex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853920"/>
            <a:ext cx="81662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37160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 two points (vectors)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</a:t>
            </a:r>
            <a:r>
              <a:rPr b="0" i="1" lang="en-US" sz="2400" spc="-1" strike="noStrike" baseline="4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A functi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s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nve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and only 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37160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(1–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≤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+ (1–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ll 0 &l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1.  It is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trictly conve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the inequality sign  ≤  is replaced with the sign  &lt;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40560" y="4292640"/>
            <a:ext cx="240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-dimensional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66720" y="3268800"/>
          <a:ext cx="482436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3268800"/>
                    <a:ext cx="482436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289320" y="1828800"/>
            <a:ext cx="2298600" cy="2463840"/>
            <a:chOff x="3289320" y="1828800"/>
            <a:chExt cx="2298600" cy="2463840"/>
          </a:xfrm>
        </p:grpSpPr>
        <p:sp>
          <p:nvSpPr>
            <p:cNvPr id="185" name=""/>
            <p:cNvSpPr/>
            <p:nvPr/>
          </p:nvSpPr>
          <p:spPr>
            <a:xfrm flipV="1">
              <a:off x="3289320" y="1828800"/>
              <a:ext cx="0" cy="246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89320" y="4292640"/>
              <a:ext cx="229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79760" y="2146320"/>
            <a:ext cx="1676520" cy="1917720"/>
          </a:xfrm>
          <a:custGeom>
            <a:avLst/>
            <a:gdLst/>
            <a:ahLst/>
            <a:rect l="l" t="t" r="r" b="b"/>
            <a:pathLst>
              <a:path w="2640" h="3020">
                <a:moveTo>
                  <a:pt x="0" y="3020"/>
                </a:moveTo>
                <a:cubicBezTo>
                  <a:pt x="19" y="2809"/>
                  <a:pt x="32" y="2582"/>
                  <a:pt x="100" y="2380"/>
                </a:cubicBezTo>
                <a:cubicBezTo>
                  <a:pt x="124" y="2206"/>
                  <a:pt x="141" y="2031"/>
                  <a:pt x="180" y="1860"/>
                </a:cubicBezTo>
                <a:cubicBezTo>
                  <a:pt x="189" y="1818"/>
                  <a:pt x="223" y="1684"/>
                  <a:pt x="240" y="1660"/>
                </a:cubicBezTo>
                <a:cubicBezTo>
                  <a:pt x="287" y="1588"/>
                  <a:pt x="336" y="1553"/>
                  <a:pt x="400" y="1500"/>
                </a:cubicBezTo>
                <a:cubicBezTo>
                  <a:pt x="421" y="1481"/>
                  <a:pt x="435" y="1453"/>
                  <a:pt x="460" y="1440"/>
                </a:cubicBezTo>
                <a:cubicBezTo>
                  <a:pt x="496" y="1419"/>
                  <a:pt x="580" y="1400"/>
                  <a:pt x="580" y="1400"/>
                </a:cubicBezTo>
                <a:cubicBezTo>
                  <a:pt x="641" y="1408"/>
                  <a:pt x="733" y="1401"/>
                  <a:pt x="780" y="1460"/>
                </a:cubicBezTo>
                <a:cubicBezTo>
                  <a:pt x="793" y="1476"/>
                  <a:pt x="789" y="1501"/>
                  <a:pt x="800" y="1520"/>
                </a:cubicBezTo>
                <a:cubicBezTo>
                  <a:pt x="823" y="1562"/>
                  <a:pt x="864" y="1594"/>
                  <a:pt x="880" y="1640"/>
                </a:cubicBezTo>
                <a:cubicBezTo>
                  <a:pt x="886" y="1660"/>
                  <a:pt x="888" y="1682"/>
                  <a:pt x="900" y="1700"/>
                </a:cubicBezTo>
                <a:cubicBezTo>
                  <a:pt x="915" y="1723"/>
                  <a:pt x="941" y="1738"/>
                  <a:pt x="960" y="1760"/>
                </a:cubicBezTo>
                <a:cubicBezTo>
                  <a:pt x="1099" y="1927"/>
                  <a:pt x="884" y="1704"/>
                  <a:pt x="1060" y="1880"/>
                </a:cubicBezTo>
                <a:cubicBezTo>
                  <a:pt x="1147" y="1867"/>
                  <a:pt x="1302" y="1851"/>
                  <a:pt x="1380" y="1800"/>
                </a:cubicBezTo>
                <a:cubicBezTo>
                  <a:pt x="1400" y="1786"/>
                  <a:pt x="1418" y="1770"/>
                  <a:pt x="1440" y="1760"/>
                </a:cubicBezTo>
                <a:cubicBezTo>
                  <a:pt x="1530" y="1714"/>
                  <a:pt x="1474" y="1771"/>
                  <a:pt x="1560" y="1700"/>
                </a:cubicBezTo>
                <a:cubicBezTo>
                  <a:pt x="1581" y="1681"/>
                  <a:pt x="1598" y="1658"/>
                  <a:pt x="1620" y="1640"/>
                </a:cubicBezTo>
                <a:cubicBezTo>
                  <a:pt x="1746" y="1534"/>
                  <a:pt x="1630" y="1696"/>
                  <a:pt x="1820" y="1460"/>
                </a:cubicBezTo>
                <a:cubicBezTo>
                  <a:pt x="1846" y="1426"/>
                  <a:pt x="1876" y="1395"/>
                  <a:pt x="1900" y="1360"/>
                </a:cubicBezTo>
                <a:cubicBezTo>
                  <a:pt x="1916" y="1335"/>
                  <a:pt x="1922" y="1303"/>
                  <a:pt x="1940" y="1280"/>
                </a:cubicBezTo>
                <a:cubicBezTo>
                  <a:pt x="2024" y="1167"/>
                  <a:pt x="2014" y="1237"/>
                  <a:pt x="2080" y="1120"/>
                </a:cubicBezTo>
                <a:cubicBezTo>
                  <a:pt x="2097" y="1088"/>
                  <a:pt x="2105" y="1052"/>
                  <a:pt x="2120" y="1020"/>
                </a:cubicBezTo>
                <a:cubicBezTo>
                  <a:pt x="2162" y="924"/>
                  <a:pt x="2163" y="940"/>
                  <a:pt x="2220" y="840"/>
                </a:cubicBezTo>
                <a:cubicBezTo>
                  <a:pt x="2265" y="758"/>
                  <a:pt x="2282" y="696"/>
                  <a:pt x="2340" y="620"/>
                </a:cubicBezTo>
                <a:cubicBezTo>
                  <a:pt x="2378" y="427"/>
                  <a:pt x="2327" y="605"/>
                  <a:pt x="2420" y="440"/>
                </a:cubicBezTo>
                <a:cubicBezTo>
                  <a:pt x="2437" y="408"/>
                  <a:pt x="2442" y="371"/>
                  <a:pt x="2460" y="340"/>
                </a:cubicBezTo>
                <a:cubicBezTo>
                  <a:pt x="2505" y="258"/>
                  <a:pt x="2522" y="274"/>
                  <a:pt x="2560" y="200"/>
                </a:cubicBezTo>
                <a:cubicBezTo>
                  <a:pt x="2592" y="134"/>
                  <a:pt x="2607" y="64"/>
                  <a:pt x="264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1600200"/>
            <a:ext cx="698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03480" y="4116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543480" y="2565000"/>
            <a:ext cx="142236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98400" y="45720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Nonconvex -- Nonconave Fun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41600" y="4243320"/>
            <a:ext cx="5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26160" y="4243320"/>
            <a:ext cx="5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68680" y="363204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65840" y="256536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940680" y="3297240"/>
            <a:ext cx="7065000" cy="2806560"/>
            <a:chOff x="940680" y="3297240"/>
            <a:chExt cx="7065000" cy="2806560"/>
          </a:xfrm>
        </p:grpSpPr>
        <p:sp>
          <p:nvSpPr>
            <p:cNvPr id="197" name=""/>
            <p:cNvSpPr/>
            <p:nvPr/>
          </p:nvSpPr>
          <p:spPr>
            <a:xfrm>
              <a:off x="4906440" y="34178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0560" y="33973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91120" y="34178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4240" y="3676680"/>
              <a:ext cx="19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61960" y="3751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33240" y="36576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49920" y="3627360"/>
              <a:ext cx="352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07400" y="35434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5600" y="34178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39720" y="33973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11720" y="34178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70080" y="3638520"/>
              <a:ext cx="19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76360" y="3713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49440" y="3638520"/>
              <a:ext cx="19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58960" y="3713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65760" y="3627360"/>
              <a:ext cx="561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000" y="3543480"/>
              <a:ext cx="23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8520" y="354348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13120" y="34178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7240" y="33973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7800" y="34178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59040" y="3638520"/>
              <a:ext cx="19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d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62080" y="3713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35520" y="3638520"/>
              <a:ext cx="19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43240" y="3713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50040" y="3627360"/>
              <a:ext cx="5666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1200" y="44053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25320" y="4386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95880" y="440532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54240" y="4626000"/>
              <a:ext cx="19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61960" y="47005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35040" y="4626000"/>
              <a:ext cx="19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4560" y="47005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49920" y="4616280"/>
              <a:ext cx="5634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13000" y="556416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27120" y="55436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97320" y="556416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4240" y="5784840"/>
              <a:ext cx="19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61960" y="58593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40080" y="5784840"/>
              <a:ext cx="19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47800" y="58593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49920" y="5773680"/>
              <a:ext cx="568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52160" y="568944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  . 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58960" y="5689440"/>
              <a:ext cx="18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21040" y="556416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35160" y="55436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07160" y="556416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67400" y="5823000"/>
              <a:ext cx="19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6560" y="58975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51080" y="58039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62720" y="5773680"/>
              <a:ext cx="3589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40680" y="3505320"/>
              <a:ext cx="33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Bookman Old Style"/>
                </a:rPr>
                <a:t>Hessian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of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at </a:t>
              </a: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x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:  </a:t>
              </a:r>
              <a:r>
                <a:rPr b="0" lang="en-US" sz="20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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18520" y="4448160"/>
              <a:ext cx="3715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5000" y="437508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5000" y="450216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5000" y="46274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67360" y="4387680"/>
              <a:ext cx="725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64200" y="431316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80400" y="4440240"/>
              <a:ext cx="18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7680" y="4568760"/>
              <a:ext cx="32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91040" y="4946760"/>
              <a:ext cx="3301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6080" y="487368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86080" y="500076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86080" y="51260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Bookman Old Style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640400" y="3297240"/>
              <a:ext cx="228600" cy="2801880"/>
              <a:chOff x="4640400" y="3297240"/>
              <a:chExt cx="228600" cy="280188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4651560" y="3297240"/>
                <a:ext cx="2174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51560" y="3297240"/>
                <a:ext cx="1440" cy="2801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640400" y="6089400"/>
                <a:ext cx="2188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777080" y="3303720"/>
              <a:ext cx="228600" cy="2800080"/>
              <a:chOff x="7777080" y="3303720"/>
              <a:chExt cx="228600" cy="2800080"/>
            </a:xfrm>
          </p:grpSpPr>
          <p:sp>
            <p:nvSpPr>
              <p:cNvPr id="266" name=""/>
              <p:cNvSpPr/>
              <p:nvPr/>
            </p:nvSpPr>
            <p:spPr>
              <a:xfrm>
                <a:off x="7777080" y="3303720"/>
                <a:ext cx="220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997760" y="3303720"/>
                <a:ext cx="1440" cy="2800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88240" y="6095880"/>
                <a:ext cx="2174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762120" y="1168560"/>
            <a:ext cx="798804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 positively weighted sum of convex functions is convex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is convex for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0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en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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k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is convex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2273400"/>
            <a:ext cx="38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ookman Old Style"/>
              </a:rPr>
              <a:t>k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52280"/>
            <a:ext cx="742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8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Theoretical Result for Convex Fun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5480" y="4317840"/>
            <a:ext cx="27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Used to determine convex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63200" y="-360"/>
            <a:ext cx="5613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etermining Convex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914400"/>
            <a:ext cx="773424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One-Dimensional Function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unction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 baseline="46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convex if and only if it is underestimated by linear extrapolation; i.e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≥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+ (d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/d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for all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4600" y="4572000"/>
            <a:ext cx="822960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 function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 baseline="46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s convex if and only if its second derivative is nonnegative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lang="en-US" sz="2000" spc="-1" strike="noStrike" baseline="46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/d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0 for all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f the inequality is strict (&gt;), then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is strictly convex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895480" y="2298600"/>
            <a:ext cx="2590560" cy="2110680"/>
            <a:chOff x="2895480" y="2298600"/>
            <a:chExt cx="2590560" cy="2110680"/>
          </a:xfrm>
        </p:grpSpPr>
        <p:sp>
          <p:nvSpPr>
            <p:cNvPr id="278" name=""/>
            <p:cNvSpPr/>
            <p:nvPr/>
          </p:nvSpPr>
          <p:spPr>
            <a:xfrm flipV="1">
              <a:off x="3454200" y="3035160"/>
              <a:ext cx="0" cy="100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66800" y="4038480"/>
              <a:ext cx="2019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061080" y="2298240"/>
              <a:ext cx="1675440" cy="144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28920" y="3695400"/>
              <a:ext cx="0" cy="3427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698720" y="325080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860640" y="3339360"/>
              <a:ext cx="1346040" cy="49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00320" y="4038480"/>
              <a:ext cx="109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          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95480" y="3073320"/>
              <a:ext cx="58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8680" y="1141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Multiple Dimensional Fun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816200"/>
            <a:ext cx="69724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ssian matri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ssociated wit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s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ymmetric matrix of second partial derivatives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ith respect to the components o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90720" y="4762440"/>
            <a:ext cx="6438960" cy="1698480"/>
            <a:chOff x="990720" y="4762440"/>
            <a:chExt cx="6438960" cy="1698480"/>
          </a:xfrm>
        </p:grpSpPr>
        <p:sp>
          <p:nvSpPr>
            <p:cNvPr id="289" name=""/>
            <p:cNvSpPr/>
            <p:nvPr/>
          </p:nvSpPr>
          <p:spPr>
            <a:xfrm>
              <a:off x="990720" y="4762440"/>
              <a:ext cx="599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xampl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: 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3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+ 4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– 5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+ 4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670400" y="5575320"/>
                  <a:ext cx="575928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   and  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1" name=""/>
          <p:cNvSpPr/>
          <p:nvPr/>
        </p:nvSpPr>
        <p:spPr>
          <a:xfrm>
            <a:off x="952560" y="3416400"/>
            <a:ext cx="6870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s quadratic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has only constant terms; 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s linear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does not exist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27000" y="939960"/>
            <a:ext cx="79120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nvex if only i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≥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 baseline="44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for all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28520" y="190080"/>
            <a:ext cx="67179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Properties of the Hessia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360" y="2413080"/>
            <a:ext cx="815328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positive defini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f and only if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44000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 for all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positive semi-defini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f and only if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44000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 for all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there exists and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 such that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44000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indefini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f and only if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44000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 for some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and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44000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 for some other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600" y="1295280"/>
            <a:ext cx="77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ow can we use Hessian to determine whether or no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convex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6000" y="216000"/>
            <a:ext cx="8928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Multiple Dimensional Functions and Convex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231920"/>
            <a:ext cx="8089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strictly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nvex (or just convex) if its associated Hessian matrix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is positive definite (semi-definite) for all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s neither convex nor concave if its associated Hessian matrix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is indefini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8280" y="3733920"/>
            <a:ext cx="812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terms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negative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definite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negative-semi- definite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re also appropriate for the Hessian and provide symmetric results for concave functions.  Recall that a functio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is concave if –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 is convex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26640" y="0"/>
            <a:ext cx="7061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esting for Definitene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27080" y="3111480"/>
            <a:ext cx="8762760" cy="3116160"/>
            <a:chOff x="127080" y="3111480"/>
            <a:chExt cx="8762760" cy="3116160"/>
          </a:xfrm>
        </p:grpSpPr>
        <p:sp>
          <p:nvSpPr>
            <p:cNvPr id="301" name=""/>
            <p:cNvSpPr/>
            <p:nvPr/>
          </p:nvSpPr>
          <p:spPr>
            <a:xfrm>
              <a:off x="127080" y="3111480"/>
              <a:ext cx="8762760" cy="20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Bookman Old Style"/>
                </a:rPr>
                <a:t>Definition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: Th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th leading principal submatrix of </a:t>
              </a: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H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is the matrix formed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taking the intersection of its firs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rows and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columns.  Le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  <a:ea typeface="Times New Roman"/>
                </a:rPr>
                <a:t> be the value of the corresponding determinant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1359000" y="5397480"/>
                  <a:ext cx="607212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, 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 ,  and so on until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is obtained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3" name=""/>
          <p:cNvSpPr/>
          <p:nvPr/>
        </p:nvSpPr>
        <p:spPr>
          <a:xfrm>
            <a:off x="469800" y="1816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essi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851200" y="927000"/>
                <a:ext cx="244152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245200" y="1803240"/>
            <a:ext cx="350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wher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49320" y="1719360"/>
            <a:ext cx="755316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n LP ... the objective function &amp; constraints are 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linear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nd the problems are “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easy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”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o sol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any real-world engineering and business problems have 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nonlinear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elements and are 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hard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to solv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Nonlinear Optimiz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01720" y="164880"/>
            <a:ext cx="556272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Rules for Definite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5240" y="1333440"/>
            <a:ext cx="862308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positive defini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f and only if the determinants of all the leading principal submatrices are positive; i.e.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&gt; 0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negative defini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if and only i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lt; 0 and the remaining leading principal determinants alternate in sig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0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lt; 0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&gt; 0,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7520" y="4915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Positive-semidefini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egative semi-definitenes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equire that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principal submatrices satisfy the above conditions for the particular c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45680" y="165240"/>
            <a:ext cx="63882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Quadratic Func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6120" y="1219320"/>
            <a:ext cx="56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ample 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3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3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981080" y="2082960"/>
                <a:ext cx="47563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and 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955880" y="3390840"/>
            <a:ext cx="57909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 an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2 – 9 =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clus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convex because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positive defin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79280" y="126720"/>
            <a:ext cx="6832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Quadratic Functions (cont’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2440" y="1181160"/>
            <a:ext cx="632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ample 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24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9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16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054160" y="1866960"/>
          <a:ext cx="524520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866960"/>
                    <a:ext cx="5245200" cy="88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762120" y="306072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8 an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576 – 576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5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us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s positive semi-definite (determinants of all submatrices are nonnegative) so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conv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4720" y="4673520"/>
            <a:ext cx="7920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te,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44000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2(3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4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. 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3, we get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44000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98400" y="241200"/>
            <a:ext cx="7454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Nonquadratic Func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03320" y="1168560"/>
            <a:ext cx="5245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(1 –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444760" y="1866960"/>
                <a:ext cx="3795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58720" y="3149640"/>
            <a:ext cx="808992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 the Hessian depends on the point under consider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1, 1)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is positive defin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0, 1)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is indefin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is not convex although it is strictly convex near (1, 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486160" y="3632040"/>
                <a:ext cx="21222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1,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24" name=""/>
          <p:cNvGraphicFramePr/>
          <p:nvPr/>
        </p:nvGraphicFramePr>
        <p:xfrm>
          <a:off x="2502000" y="4648320"/>
          <a:ext cx="20955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4648320"/>
                    <a:ext cx="2095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253800"/>
            <a:ext cx="8394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You Should Know About Nonlinear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35040" y="2031480"/>
            <a:ext cx="77724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develop models with nonlinear fun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finition of convex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 for positive and negative definit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identify a convex 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fference between a local and global sol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6094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680" y="1371600"/>
            <a:ext cx="21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6240" y="1981080"/>
            <a:ext cx="49834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t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g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=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1,…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7480" y="2832120"/>
            <a:ext cx="707832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dimensional vector of decision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the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re the constraint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ixed known cons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eneral NL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54040" y="1155600"/>
            <a:ext cx="135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Example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81760" y="1155600"/>
            <a:ext cx="1389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Max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49560" y="1155600"/>
            <a:ext cx="1081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2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1092240"/>
            <a:ext cx="15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1625760"/>
            <a:ext cx="5371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   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1,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0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unrestrict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1587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960" y="5727600"/>
            <a:ext cx="5941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Examples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 2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 and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3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 can be reformulated as LP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54040" y="2184480"/>
            <a:ext cx="5389920" cy="830880"/>
            <a:chOff x="554040" y="2184480"/>
            <a:chExt cx="5389920" cy="830880"/>
          </a:xfrm>
        </p:grpSpPr>
        <p:sp>
          <p:nvSpPr>
            <p:cNvPr id="58" name=""/>
            <p:cNvSpPr/>
            <p:nvPr/>
          </p:nvSpPr>
          <p:spPr>
            <a:xfrm>
              <a:off x="554040" y="2222640"/>
              <a:ext cx="135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9900"/>
                  </a:solidFill>
                  <a:latin typeface="Bookman Old Style"/>
                </a:rPr>
                <a:t>Example 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95800" y="2222640"/>
              <a:ext cx="1601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Max 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 =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4640" y="221472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Bookman Old Style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7080" y="2298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5800" y="221472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77240" y="2298600"/>
              <a:ext cx="115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r>
                <a:rPr b="0" lang="en-US" sz="13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09360" y="2222640"/>
              <a:ext cx="139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75680" y="221472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Bookman Old Style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58120" y="2298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65400" y="221472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6480" y="2298600"/>
              <a:ext cx="115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r>
                <a:rPr b="0" lang="en-US" sz="13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39000" y="218448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…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92440" y="23479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22320" y="2222640"/>
              <a:ext cx="139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88280" y="221472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Bookman Old Style"/>
                </a:rPr>
                <a:t>c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70000" y="22986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84480" y="221472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70160" y="22986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4520" y="2679840"/>
              <a:ext cx="235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s.t.   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Ax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b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, 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54040" y="3137040"/>
            <a:ext cx="8124120" cy="2669400"/>
            <a:chOff x="554040" y="3137040"/>
            <a:chExt cx="8124120" cy="2669400"/>
          </a:xfrm>
        </p:grpSpPr>
        <p:sp>
          <p:nvSpPr>
            <p:cNvPr id="78" name=""/>
            <p:cNvSpPr/>
            <p:nvPr/>
          </p:nvSpPr>
          <p:spPr>
            <a:xfrm>
              <a:off x="3407400" y="3137040"/>
              <a:ext cx="13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4040" y="3429000"/>
              <a:ext cx="135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9900"/>
                  </a:solidFill>
                  <a:latin typeface="Bookman Old Style"/>
                </a:rPr>
                <a:t>Example 3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50800" y="3429000"/>
              <a:ext cx="49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Mi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67440" y="338760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16680" y="37339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j </a:t>
              </a:r>
              <a:r>
                <a:rPr b="0" lang="en-US" sz="1800" spc="-1" strike="noStrike">
                  <a:solidFill>
                    <a:srgbClr val="ffffff"/>
                  </a:solidFill>
                  <a:latin typeface="Bookman Old Style"/>
                </a:rPr>
                <a:t>=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82440" y="3429000"/>
              <a:ext cx="7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73160" y="3429000"/>
              <a:ext cx="7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73520" y="3403440"/>
              <a:ext cx="8175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i="1" lang="en-US" sz="1000" spc="-1" strike="noStrike" baseline="-25000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04520" y="4114800"/>
              <a:ext cx="235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s.t.   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Ax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b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, 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0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42160" y="4800600"/>
              <a:ext cx="38890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where each 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2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i="1" lang="en-US" sz="1200" spc="-1" strike="noStrike" baseline="-25000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is of the form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07640" y="3581280"/>
              <a:ext cx="3170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Problems with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“</a:t>
              </a: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decreasing efficiencies”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985080" y="5486400"/>
              <a:ext cx="838080" cy="151920"/>
              <a:chOff x="6985080" y="5486400"/>
              <a:chExt cx="838080" cy="151920"/>
            </a:xfrm>
          </p:grpSpPr>
          <p:sp>
            <p:nvSpPr>
              <p:cNvPr id="90" name=""/>
              <p:cNvSpPr/>
              <p:nvPr/>
            </p:nvSpPr>
            <p:spPr>
              <a:xfrm>
                <a:off x="6985080" y="5559840"/>
                <a:ext cx="83808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723440" y="5486400"/>
                <a:ext cx="99720" cy="151920"/>
              </a:xfrm>
              <a:custGeom>
                <a:avLst/>
                <a:gdLst/>
                <a:ahLst/>
                <a:rect l="l" t="t" r="r" b="b"/>
                <a:pathLst>
                  <a:path w="125" h="125">
                    <a:moveTo>
                      <a:pt x="0" y="125"/>
                    </a:moveTo>
                    <a:lnTo>
                      <a:pt x="125" y="6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 flipV="1">
              <a:off x="7035840" y="5270040"/>
              <a:ext cx="571320" cy="19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594560" y="4952880"/>
              <a:ext cx="176400" cy="33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20960" y="4179960"/>
              <a:ext cx="534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75240" y="44956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r>
                <a:rPr b="0" i="1" lang="en-US" sz="16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16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16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16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23160" y="543564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16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985080" y="4724280"/>
              <a:ext cx="151920" cy="838080"/>
              <a:chOff x="6985080" y="4724280"/>
              <a:chExt cx="151920" cy="838080"/>
            </a:xfrm>
          </p:grpSpPr>
          <p:sp>
            <p:nvSpPr>
              <p:cNvPr id="98" name=""/>
              <p:cNvSpPr/>
              <p:nvPr/>
            </p:nvSpPr>
            <p:spPr>
              <a:xfrm flipH="1" flipV="1">
                <a:off x="7061400" y="4724280"/>
                <a:ext cx="216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 rot="16200000">
                <a:off x="7011000" y="4697640"/>
                <a:ext cx="99720" cy="151920"/>
              </a:xfrm>
              <a:custGeom>
                <a:avLst/>
                <a:gdLst/>
                <a:ahLst/>
                <a:rect l="l" t="t" r="r" b="b"/>
                <a:pathLst>
                  <a:path w="125" h="125">
                    <a:moveTo>
                      <a:pt x="0" y="125"/>
                    </a:moveTo>
                    <a:lnTo>
                      <a:pt x="125" y="6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1640" y="347760"/>
            <a:ext cx="77724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amples of NL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94040" y="17784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27280" y="1282680"/>
            <a:ext cx="25099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Max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4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0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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243160" y="2225520"/>
            <a:ext cx="0" cy="25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63680" y="4764240"/>
            <a:ext cx="325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63680" y="2550960"/>
            <a:ext cx="959040" cy="221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6040" y="4745160"/>
            <a:ext cx="396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66960" y="2301840"/>
            <a:ext cx="50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760" y="2398680"/>
            <a:ext cx="2073240" cy="2040120"/>
          </a:xfrm>
          <a:custGeom>
            <a:avLst/>
            <a:gdLst/>
            <a:ahLst/>
            <a:rect l="l" t="t" r="r" b="b"/>
            <a:pathLst>
              <a:path w="2827" h="2180">
                <a:moveTo>
                  <a:pt x="2827" y="2180"/>
                </a:moveTo>
                <a:cubicBezTo>
                  <a:pt x="2028" y="2171"/>
                  <a:pt x="1230" y="2163"/>
                  <a:pt x="807" y="2140"/>
                </a:cubicBezTo>
                <a:cubicBezTo>
                  <a:pt x="383" y="2116"/>
                  <a:pt x="413" y="2139"/>
                  <a:pt x="287" y="2040"/>
                </a:cubicBezTo>
                <a:cubicBezTo>
                  <a:pt x="160" y="1940"/>
                  <a:pt x="93" y="1736"/>
                  <a:pt x="47" y="1540"/>
                </a:cubicBezTo>
                <a:cubicBezTo>
                  <a:pt x="0" y="1343"/>
                  <a:pt x="13" y="1116"/>
                  <a:pt x="7" y="860"/>
                </a:cubicBezTo>
                <a:cubicBezTo>
                  <a:pt x="0" y="603"/>
                  <a:pt x="3" y="301"/>
                  <a:pt x="7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379600"/>
            <a:ext cx="2523960" cy="2217960"/>
          </a:xfrm>
          <a:custGeom>
            <a:avLst/>
            <a:gdLst/>
            <a:ahLst/>
            <a:rect l="l" t="t" r="r" b="b"/>
            <a:pathLst>
              <a:path w="3080" h="2346">
                <a:moveTo>
                  <a:pt x="3080" y="2340"/>
                </a:moveTo>
                <a:cubicBezTo>
                  <a:pt x="2173" y="2343"/>
                  <a:pt x="1266" y="2346"/>
                  <a:pt x="820" y="2320"/>
                </a:cubicBezTo>
                <a:cubicBezTo>
                  <a:pt x="373" y="2293"/>
                  <a:pt x="513" y="2243"/>
                  <a:pt x="400" y="2180"/>
                </a:cubicBezTo>
                <a:cubicBezTo>
                  <a:pt x="286" y="2116"/>
                  <a:pt x="199" y="2063"/>
                  <a:pt x="140" y="1940"/>
                </a:cubicBezTo>
                <a:cubicBezTo>
                  <a:pt x="80" y="1816"/>
                  <a:pt x="56" y="1576"/>
                  <a:pt x="40" y="1440"/>
                </a:cubicBezTo>
                <a:cubicBezTo>
                  <a:pt x="23" y="1303"/>
                  <a:pt x="43" y="1273"/>
                  <a:pt x="40" y="1120"/>
                </a:cubicBezTo>
                <a:cubicBezTo>
                  <a:pt x="36" y="966"/>
                  <a:pt x="26" y="706"/>
                  <a:pt x="20" y="520"/>
                </a:cubicBezTo>
                <a:cubicBezTo>
                  <a:pt x="13" y="333"/>
                  <a:pt x="6" y="166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305080" y="2970000"/>
            <a:ext cx="12528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05080" y="3217680"/>
            <a:ext cx="2300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4560" y="3485880"/>
            <a:ext cx="31248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305080" y="3714480"/>
            <a:ext cx="417600" cy="32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346480" y="4000320"/>
            <a:ext cx="460080" cy="32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346480" y="4266720"/>
            <a:ext cx="522000" cy="38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681280" y="4476240"/>
            <a:ext cx="312840" cy="24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07040" y="3797280"/>
            <a:ext cx="116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9720" y="4203720"/>
            <a:ext cx="1001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1880" y="4172040"/>
            <a:ext cx="230400" cy="20952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0" y="220"/>
                </a:moveTo>
                <a:cubicBezTo>
                  <a:pt x="6" y="200"/>
                  <a:pt x="6" y="176"/>
                  <a:pt x="20" y="160"/>
                </a:cubicBezTo>
                <a:cubicBezTo>
                  <a:pt x="58" y="112"/>
                  <a:pt x="91" y="124"/>
                  <a:pt x="140" y="100"/>
                </a:cubicBezTo>
                <a:cubicBezTo>
                  <a:pt x="161" y="89"/>
                  <a:pt x="180" y="73"/>
                  <a:pt x="200" y="60"/>
                </a:cubicBezTo>
                <a:cubicBezTo>
                  <a:pt x="206" y="40"/>
                  <a:pt x="220" y="0"/>
                  <a:pt x="22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21440" y="4491000"/>
            <a:ext cx="328320" cy="810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7" y="86"/>
                </a:moveTo>
                <a:cubicBezTo>
                  <a:pt x="264" y="0"/>
                  <a:pt x="0" y="82"/>
                  <a:pt x="227" y="26"/>
                </a:cubicBezTo>
                <a:cubicBezTo>
                  <a:pt x="315" y="3"/>
                  <a:pt x="258" y="6"/>
                  <a:pt x="307" y="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97560" y="1728720"/>
            <a:ext cx="3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7480" y="5486400"/>
            <a:ext cx="71244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Optimal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solution will lie on the line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) =  4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–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8 = 0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17000" y="4726080"/>
            <a:ext cx="3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NLP Graphical Solution Metho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1800" y="4178160"/>
            <a:ext cx="70992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olution is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not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a vertex of feasible region.  For this particular problem the solution is on the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boundary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of the feasible region.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is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lways the c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a more general case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with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.  (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this case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3640" y="1066680"/>
            <a:ext cx="711180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radient o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is gives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d   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4,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t optimality we hav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or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 an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6560" y="1900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 Characteristic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2286000" y="1574280"/>
            <a:ext cx="0" cy="185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3416400"/>
            <a:ext cx="4775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39880" y="14860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74000" y="3238560"/>
            <a:ext cx="317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77960" y="1778040"/>
            <a:ext cx="2854440" cy="812880"/>
          </a:xfrm>
          <a:custGeom>
            <a:avLst/>
            <a:gdLst/>
            <a:ahLst/>
            <a:rect l="l" t="t" r="r" b="b"/>
            <a:pathLst>
              <a:path w="4494" h="1280">
                <a:moveTo>
                  <a:pt x="34" y="980"/>
                </a:moveTo>
                <a:cubicBezTo>
                  <a:pt x="140" y="1139"/>
                  <a:pt x="0" y="946"/>
                  <a:pt x="134" y="1080"/>
                </a:cubicBezTo>
                <a:cubicBezTo>
                  <a:pt x="224" y="1170"/>
                  <a:pt x="117" y="1121"/>
                  <a:pt x="234" y="1160"/>
                </a:cubicBezTo>
                <a:cubicBezTo>
                  <a:pt x="294" y="1140"/>
                  <a:pt x="361" y="1135"/>
                  <a:pt x="414" y="1100"/>
                </a:cubicBezTo>
                <a:cubicBezTo>
                  <a:pt x="454" y="1073"/>
                  <a:pt x="534" y="1020"/>
                  <a:pt x="534" y="1020"/>
                </a:cubicBezTo>
                <a:cubicBezTo>
                  <a:pt x="676" y="805"/>
                  <a:pt x="454" y="1130"/>
                  <a:pt x="634" y="900"/>
                </a:cubicBezTo>
                <a:cubicBezTo>
                  <a:pt x="711" y="800"/>
                  <a:pt x="770" y="694"/>
                  <a:pt x="854" y="600"/>
                </a:cubicBezTo>
                <a:cubicBezTo>
                  <a:pt x="891" y="557"/>
                  <a:pt x="940" y="525"/>
                  <a:pt x="974" y="480"/>
                </a:cubicBezTo>
                <a:cubicBezTo>
                  <a:pt x="1040" y="391"/>
                  <a:pt x="1082" y="301"/>
                  <a:pt x="1174" y="240"/>
                </a:cubicBezTo>
                <a:cubicBezTo>
                  <a:pt x="1247" y="130"/>
                  <a:pt x="1174" y="223"/>
                  <a:pt x="1274" y="140"/>
                </a:cubicBezTo>
                <a:cubicBezTo>
                  <a:pt x="1339" y="85"/>
                  <a:pt x="1371" y="47"/>
                  <a:pt x="1454" y="20"/>
                </a:cubicBezTo>
                <a:cubicBezTo>
                  <a:pt x="1582" y="36"/>
                  <a:pt x="1634" y="33"/>
                  <a:pt x="1734" y="100"/>
                </a:cubicBezTo>
                <a:cubicBezTo>
                  <a:pt x="1756" y="133"/>
                  <a:pt x="1877" y="289"/>
                  <a:pt x="1894" y="340"/>
                </a:cubicBezTo>
                <a:cubicBezTo>
                  <a:pt x="1922" y="425"/>
                  <a:pt x="1969" y="502"/>
                  <a:pt x="2014" y="580"/>
                </a:cubicBezTo>
                <a:cubicBezTo>
                  <a:pt x="2049" y="642"/>
                  <a:pt x="2054" y="720"/>
                  <a:pt x="2094" y="780"/>
                </a:cubicBezTo>
                <a:cubicBezTo>
                  <a:pt x="2120" y="820"/>
                  <a:pt x="2147" y="860"/>
                  <a:pt x="2174" y="900"/>
                </a:cubicBezTo>
                <a:cubicBezTo>
                  <a:pt x="2239" y="998"/>
                  <a:pt x="2298" y="1125"/>
                  <a:pt x="2394" y="1200"/>
                </a:cubicBezTo>
                <a:cubicBezTo>
                  <a:pt x="2431" y="1229"/>
                  <a:pt x="2514" y="1280"/>
                  <a:pt x="2514" y="1280"/>
                </a:cubicBezTo>
                <a:cubicBezTo>
                  <a:pt x="2715" y="1251"/>
                  <a:pt x="2811" y="1222"/>
                  <a:pt x="2954" y="1080"/>
                </a:cubicBezTo>
                <a:cubicBezTo>
                  <a:pt x="2998" y="945"/>
                  <a:pt x="3055" y="838"/>
                  <a:pt x="3134" y="720"/>
                </a:cubicBezTo>
                <a:cubicBezTo>
                  <a:pt x="3158" y="682"/>
                  <a:pt x="3193" y="622"/>
                  <a:pt x="3234" y="600"/>
                </a:cubicBezTo>
                <a:cubicBezTo>
                  <a:pt x="3438" y="486"/>
                  <a:pt x="3725" y="509"/>
                  <a:pt x="3934" y="500"/>
                </a:cubicBezTo>
                <a:cubicBezTo>
                  <a:pt x="3954" y="493"/>
                  <a:pt x="3975" y="490"/>
                  <a:pt x="3994" y="480"/>
                </a:cubicBezTo>
                <a:cubicBezTo>
                  <a:pt x="4036" y="456"/>
                  <a:pt x="4114" y="400"/>
                  <a:pt x="4114" y="400"/>
                </a:cubicBezTo>
                <a:cubicBezTo>
                  <a:pt x="4171" y="227"/>
                  <a:pt x="4235" y="172"/>
                  <a:pt x="4374" y="80"/>
                </a:cubicBezTo>
                <a:cubicBezTo>
                  <a:pt x="4394" y="66"/>
                  <a:pt x="4414" y="53"/>
                  <a:pt x="4434" y="40"/>
                </a:cubicBezTo>
                <a:cubicBezTo>
                  <a:pt x="4454" y="26"/>
                  <a:pt x="4494" y="0"/>
                  <a:pt x="449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2000" y="2616120"/>
            <a:ext cx="685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63760" y="1092240"/>
            <a:ext cx="838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30800" y="1397160"/>
            <a:ext cx="99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tion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49560" y="2692440"/>
            <a:ext cx="685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21160" y="1930320"/>
            <a:ext cx="685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44840" y="1701720"/>
            <a:ext cx="228600" cy="228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79760" y="1727280"/>
            <a:ext cx="12708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26160" y="2031840"/>
            <a:ext cx="12672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2451240"/>
            <a:ext cx="127080" cy="12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65560" y="2514600"/>
            <a:ext cx="12708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880" y="1866960"/>
            <a:ext cx="12708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3640" y="3873600"/>
            <a:ext cx="73915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</a:t>
            </a:r>
            <a:r>
              <a:rPr b="0" i="1" lang="en-US" sz="2400" spc="-1" strike="noStrike" baseline="4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 the set of feasible solutions to an NL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global minimum is an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ch th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ll fea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t equal 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1267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Nonconvex Fun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028880" y="1079640"/>
          <a:ext cx="704520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079640"/>
                    <a:ext cx="704520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029200" y="51814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81400" y="5181480"/>
            <a:ext cx="8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1800" y="5168880"/>
            <a:ext cx="7581960" cy="16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t (1, 0)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=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+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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or             (0, 6) =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1, 0) +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0, 1), 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,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o 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0 and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9960" y="4497480"/>
            <a:ext cx="72752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 an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, what is the optimum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190440"/>
            <a:ext cx="8470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ction with Unique Global </a:t>
            </a: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Minim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a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(1, –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174840" y="1981080"/>
          <a:ext cx="3814920" cy="34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1981080"/>
                    <a:ext cx="381492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511360" y="1130400"/>
            <a:ext cx="441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n {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= sin(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: 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39880" y="5477040"/>
            <a:ext cx="8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5760" y="152280"/>
            <a:ext cx="8140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Function with Multiple Maxima and Mini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09:24Z</dcterms:created>
  <dc:creator>Administrator</dc:creator>
  <dc:description/>
  <dc:language>en-US</dc:language>
  <cp:lastModifiedBy>Jonathan Bard</cp:lastModifiedBy>
  <cp:lastPrinted>2000-02-17T17:34:58Z</cp:lastPrinted>
  <dcterms:modified xsi:type="dcterms:W3CDTF">2009-10-22T14:12:04Z</dcterms:modified>
  <cp:revision>171</cp:revision>
  <dc:subject/>
  <dc:title>No Slide Title</dc:title>
</cp:coreProperties>
</file>