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10.pct" ContentType="image/x-pict"/>
  <Override PartName="/ppt/media/image46.pct" ContentType="image/x-pict"/>
  <Override PartName="/ppt/media/image11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326-B0D8-466B-9E59-3B640D66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8F4-7490-453C-B775-C77EF604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2CE-939D-4EC6-9872-F8BDF825F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8959-6F66-4878-97C5-701961C4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044B-F42F-4132-BD8B-2BD10B4A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B9C-E234-4A5D-AB5D-5CF66B13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4833-C704-4119-9389-EEED5E1D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C94A-0CA3-44A0-A545-71DE539C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ED0-8C89-4CA2-AEBE-EE5E23941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4CA2-9CFF-40F8-A0D8-0927017D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AED8-D3C8-430D-9EDC-8613BE35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1DE-BD51-41F2-8006-7D33E0E2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16FE-487C-422C-8954-BC4774F9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D83-4A0A-4D1C-ACF9-1F3F0864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A8DF-2E31-4797-9D70-340B5CF2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1C4D-FE6F-4910-B64D-A346386D4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D66-3E91-4908-823B-12F6B80E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A3C-11DB-46F8-92AC-C5E0BD382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D66-2772-4E21-A706-37639EB5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3FCD-AD6A-4E36-9A9B-41D0240C5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D22C-6382-455F-9682-CBE37D67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DE52-A3FA-4BE6-8170-1A625D5E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418-3C6D-40BB-BE07-FD6BA4E7C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195-39B9-4981-8241-49A7450B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76B-DAE6-41A4-A94B-39E025B8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DFEA-273D-4B56-9B5D-A268EAE7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0AE-D89C-4D08-94FF-BFD4B6954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133-86DF-4755-B02A-3244F278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6833-283C-4A1C-9C8F-B5325C7E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233F-5D26-47F7-8EC1-699E44AC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9E0C-F350-45DE-8F84-5BF86F8B3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8327-BA62-47FB-8679-3E7A06627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C9B-298A-4A11-BCFC-70596F09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5319-F65F-4DDC-AF1D-4B5F2511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7A0-5E0F-4D4D-9B0A-FE60C5C3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36F-624F-437A-9389-E20269FC2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58F2-3716-46C8-BB2A-240B8445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34B1-367C-4E02-98B4-660A7D91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FCB0-0CEB-461F-9320-FB1F24A7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9C2F-DA8E-40CA-A7E6-B5B9C7E0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2FB-962B-422D-A853-5698F383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A665-38C0-47FE-BB70-80198EEC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28C-D38A-4CB7-B73B-99240ADA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A03-9D5C-4BDD-AFBB-4F8BA36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12E-9047-430D-911A-1BFA478D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F7E-8A4B-4459-AFBF-D181E079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D87-A55D-48C8-A328-5E53B814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207-19FB-4436-80C8-E2B1CD2C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5D8-E58B-410A-B552-55C962DE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9DE-0EAB-422B-B806-78BD0E9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F37-9555-43D2-B1B0-5AB99CF1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72C-4B47-42F7-933A-3EBC25A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C2E-3663-4094-A48E-E72320D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A07-F6AE-4837-BCE7-7206DC8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315360" indent="-31536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315360" indent="-31536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EF22-3267-4373-8DAF-7CFFD61E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" Target="slide8.xm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image" Target="../media/image4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Lecture 13 – Continuous-Time Markov Chain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arkovian property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xponential distribution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ate matrix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TM Example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irth and death process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Queuing system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Transient Analysis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e the probability that the system will be in a particular 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transient probabilities are a function of the initial state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conditional probability vector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quirement: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90" name="Object 1024"/>
          <p:cNvGraphicFramePr/>
          <p:nvPr/>
        </p:nvGraphicFramePr>
        <p:xfrm>
          <a:off x="3429000" y="4392720"/>
          <a:ext cx="15238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392720"/>
                    <a:ext cx="1523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Transient Analysis (cont’d)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some small interval of time ∆, l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∆ be the number of steps or increments required to represen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transient solution of the process can be approximated 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 with a DTMC by solving the following equation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) =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or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+∆) =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re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a state-transition matrix determined from the rate matrix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ition Matrix for Transient Analysi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be the sum of all transition rates out of state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1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; that is,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Then 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96" name="Object 0"/>
          <p:cNvGraphicFramePr/>
          <p:nvPr/>
        </p:nvGraphicFramePr>
        <p:xfrm>
          <a:off x="4419720" y="2057400"/>
          <a:ext cx="145548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57400"/>
                    <a:ext cx="1455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"/>
          <p:cNvGraphicFramePr/>
          <p:nvPr/>
        </p:nvGraphicFramePr>
        <p:xfrm>
          <a:off x="1100160" y="3986280"/>
          <a:ext cx="7281720" cy="23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0160" y="3986280"/>
                    <a:ext cx="728172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ition Matrix for ATM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101" name="Object 0"/>
          <p:cNvGraphicFramePr/>
          <p:nvPr/>
        </p:nvGraphicFramePr>
        <p:xfrm>
          <a:off x="914400" y="1676520"/>
          <a:ext cx="7620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620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533520" y="1081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3" action="ppaction://hlinksldjump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Rat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1143000" y="4267080"/>
          <a:ext cx="5943600" cy="21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267080"/>
                    <a:ext cx="5943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ent Analysis for ATM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sume system is empty a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e wish to approximate the transient probabilities a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 min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itial probability vector: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) = (1, 0, 0, 0, 0, 0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 equation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) =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umber of steps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/∆ = 1/∆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250"/>
              </a:spcAft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Case 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∆ = 0.05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20 steps (1 min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20∆) =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) = (0.433, 0.291, 0.162, 0.075, 0.029, 0.011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250"/>
              </a:spcAft>
              <a:buClr>
                <a:srgbClr val="ff99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Case 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∆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025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40 steps (1 min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40∆) =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) = (0.435, 0.291, 0.160, 0.073, 0.029, 0.011)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almost identical)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ent Solution for ATM Exampl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(</a:t>
            </a:r>
            <a:r>
              <a:rPr b="0" lang="en-US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∆ = 0.05, 0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t</a:t>
            </a:r>
            <a:r>
              <a:rPr b="0" lang="en-US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1)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09480" y="1995480"/>
          <a:ext cx="8077320" cy="39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95480"/>
                    <a:ext cx="807732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Steady-State Solutions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The probability that the system is in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constant (independent of initial conditions)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teady-state probabilit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li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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ector: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lculations in Chapter 15: must solv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simultaneous linear equations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unknown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TM exampl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2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fter 1 min with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∆ = 0.25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) = (0.435, 0.291, 0.160, 0.073, 0.029, 0.011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2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 the limi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(0.271, 0.217, 0.173, 0.139, 0.111, 0.089)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13" name="Object 1024"/>
          <p:cNvGraphicFramePr/>
          <p:nvPr/>
        </p:nvGraphicFramePr>
        <p:xfrm>
          <a:off x="1979640" y="2438280"/>
          <a:ext cx="2641680" cy="5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38280"/>
                    <a:ext cx="26416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Transient Computations for ATM Exampl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with ∆ = 0.02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116" name="Object 1024"/>
          <p:cNvGraphicFramePr/>
          <p:nvPr/>
        </p:nvGraphicFramePr>
        <p:xfrm>
          <a:off x="534960" y="1914480"/>
          <a:ext cx="820584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914480"/>
                    <a:ext cx="8205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ystem Statistics</a:t>
            </a: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vide managerial insigh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valuate system performance and quality of service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valuate design op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ATM Exampl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portion of time ATM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idl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ficiency (proportion of tim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bus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portion of customer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eject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21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portion of customers who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wai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ected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umbe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system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20" name="Object 1024"/>
          <p:cNvGraphicFramePr/>
          <p:nvPr/>
        </p:nvGraphicFramePr>
        <p:xfrm>
          <a:off x="5791320" y="3462480"/>
          <a:ext cx="144756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624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25"/>
          <p:cNvGraphicFramePr/>
          <p:nvPr/>
        </p:nvGraphicFramePr>
        <p:xfrm>
          <a:off x="6553080" y="4038480"/>
          <a:ext cx="18288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038480"/>
                    <a:ext cx="18288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26"/>
          <p:cNvGraphicFramePr/>
          <p:nvPr/>
        </p:nvGraphicFramePr>
        <p:xfrm>
          <a:off x="6172200" y="4546440"/>
          <a:ext cx="142236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4546440"/>
                    <a:ext cx="14223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027"/>
          <p:cNvGraphicFramePr/>
          <p:nvPr/>
        </p:nvGraphicFramePr>
        <p:xfrm>
          <a:off x="6324480" y="5121360"/>
          <a:ext cx="24256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5121360"/>
                    <a:ext cx="2425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28"/>
          <p:cNvGraphicFramePr/>
          <p:nvPr/>
        </p:nvGraphicFramePr>
        <p:xfrm>
          <a:off x="5522760" y="5715000"/>
          <a:ext cx="22147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22760" y="5715000"/>
                    <a:ext cx="2214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TM Example (cont’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ected number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in queu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5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hroughpu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ate (average number passing through the system):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5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Balk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ate (average number of customers lost)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5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Average tim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system (given by Little’s law)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438880" y="1368360"/>
          <a:ext cx="28540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8880" y="1368360"/>
                    <a:ext cx="2854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025"/>
          <p:cNvGraphicFramePr/>
          <p:nvPr/>
        </p:nvGraphicFramePr>
        <p:xfrm>
          <a:off x="4419720" y="2666880"/>
          <a:ext cx="2273040" cy="5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666880"/>
                    <a:ext cx="2273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026"/>
          <p:cNvGraphicFramePr/>
          <p:nvPr/>
        </p:nvGraphicFramePr>
        <p:xfrm>
          <a:off x="1981080" y="3962520"/>
          <a:ext cx="164628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962520"/>
                    <a:ext cx="1646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027"/>
          <p:cNvGraphicFramePr/>
          <p:nvPr/>
        </p:nvGraphicFramePr>
        <p:xfrm>
          <a:off x="1600200" y="5410080"/>
          <a:ext cx="6172200" cy="8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5410080"/>
                    <a:ext cx="61722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Markovian Property for CTMCs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57200" y="1143000"/>
            <a:ext cx="845820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Stochastic proces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 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0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}, wher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is a nonnegative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CTM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similar to that of a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DTM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except “one-step” has no meaning in continuous time so the Markovian property must hold for all future times instead of just for one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7200" y="5013360"/>
            <a:ext cx="83059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Interpreta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irst equation says that the conditional distribution of the futur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given the present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the past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0 ≤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≤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depends only on the present and is independent of the past.  Second equation says that 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is independent of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2743200"/>
            <a:ext cx="815328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Definition 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The process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with state space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a CTMC if the following condition holds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≤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 addition, the chain is said to hav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tationa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transitions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TM Design Alternativ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Performance summary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contradictory?)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usy 73% of tim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1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ace in foyer less than 40% utilized; that is,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lnSpc>
                <a:spcPct val="11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average no. in systems / 5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100% = 37.36%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9% of customers los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verage wait in queue = 60(1.139/1.822) = 37 sec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 machin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and size of foy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 human te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dd More ATM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486160" y="1066680"/>
            <a:ext cx="6352920" cy="1175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74600" y="914400"/>
            <a:ext cx="2263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ate diagram for 3 AT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2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1024"/>
          <p:cNvGraphicFramePr/>
          <p:nvPr/>
        </p:nvGraphicFramePr>
        <p:xfrm>
          <a:off x="2895480" y="2590920"/>
          <a:ext cx="5346720" cy="402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590920"/>
                    <a:ext cx="534672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9"/>
          <p:cNvSpPr/>
          <p:nvPr/>
        </p:nvSpPr>
        <p:spPr>
          <a:xfrm>
            <a:off x="228600" y="266688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mpara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dd Human Teller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73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verage service rate for teller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/mi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verage service rate for ATM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.5/mi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rival rate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/mi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285840" indent="-273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Two-server queuing system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ces: teller = 1; ATM = 2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285840" indent="-273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State variables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981080" y="4276800"/>
          <a:ext cx="579132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276800"/>
                    <a:ext cx="57913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dd Human Teller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rival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ice completion for teller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ice completion for ATM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State-transition network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457200" y="3200400"/>
            <a:ext cx="8229600" cy="3385440"/>
            <a:chOff x="457200" y="3200400"/>
            <a:chExt cx="8229600" cy="3385440"/>
          </a:xfrm>
        </p:grpSpPr>
        <p:pic>
          <p:nvPicPr>
            <p:cNvPr id="155" name="Picture 4" descr=""/>
            <p:cNvPicPr/>
            <p:nvPr/>
          </p:nvPicPr>
          <p:blipFill>
            <a:blip r:embed="rId1"/>
            <a:stretch/>
          </p:blipFill>
          <p:spPr>
            <a:xfrm>
              <a:off x="1143000" y="3200400"/>
              <a:ext cx="72388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6"/>
            <p:cNvSpPr/>
            <p:nvPr/>
          </p:nvSpPr>
          <p:spPr>
            <a:xfrm>
              <a:off x="457200" y="5638680"/>
              <a:ext cx="822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Bookman Old Style"/>
                </a:rPr>
                <a:t>Explanation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: </a:t>
              </a:r>
              <a:r>
                <a:rPr b="1" lang="en-US" sz="2800" spc="-1" strike="noStrike">
                  <a:solidFill>
                    <a:srgbClr val="ffffff"/>
                  </a:solidFill>
                  <a:latin typeface="Bookman Old Style"/>
                </a:rPr>
                <a:t>s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 = (110); teller and ATM are busy, no customers are waiting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dd Human Teller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Event rat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rival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/mi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ice completion for teller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ice completion for ATM: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.5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Rate diagram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828800" y="254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914400" y="3703680"/>
            <a:ext cx="762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dd Human Teller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ate matri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transition rate from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63" name="Object 1024"/>
          <p:cNvGraphicFramePr/>
          <p:nvPr/>
        </p:nvGraphicFramePr>
        <p:xfrm>
          <a:off x="1219320" y="2130480"/>
          <a:ext cx="6781680" cy="327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0480"/>
                    <a:ext cx="67816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101"/>
          <p:cNvSpPr/>
          <p:nvPr/>
        </p:nvSpPr>
        <p:spPr>
          <a:xfrm>
            <a:off x="609480" y="55627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lan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+ 2.5 =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state 4 = (111) and state 3 = (1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omparisons For ATM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167" name="Object 1024"/>
          <p:cNvGraphicFramePr/>
          <p:nvPr/>
        </p:nvGraphicFramePr>
        <p:xfrm>
          <a:off x="1574640" y="914400"/>
          <a:ext cx="6223320" cy="42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914400"/>
                    <a:ext cx="62233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074"/>
          <p:cNvSpPr/>
          <p:nvPr/>
        </p:nvSpPr>
        <p:spPr>
          <a:xfrm>
            <a:off x="685800" y="5257800"/>
            <a:ext cx="830592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457200"/>
                <a:tab algn="l" pos="800280"/>
                <a:tab algn="l" pos="1092240"/>
                <a:tab algn="l" pos="2057400"/>
                <a:tab algn="l" pos="2921040"/>
                <a:tab algn="l" pos="3835440"/>
                <a:tab algn="l" pos="4749840"/>
                <a:tab algn="l" pos="566424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teady-state solution for human te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457200"/>
                <a:tab algn="l" pos="800280"/>
                <a:tab algn="l" pos="1092240"/>
                <a:tab algn="l" pos="2057400"/>
                <a:tab algn="l" pos="2921040"/>
                <a:tab algn="l" pos="3835440"/>
                <a:tab algn="l" pos="4749840"/>
                <a:tab algn="l" pos="566424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(000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010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100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110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(111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12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1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00280"/>
                <a:tab algn="l" pos="1092240"/>
                <a:tab algn="l" pos="2057400"/>
                <a:tab algn="l" pos="2921040"/>
                <a:tab algn="l" pos="3835440"/>
                <a:tab algn="l" pos="4749840"/>
                <a:tab algn="l" pos="566424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π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.214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046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313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205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117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067,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.0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Birth Process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825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57200" y="83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urric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380880" y="2590920"/>
            <a:ext cx="25146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at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 arrival rate for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024"/>
          <p:cNvGraphicFramePr/>
          <p:nvPr/>
        </p:nvGraphicFramePr>
        <p:xfrm>
          <a:off x="380880" y="4048200"/>
          <a:ext cx="259092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048200"/>
                    <a:ext cx="259092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19"/>
          <p:cNvGrpSpPr/>
          <p:nvPr/>
        </p:nvGrpSpPr>
        <p:grpSpPr>
          <a:xfrm>
            <a:off x="3352680" y="2590920"/>
            <a:ext cx="5639040" cy="3810600"/>
            <a:chOff x="3352680" y="2590920"/>
            <a:chExt cx="5639040" cy="3810600"/>
          </a:xfrm>
        </p:grpSpPr>
        <p:sp>
          <p:nvSpPr>
            <p:cNvPr id="177" name="Text Box 17"/>
            <p:cNvSpPr/>
            <p:nvPr/>
          </p:nvSpPr>
          <p:spPr>
            <a:xfrm>
              <a:off x="3352680" y="2590920"/>
              <a:ext cx="5639040" cy="38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51"/>
                </a:spcAft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Markov process if time between arrivals has exponential distrib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30000"/>
                </a:lnSpc>
                <a:spcAft>
                  <a:spcPts val="751"/>
                </a:spcAft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No steady state [transient probabilities are governed by Poisson distribution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 algn="ctr">
                <a:lnSpc>
                  <a:spcPct val="13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= 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e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Bookman Old Style"/>
                </a:rPr>
                <a:t>-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/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!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= 0,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,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…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80000"/>
                </a:lnSpc>
                <a:spcAft>
                  <a:spcPts val="751"/>
                </a:spcAft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Probability of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arrivals in time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is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: Pr{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}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Object 1025"/>
            <p:cNvGraphicFramePr/>
            <p:nvPr/>
          </p:nvGraphicFramePr>
          <p:xfrm>
            <a:off x="5410080" y="5790960"/>
            <a:ext cx="2198880" cy="55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9" name="Object 102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5790960"/>
                      <a:ext cx="219888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Death Process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939960"/>
            <a:ext cx="80010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Delivery of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ompletion of 10 course study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762120" y="2387520"/>
            <a:ext cx="7543800" cy="889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304920" y="3600360"/>
            <a:ext cx="8076960" cy="2127240"/>
            <a:chOff x="304920" y="3600360"/>
            <a:chExt cx="8076960" cy="2127240"/>
          </a:xfrm>
        </p:grpSpPr>
        <p:sp>
          <p:nvSpPr>
            <p:cNvPr id="184" name="Text Box 11"/>
            <p:cNvSpPr/>
            <p:nvPr/>
          </p:nvSpPr>
          <p:spPr>
            <a:xfrm>
              <a:off x="304920" y="3600360"/>
              <a:ext cx="495288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Rate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Let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be completion rate for state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99"/>
                </a:spcAft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State space </a:t>
              </a: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S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= (0,1,…,10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Object 1024"/>
            <p:cNvGraphicFramePr/>
            <p:nvPr/>
          </p:nvGraphicFramePr>
          <p:xfrm>
            <a:off x="5410080" y="3657600"/>
            <a:ext cx="2971800" cy="207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657600"/>
                      <a:ext cx="29718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14"/>
          <p:cNvSpPr/>
          <p:nvPr/>
        </p:nvSpPr>
        <p:spPr>
          <a:xfrm>
            <a:off x="304920" y="5105520"/>
            <a:ext cx="50292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eady state probability vecto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π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1,0,…,0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tate 0 is an absorbing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Death Process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completions per week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completing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units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4 weeks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90" name="Object 1024"/>
          <p:cNvGraphicFramePr/>
          <p:nvPr/>
        </p:nvGraphicFramePr>
        <p:xfrm>
          <a:off x="372960" y="4867200"/>
          <a:ext cx="845028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867200"/>
                    <a:ext cx="8450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1030"/>
          <p:cNvSpPr/>
          <p:nvPr/>
        </p:nvSpPr>
        <p:spPr>
          <a:xfrm>
            <a:off x="685800" y="914400"/>
            <a:ext cx="800100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sume all units have the same completion ra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µ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µ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,…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n transient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9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!,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lt; 10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1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– · · ·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ample of Definition 1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600" y="762120"/>
            <a:ext cx="86104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Suppose that a CTMC enters state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t, say, time 0 and does not leave during the next 15 minutes; i.e., a transition does not occu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Ques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What is the probability that a transition will not occur in the next 5 minutes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pproach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Markovian property tells us that the probability that the process will remain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during the interval [15, 20] is just the unconditional probability that it stays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at least 5 minut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28600" y="3946680"/>
            <a:ext cx="8686800" cy="28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Let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denote the amount of time that the process stays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before making a transition into a different state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20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15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Pr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5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r, in gener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Pr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.  Hence, the random variabl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memoryless and so is exponentially distributed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Death Process Example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completions per week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units remaining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4 weeks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95" name="Object 1024"/>
          <p:cNvGraphicFramePr/>
          <p:nvPr/>
        </p:nvGraphicFramePr>
        <p:xfrm>
          <a:off x="372960" y="4863960"/>
          <a:ext cx="8450280" cy="142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863960"/>
                    <a:ext cx="84502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1030"/>
          <p:cNvSpPr/>
          <p:nvPr/>
        </p:nvSpPr>
        <p:spPr>
          <a:xfrm>
            <a:off x="685800" y="1066680"/>
            <a:ext cx="800100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ransient probabilities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units rem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10–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(10–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!,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lt; 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1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– · · ·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eneral Birth and Death Process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9" name="Text Box 1033"/>
          <p:cNvSpPr/>
          <p:nvPr/>
        </p:nvSpPr>
        <p:spPr>
          <a:xfrm>
            <a:off x="762120" y="914400"/>
            <a:ext cx="78483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pair shop for a taxi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tensive care unit in hospital (turnover of nur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34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467480" cy="12445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35"/>
          <p:cNvSpPr/>
          <p:nvPr/>
        </p:nvSpPr>
        <p:spPr>
          <a:xfrm>
            <a:off x="762120" y="3809880"/>
            <a:ext cx="28954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at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ssume 7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ypically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depend on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teady state probabilities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 will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024"/>
          <p:cNvGraphicFramePr/>
          <p:nvPr/>
        </p:nvGraphicFramePr>
        <p:xfrm>
          <a:off x="3809880" y="3886200"/>
          <a:ext cx="365760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3886200"/>
                    <a:ext cx="36576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euing System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8600" y="4038480"/>
            <a:ext cx="830880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4000" indent="-2394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Queue Disciplin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rder in which customers are served; FIFO, LIFO, Random,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28600" y="4800600"/>
            <a:ext cx="8915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Five Field Nota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rrival distribution / Service distribution / Number of servers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aximum number in the system / Number in the calling population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685800" y="2057400"/>
            <a:ext cx="1143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3581280" y="228600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5486400" y="2133720"/>
            <a:ext cx="1600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762012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19051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3124080" y="1447920"/>
            <a:ext cx="4343400" cy="2057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828800" y="2514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47242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086600" y="2514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euing Nota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838080" y="1371600"/>
            <a:ext cx="7162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istribution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interarrival and service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Consta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Er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General independent (arrival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838080" y="38098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number of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Maximum number in system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Size of call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Characteristics of Queue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8580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Infinite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.g., Mail order compan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162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5"/>
          <p:cNvGrpSpPr/>
          <p:nvPr/>
        </p:nvGrpSpPr>
        <p:grpSpPr>
          <a:xfrm>
            <a:off x="762120" y="3429000"/>
            <a:ext cx="8076960" cy="2075400"/>
            <a:chOff x="762120" y="3429000"/>
            <a:chExt cx="8076960" cy="2075400"/>
          </a:xfrm>
        </p:grpSpPr>
        <p:sp>
          <p:nvSpPr>
            <p:cNvPr id="223" name="Text Box 7"/>
            <p:cNvSpPr/>
            <p:nvPr/>
          </p:nvSpPr>
          <p:spPr>
            <a:xfrm>
              <a:off x="762120" y="34290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Finite queu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 e.g., Airline reservation system 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Picture 9" descr=""/>
            <p:cNvPicPr/>
            <p:nvPr/>
          </p:nvPicPr>
          <p:blipFill>
            <a:blip r:embed="rId2"/>
            <a:stretch/>
          </p:blipFill>
          <p:spPr>
            <a:xfrm>
              <a:off x="1143000" y="4038480"/>
              <a:ext cx="37339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3"/>
            <a:stretch/>
          </p:blipFill>
          <p:spPr>
            <a:xfrm>
              <a:off x="5105520" y="3962520"/>
              <a:ext cx="29718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14"/>
            <p:cNvSpPr/>
            <p:nvPr/>
          </p:nvSpPr>
          <p:spPr>
            <a:xfrm>
              <a:off x="914400" y="51055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. Customer arrives but then leaves           b. No more arrivals after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haracteristics of Queues (continue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80880" y="10666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inite input sou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.g., Repair shop for taxi compan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ehicles) wit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rvice bays and limited capacity parking lot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aces).  Each repair takes 1 da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diagra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 we hav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1024"/>
          <p:cNvGraphicFramePr/>
          <p:nvPr/>
        </p:nvGraphicFramePr>
        <p:xfrm>
          <a:off x="1295280" y="3197160"/>
          <a:ext cx="678204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97160"/>
                    <a:ext cx="678204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ingle Channel Queue – Two Kinds of Service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04920" y="1219320"/>
            <a:ext cx="861048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Bank telle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normal service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travelers checks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idle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portion of customers who buy travelers checks after normal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number in system, where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status of teller, where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{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134"/>
          <p:cNvGrpSpPr/>
          <p:nvPr/>
        </p:nvGrpSpPr>
        <p:grpSpPr>
          <a:xfrm>
            <a:off x="380880" y="4038480"/>
            <a:ext cx="8039160" cy="2154240"/>
            <a:chOff x="380880" y="4038480"/>
            <a:chExt cx="8039160" cy="2154240"/>
          </a:xfrm>
        </p:grpSpPr>
        <p:sp>
          <p:nvSpPr>
            <p:cNvPr id="235" name="Text Box 6"/>
            <p:cNvSpPr/>
            <p:nvPr/>
          </p:nvSpPr>
          <p:spPr>
            <a:xfrm>
              <a:off x="380880" y="40705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State-transi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Object 1024"/>
            <p:cNvGraphicFramePr/>
            <p:nvPr/>
          </p:nvGraphicFramePr>
          <p:xfrm>
            <a:off x="2362320" y="4038480"/>
            <a:ext cx="6057720" cy="2154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4038480"/>
                      <a:ext cx="60577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ingle Channel Queue for Bank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transitions w.r.t. customer departures from te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rrent state: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1,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,… (teller busy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xt state: eith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'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i="1" lang="en-US" sz="9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1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departure with probability 1 –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o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'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9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get checks with probability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transitions w.r.t. customer departures after purchasing travelers check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rrent state: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1,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,… (customer buying checks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Next state: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'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1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departure with probability 1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transitions w.r.t. customer arrival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urrent state: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r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1,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,… (teller or checks busy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Next state: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' = (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1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r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, arrival with probability 1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ingle Channel Queue for Bank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Rate of transitions</a:t>
            </a:r>
            <a:endParaRPr b="0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5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Event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arrival or departure)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5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ate of event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x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where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5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onditional probability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' |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o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Aft>
                <a:spcPts val="550"/>
              </a:spcAft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mputations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200" spc="-1" strike="noStrike" baseline="-30000">
                <a:solidFill>
                  <a:srgbClr val="ffffff"/>
                </a:solidFill>
                <a:latin typeface="Bookman Old Style"/>
                <a:ea typeface="Times New Roman"/>
              </a:rPr>
              <a:t>ij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55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tate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-- assume limited no. customers at teller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2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0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)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1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)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1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)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2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)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2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)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ate matrix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242" name="Object 1024"/>
          <p:cNvGraphicFramePr/>
          <p:nvPr/>
        </p:nvGraphicFramePr>
        <p:xfrm>
          <a:off x="3048120" y="4343400"/>
          <a:ext cx="50292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343400"/>
                    <a:ext cx="50292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art Processing with Rework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914400"/>
            <a:ext cx="845820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sider a machining operation in which there is a 0.4 probability that upon completion, a processed part will not be within toler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achine is in one of 3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tat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[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{ (0), (1), (2)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0 = i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 = working on part for firs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 = reworking p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09480" y="3886200"/>
            <a:ext cx="3733920" cy="25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rri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ervice completion from stat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ervice completion from stat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5029200" y="3886200"/>
            <a:ext cx="3669120" cy="2743200"/>
            <a:chOff x="5029200" y="3886200"/>
            <a:chExt cx="3669120" cy="2743200"/>
          </a:xfrm>
        </p:grpSpPr>
        <p:graphicFrame>
          <p:nvGraphicFramePr>
            <p:cNvPr id="248" name="Object 1024"/>
            <p:cNvGraphicFramePr/>
            <p:nvPr/>
          </p:nvGraphicFramePr>
          <p:xfrm>
            <a:off x="5029200" y="4383000"/>
            <a:ext cx="3581280" cy="224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29200" y="4383000"/>
                      <a:ext cx="358128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Rectangle 11"/>
            <p:cNvSpPr/>
            <p:nvPr/>
          </p:nvSpPr>
          <p:spPr>
            <a:xfrm>
              <a:off x="5042880" y="388620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State-transi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eneralization of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Markovian property giv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|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Pr{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. 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Implica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The random variabl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memoryless and thus is exponentially distributed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09480" y="3124080"/>
            <a:ext cx="83059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lternative definition of CTM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A stochastic process having the properties that each time it enters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i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amount of time it spends in that state before making a transition into a different state is exponentially distributed with mean, say, 1/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ii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n the process leaves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t next enters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with some probability, say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wher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must satis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, 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, 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assification of Stat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09480" y="914400"/>
            <a:ext cx="8001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1040" indent="-148104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ccess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to go from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ath exists in the network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11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6782040" cy="7509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609480" y="4267080"/>
            <a:ext cx="8382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tate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mmunic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both are accessible from each other.   A system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irreduc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all states communic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urr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the system will return to it some time in the future after leav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state is not recurrent, it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What You Should Know About Markov Chain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tion of a CTMC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the difference is between a DTMC and a CTMC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the rate matrix and rate diagram are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is meant by a transient soluti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is meant by a steady-state solutio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a birth-death process i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assification of the various types of queuing system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TM Example (max of 5 in system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57200" y="1009800"/>
            <a:ext cx="807732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verage time between arrivals = 30 sec (0.5 min):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2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verage service time = 24 sec (0.4 min):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2.5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sign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many ATMs should there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hould the foyer be expanded?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ate-transi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78627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ponential Distribu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1371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pd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–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CD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1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–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≥ 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952880" y="1405080"/>
            <a:ext cx="4038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2160" indent="-18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Parameter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2160" indent="-189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(1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1024"/>
          <p:cNvGraphicFramePr/>
          <p:nvPr/>
        </p:nvGraphicFramePr>
        <p:xfrm>
          <a:off x="1600200" y="2743200"/>
          <a:ext cx="6095880" cy="33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609588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52480" y="60958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xponential distribution with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.5 (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2)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Poisson Process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r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rrivals in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} =                  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0, 1,…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the ATM example with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,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pected number of arrival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interval [0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] is 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72" name="Object 1024"/>
          <p:cNvGraphicFramePr/>
          <p:nvPr/>
        </p:nvGraphicFramePr>
        <p:xfrm>
          <a:off x="4343400" y="3048120"/>
          <a:ext cx="16002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8120"/>
                    <a:ext cx="16002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029"/>
          <p:cNvSpPr/>
          <p:nvPr/>
        </p:nvSpPr>
        <p:spPr>
          <a:xfrm>
            <a:off x="609480" y="14479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n the duration of the time between events is exponentially distributed, the number of occurrences of the event in a given time interval has a Poisson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Rate Diagram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74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 CTMCs, activities are better represented by their rate of occurrence, so rather than using a state-transition network we use a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at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agram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rate network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Aft>
                <a:spcPts val="174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is network is easily constructed from the state-transition network by replacing the activity designation by the activity rate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7010280" cy="1224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28600" y="5029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ATM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400800" y="624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ansient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2" action="ppaction://hlinksldjump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ate Matrix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066680"/>
            <a:ext cx="81532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computationally more convenient alternative to the rate diagram is th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ate matri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whose elemen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the transition rate from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 In gener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r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1024"/>
          <p:cNvGraphicFramePr/>
          <p:nvPr/>
        </p:nvGraphicFramePr>
        <p:xfrm>
          <a:off x="152280" y="3890880"/>
          <a:ext cx="480060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90880"/>
                    <a:ext cx="48006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025"/>
          <p:cNvGraphicFramePr/>
          <p:nvPr/>
        </p:nvGraphicFramePr>
        <p:xfrm>
          <a:off x="5486400" y="3900600"/>
          <a:ext cx="327672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900600"/>
                    <a:ext cx="32767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8"/>
          <p:cNvSpPr/>
          <p:nvPr/>
        </p:nvSpPr>
        <p:spPr>
          <a:xfrm>
            <a:off x="5715000" y="2909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Rate matrix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TM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447920" y="29098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General  rat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23:15:35Z</dcterms:created>
  <dc:creator>Jonathan Bard</dc:creator>
  <dc:description/>
  <dc:language>en-US</dc:language>
  <cp:lastModifiedBy>Jonathan Bard</cp:lastModifiedBy>
  <dcterms:modified xsi:type="dcterms:W3CDTF">2009-11-19T22:27:27Z</dcterms:modified>
  <cp:revision>174</cp:revision>
  <dc:subject/>
  <dc:title>Models for Stochastic Processes</dc:title>
</cp:coreProperties>
</file>