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19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.jpeg" ContentType="image/jpeg"/>
  <Override PartName="/ppt/media/image2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FC14-BC16-4B40-980F-2D5A267BA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97CA-0AC9-46A9-A9BF-80320D52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F925-A20E-4E65-9D59-72E83ABA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54A3-7BE7-4CB3-92D2-819C8F7E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0473-9F61-4366-9FEA-DC977326D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70C0-0510-470C-AFB6-82B1E981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F141-7D96-45D0-AC59-FDD4BED2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18F3-9AB1-4367-B2AB-69FBD85C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98EB-3DCC-4D36-A734-338640AF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9800-B6E8-4FC7-BEC7-BFABDAB9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1D68-8DC5-4637-AB62-980F6E71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2B0F-697E-40E4-B527-75233875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12FF-43F4-488D-BD0A-090F7900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1FBF-CE39-414D-AE1B-7E550407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B491-6B04-41E4-B623-5E70284D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40F9-7A5E-4948-A471-4209EFD0F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F85F-638B-424E-AC4C-A2BBDFB3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B252-9BB3-4C8C-8098-E345FE69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9B52-A4AA-40DD-B128-ED0782AB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BD4B-7BD4-46ED-B80C-5816E09F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D0D9-7150-48A9-8711-63A65EFA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BA25-7675-4F0D-A0BE-19411DF0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C588-41B4-4ABA-8ABA-7757BC4E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0FDC-EDDA-4620-85E3-D878444D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ul A. J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rations Research Models and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4 - All rights reserve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7AA5-9D0B-490B-8198-4533989BF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ul A. J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rations Research Models and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4 - All rights reserve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EEEA-7F90-49DE-85EB-5072A7758ED9}" type="slidenum">
              <a:rPr b="0" lang="en-US" sz="12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image" Target="../media/image14.pct"/><Relationship Id="rId6" Type="http://schemas.openxmlformats.org/officeDocument/2006/relationships/image" Target="../media/image15.pct"/><Relationship Id="rId7" Type="http://schemas.openxmlformats.org/officeDocument/2006/relationships/image" Target="../media/image16.pct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image" Target="../media/image19.pct"/><Relationship Id="rId4" Type="http://schemas.openxmlformats.org/officeDocument/2006/relationships/image" Target="../media/image20.pct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ct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pct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nit Flo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long run, the product flow through each operation must be proportional to the output flow of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8/24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 Line with defects and inspec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1219320" y="3029040"/>
            <a:ext cx="6657840" cy="7999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7086600" y="2057400"/>
            <a:ext cx="1739880" cy="11556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3743280" y="2057400"/>
            <a:ext cx="3267000" cy="11174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5877000" y="3886200"/>
            <a:ext cx="3267000" cy="15368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1600200" y="3809880"/>
            <a:ext cx="3759120" cy="15494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7"/>
          <a:stretch/>
        </p:blipFill>
        <p:spPr>
          <a:xfrm>
            <a:off x="533520" y="3733920"/>
            <a:ext cx="3263760" cy="253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CC2F-CB8C-4E8E-BC05-BEBB9361FC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compute scrap at each oper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1243080" y="2590920"/>
            <a:ext cx="6657840" cy="799920"/>
          </a:xfrm>
          <a:prstGeom prst="rect">
            <a:avLst/>
          </a:prstGeom>
          <a:ln w="0">
            <a:noFill/>
          </a:ln>
        </p:spPr>
      </p:pic>
      <p:grpSp>
        <p:nvGrpSpPr>
          <p:cNvPr id="274" name=""/>
          <p:cNvGrpSpPr/>
          <p:nvPr/>
        </p:nvGrpSpPr>
        <p:grpSpPr>
          <a:xfrm>
            <a:off x="5877000" y="3352680"/>
            <a:ext cx="3267000" cy="3081240"/>
            <a:chOff x="5877000" y="3352680"/>
            <a:chExt cx="3267000" cy="3081240"/>
          </a:xfrm>
        </p:grpSpPr>
        <p:pic>
          <p:nvPicPr>
            <p:cNvPr id="275" name="" descr=""/>
            <p:cNvPicPr/>
            <p:nvPr/>
          </p:nvPicPr>
          <p:blipFill>
            <a:blip r:embed="rId3"/>
            <a:stretch/>
          </p:blipFill>
          <p:spPr>
            <a:xfrm>
              <a:off x="5877000" y="3352680"/>
              <a:ext cx="326700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6400440" y="4876920"/>
              <a:ext cx="1486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crap rat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1-(1-.1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1-(.9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.46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1600200" y="3352680"/>
            <a:ext cx="3759120" cy="2288520"/>
            <a:chOff x="1600200" y="3352680"/>
            <a:chExt cx="3759120" cy="2288520"/>
          </a:xfrm>
        </p:grpSpPr>
        <p:pic>
          <p:nvPicPr>
            <p:cNvPr id="278" name="" descr=""/>
            <p:cNvPicPr/>
            <p:nvPr/>
          </p:nvPicPr>
          <p:blipFill>
            <a:blip r:embed="rId4"/>
            <a:stretch/>
          </p:blipFill>
          <p:spPr>
            <a:xfrm>
              <a:off x="1600200" y="3352680"/>
              <a:ext cx="375912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2056680" y="5181480"/>
              <a:ext cx="188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crap rate =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E5EA-060E-42B7-92C3-21A3964577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e unit flow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1243080" y="3029040"/>
            <a:ext cx="6657840" cy="7999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6330960" y="2209680"/>
            <a:ext cx="1976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/(1-.46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.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6019920" y="3809880"/>
            <a:ext cx="1768320" cy="11304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527840" y="2362320"/>
            <a:ext cx="2920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.88 for i = 1 …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4"/>
          <a:stretch/>
        </p:blipFill>
        <p:spPr>
          <a:xfrm>
            <a:off x="1600200" y="3809880"/>
            <a:ext cx="3048120" cy="119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F551-76BD-4491-ABBF-FA78EB5034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 Flow Depends on the Flow of Finished Good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shed Good: A completed product leaving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tal flow of product through an operation is proportional to the flow of finished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Flow: The number of units entering an operation per unit of finished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E216-C4FA-4B8A-B9EC-51EC59200A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flow in each oper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3657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 process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flow is proportional to the flow leaving the final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flow depends on the operations that follow in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937200" y="2109960"/>
            <a:ext cx="14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 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37520" y="601992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 of finished go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495680" y="1828800"/>
            <a:ext cx="2403720" cy="45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D10D-2AB3-4B5E-8A86-96116B3FD2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s that change flow at an oper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ing factor: the number of items that are grouped for subsequent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ap rate:  the proportion of input items disca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 ratio: flow leaving divided by flow en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14600" y="3886200"/>
            <a:ext cx="1117440" cy="2705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648320" y="3962520"/>
          <a:ext cx="340344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962520"/>
                    <a:ext cx="340344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032E-14D1-45D0-B6A8-17A198A7A5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want to compute the unit flow for each oper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55320" y="315288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93560" y="319896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69520" y="315288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0040" y="3152880"/>
            <a:ext cx="4587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unit flow) The number of items pass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7800" y="3152880"/>
            <a:ext cx="436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n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75840" y="3152880"/>
            <a:ext cx="351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29360" y="3152880"/>
            <a:ext cx="776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69680" y="345744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46000" y="3457440"/>
            <a:ext cx="1856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each unit o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13680" y="3457440"/>
            <a:ext cx="886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inish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02520" y="3457440"/>
            <a:ext cx="996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duc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14480" y="345744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C434-2E68-4535-8F3F-E69BFAC407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nit Flow depends on the next oper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200400" y="2590920"/>
            <a:ext cx="1219320" cy="29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3098880" y="2654280"/>
          <a:ext cx="164880" cy="27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98880" y="2654280"/>
                    <a:ext cx="16488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4724280" y="3352680"/>
          <a:ext cx="274320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3352680"/>
                    <a:ext cx="27432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1F52-0987-4137-8F82-DE93943DE7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for finding unit flow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31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the unit flow 1 to the output of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backwards to find all other unit 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181480" y="1752480"/>
            <a:ext cx="2340000" cy="441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1411-79CB-48A7-8A34-AB62AB5923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f all grouping factors are 1 and scrap rates are 0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unit flows ar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998720" y="2017800"/>
            <a:ext cx="217656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99EC-B95E-4B6D-9BCE-1167F13857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e unit flow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-7915680" y="-1968480"/>
            <a:ext cx="11295360" cy="8250120"/>
            <a:chOff x="-7915680" y="-1968480"/>
            <a:chExt cx="11295360" cy="8250120"/>
          </a:xfrm>
        </p:grpSpPr>
        <p:sp>
          <p:nvSpPr>
            <p:cNvPr id="139" name=""/>
            <p:cNvSpPr/>
            <p:nvPr/>
          </p:nvSpPr>
          <p:spPr>
            <a:xfrm flipH="1" flipV="1">
              <a:off x="-7915680" y="-1968480"/>
              <a:ext cx="126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-7915680" y="-1968480"/>
              <a:ext cx="126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35240" y="2581200"/>
              <a:ext cx="322200" cy="32220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95080" y="2687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56040" y="3386160"/>
              <a:ext cx="312480" cy="31284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95000" y="3484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56040" y="2612880"/>
              <a:ext cx="312480" cy="31140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95000" y="2709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88960" y="2612880"/>
              <a:ext cx="314280" cy="31140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40880" y="2709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88960" y="3386160"/>
              <a:ext cx="314280" cy="31284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40880" y="3484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88960" y="4160880"/>
              <a:ext cx="314280" cy="31284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40880" y="4259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56040" y="5710320"/>
              <a:ext cx="312480" cy="31248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5000" y="5807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57120" y="3235320"/>
              <a:ext cx="32184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97" y="984"/>
                  </a:moveTo>
                  <a:arcTo wR="10800" hR="10800" stAng="-6878656" swAng="2894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297" y="984"/>
                  </a:moveTo>
                  <a:arcTo wR="10800" hR="10800" stAng="-6878656" swAng="2894757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95720" y="2903400"/>
              <a:ext cx="1440" cy="343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56040" y="4398840"/>
              <a:ext cx="32256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355" y="957"/>
                  </a:moveTo>
                  <a:arcTo wR="10800" hR="10800" stAng="-6858273" swAng="2854647"/>
                  <a:lnTo>
                    <a:pt x="10800" y="10800"/>
                  </a:lnTo>
                  <a:close/>
                </a:path>
                <a:path fill="none" w="21600" h="21600">
                  <a:moveTo>
                    <a:pt x="6355" y="957"/>
                  </a:moveTo>
                  <a:arcTo wR="10800" hR="10800" stAng="-6858273" swAng="2854647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95720" y="4106880"/>
              <a:ext cx="1440" cy="303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57120" y="5559480"/>
              <a:ext cx="32184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97" y="984"/>
                  </a:moveTo>
                  <a:arcTo wR="10800" hR="10800" stAng="-6878656" swAng="2894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297" y="984"/>
                  </a:moveTo>
                  <a:arcTo wR="10800" hR="10800" stAng="-6878656" swAng="2894757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95720" y="5367240"/>
              <a:ext cx="1440" cy="203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95440" y="2879640"/>
              <a:ext cx="1800" cy="1260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03400" y="3991680"/>
              <a:ext cx="327240" cy="32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7" y="15064"/>
                  </a:moveTo>
                  <a:arcTo wR="10800" hR="10800" stAng="9404737" swAng="2852387"/>
                  <a:lnTo>
                    <a:pt x="10800" y="10800"/>
                  </a:lnTo>
                  <a:close/>
                </a:path>
                <a:path fill="none" w="21600" h="21600">
                  <a:moveTo>
                    <a:pt x="877" y="15064"/>
                  </a:moveTo>
                  <a:arcTo wR="10800" hR="10800" stAng="9404737" swAng="2852387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95440" y="4140360"/>
              <a:ext cx="50796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01920" y="3216240"/>
              <a:ext cx="32256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355" y="957"/>
                  </a:moveTo>
                  <a:arcTo wR="10800" hR="10800" stAng="-6858273" swAng="2854647"/>
                  <a:lnTo>
                    <a:pt x="10800" y="10800"/>
                  </a:lnTo>
                  <a:close/>
                </a:path>
                <a:path fill="none" w="21600" h="21600">
                  <a:moveTo>
                    <a:pt x="6355" y="957"/>
                  </a:moveTo>
                  <a:arcTo wR="10800" hR="10800" stAng="-6858273" swAng="2854647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41600" y="2903400"/>
              <a:ext cx="1440" cy="322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03000" y="4010040"/>
              <a:ext cx="32184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97" y="984"/>
                  </a:moveTo>
                  <a:arcTo wR="10800" hR="10800" stAng="-6878656" swAng="2894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297" y="984"/>
                  </a:moveTo>
                  <a:arcTo wR="10800" hR="10800" stAng="-6878656" swAng="2894757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41600" y="3678120"/>
              <a:ext cx="1440" cy="343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41600" y="4452840"/>
              <a:ext cx="1440" cy="847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913120" y="5151600"/>
              <a:ext cx="326520" cy="32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7" y="15064"/>
                  </a:moveTo>
                  <a:arcTo wR="10800" hR="10800" stAng="9404737" swAng="2852387"/>
                  <a:lnTo>
                    <a:pt x="10800" y="10800"/>
                  </a:lnTo>
                  <a:close/>
                </a:path>
                <a:path fill="none" w="21600" h="21600">
                  <a:moveTo>
                    <a:pt x="877" y="15064"/>
                  </a:moveTo>
                  <a:arcTo wR="10800" hR="10800" stAng="9404737" swAng="2852387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41600" y="5300640"/>
              <a:ext cx="12715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641600" y="2397240"/>
              <a:ext cx="1440" cy="1936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01920" y="2248560"/>
              <a:ext cx="322920" cy="32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9" y="15067"/>
                  </a:moveTo>
                  <a:arcTo wR="10800" hR="10800" stAng="9403626" swAng="2854647"/>
                  <a:lnTo>
                    <a:pt x="10800" y="10800"/>
                  </a:lnTo>
                  <a:close/>
                </a:path>
                <a:path fill="none" w="21600" h="21600">
                  <a:moveTo>
                    <a:pt x="879" y="15067"/>
                  </a:moveTo>
                  <a:arcTo wR="10800" hR="10800" stAng="9403626" swAng="2854647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417760" y="2374920"/>
              <a:ext cx="1440" cy="195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78080" y="2225880"/>
              <a:ext cx="323640" cy="32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9" y="15067"/>
                  </a:moveTo>
                  <a:arcTo wR="10800" hR="10800" stAng="9403626" swAng="2854647"/>
                  <a:lnTo>
                    <a:pt x="10800" y="10800"/>
                  </a:lnTo>
                  <a:close/>
                </a:path>
                <a:path fill="none" w="21600" h="21600">
                  <a:moveTo>
                    <a:pt x="879" y="15067"/>
                  </a:moveTo>
                  <a:arcTo wR="10800" hR="10800" stAng="9403626" swAng="2854647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28960" y="2374920"/>
              <a:ext cx="2491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195720" y="2397240"/>
              <a:ext cx="1440" cy="1936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56040" y="2248560"/>
              <a:ext cx="323640" cy="32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9" y="15067"/>
                  </a:moveTo>
                  <a:arcTo wR="10800" hR="10800" stAng="9403626" swAng="2854647"/>
                  <a:lnTo>
                    <a:pt x="10800" y="10800"/>
                  </a:lnTo>
                  <a:close/>
                </a:path>
                <a:path fill="none" w="21600" h="21600">
                  <a:moveTo>
                    <a:pt x="879" y="15067"/>
                  </a:moveTo>
                  <a:arcTo wR="10800" hR="10800" stAng="9403626" swAng="2854647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6560" y="2397240"/>
              <a:ext cx="2494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93400" y="223848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60200" y="223848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43080" y="5127480"/>
              <a:ext cx="325440" cy="32400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42800" y="52038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43080" y="3967200"/>
              <a:ext cx="325440" cy="32220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61880" y="40338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56040" y="4978440"/>
              <a:ext cx="32256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355" y="957"/>
                  </a:moveTo>
                  <a:arcTo wR="10800" hR="10800" stAng="-6858273" swAng="2854647"/>
                  <a:lnTo>
                    <a:pt x="10800" y="10800"/>
                  </a:lnTo>
                  <a:close/>
                </a:path>
                <a:path fill="none" w="21600" h="21600">
                  <a:moveTo>
                    <a:pt x="6355" y="957"/>
                  </a:moveTo>
                  <a:arcTo wR="10800" hR="10800" stAng="-6858273" swAng="2854647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195720" y="4795920"/>
              <a:ext cx="1440" cy="191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56040" y="3817800"/>
              <a:ext cx="32256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355" y="957"/>
                  </a:moveTo>
                  <a:arcTo wR="10800" hR="10800" stAng="-6858273" swAng="2854647"/>
                  <a:lnTo>
                    <a:pt x="10800" y="10800"/>
                  </a:lnTo>
                  <a:close/>
                </a:path>
                <a:path fill="none" w="21600" h="21600">
                  <a:moveTo>
                    <a:pt x="6355" y="957"/>
                  </a:moveTo>
                  <a:arcTo wR="10800" hR="10800" stAng="-6858273" swAng="2854647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95720" y="3678120"/>
              <a:ext cx="1440" cy="149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56040" y="4525920"/>
              <a:ext cx="312480" cy="31284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195000" y="4626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3129120" y="6022800"/>
              <a:ext cx="152280" cy="258840"/>
              <a:chOff x="3129120" y="6022800"/>
              <a:chExt cx="152280" cy="258840"/>
            </a:xfrm>
          </p:grpSpPr>
          <p:sp>
            <p:nvSpPr>
              <p:cNvPr id="192" name=""/>
              <p:cNvSpPr/>
              <p:nvPr/>
            </p:nvSpPr>
            <p:spPr>
              <a:xfrm>
                <a:off x="3195720" y="6022800"/>
                <a:ext cx="1440" cy="763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129120" y="6108840"/>
                <a:ext cx="152280" cy="172800"/>
              </a:xfrm>
              <a:custGeom>
                <a:avLst/>
                <a:gdLst/>
                <a:ahLst/>
                <a:rect l="l" t="t" r="r" b="b"/>
                <a:pathLst>
                  <a:path w="96" h="109">
                    <a:moveTo>
                      <a:pt x="48" y="0"/>
                    </a:moveTo>
                    <a:lnTo>
                      <a:pt x="0" y="0"/>
                    </a:lnTo>
                    <a:lnTo>
                      <a:pt x="48" y="109"/>
                    </a:lnTo>
                    <a:lnTo>
                      <a:pt x="96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1228680" y="2408400"/>
            <a:ext cx="3031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48920" y="2247840"/>
            <a:ext cx="146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6064200"/>
            <a:ext cx="5857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’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84800" y="5353200"/>
            <a:ext cx="13248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/(1 - 0.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32200" y="5353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00600" y="5334120"/>
            <a:ext cx="70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.1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2600" y="5505480"/>
            <a:ext cx="6512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6240" y="5505480"/>
            <a:ext cx="107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*3/(1 - .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55818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09680" y="5486400"/>
            <a:ext cx="70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4.7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762120" y="4173120"/>
            <a:ext cx="672840" cy="118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79520" y="4043520"/>
            <a:ext cx="136440" cy="169560"/>
          </a:xfrm>
          <a:custGeom>
            <a:avLst/>
            <a:gdLst/>
            <a:ahLst/>
            <a:rect l="l" t="t" r="r" b="b"/>
            <a:pathLst>
              <a:path w="86" h="107">
                <a:moveTo>
                  <a:pt x="38" y="85"/>
                </a:moveTo>
                <a:lnTo>
                  <a:pt x="75" y="107"/>
                </a:lnTo>
                <a:lnTo>
                  <a:pt x="86" y="0"/>
                </a:lnTo>
                <a:lnTo>
                  <a:pt x="0" y="64"/>
                </a:lnTo>
                <a:lnTo>
                  <a:pt x="38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3317760" cy="2057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277040" y="4308480"/>
            <a:ext cx="126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516880" y="4308480"/>
            <a:ext cx="97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315200" y="2286000"/>
            <a:ext cx="1353600" cy="2004480"/>
            <a:chOff x="7315200" y="2286000"/>
            <a:chExt cx="1353600" cy="2004480"/>
          </a:xfrm>
        </p:grpSpPr>
        <p:sp>
          <p:nvSpPr>
            <p:cNvPr id="210" name=""/>
            <p:cNvSpPr/>
            <p:nvPr/>
          </p:nvSpPr>
          <p:spPr>
            <a:xfrm>
              <a:off x="7491600" y="2291040"/>
              <a:ext cx="884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nit Flow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15200" y="2286000"/>
              <a:ext cx="12240" cy="20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554680" y="2286000"/>
              <a:ext cx="9360" cy="20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34160" y="2509920"/>
              <a:ext cx="48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1.92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15200" y="249264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327440" y="2492640"/>
              <a:ext cx="1214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554680" y="249264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15200" y="2505240"/>
              <a:ext cx="1440" cy="1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554680" y="2505240"/>
              <a:ext cx="1440" cy="1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27680" y="2725920"/>
              <a:ext cx="48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1.73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315200" y="27100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327440" y="2710080"/>
              <a:ext cx="1214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554680" y="27100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15200" y="2721240"/>
              <a:ext cx="1440" cy="19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554680" y="2721240"/>
              <a:ext cx="1440" cy="19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27680" y="2944800"/>
              <a:ext cx="48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3.08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15200" y="29260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27440" y="2926080"/>
              <a:ext cx="1214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554680" y="29260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15200" y="2938680"/>
              <a:ext cx="1440" cy="19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54680" y="2938680"/>
              <a:ext cx="1440" cy="19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27680" y="3162600"/>
              <a:ext cx="48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1.3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315200" y="31449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27440" y="3144960"/>
              <a:ext cx="1214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554680" y="31449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315200" y="3157560"/>
              <a:ext cx="1440" cy="1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54680" y="3157560"/>
              <a:ext cx="1440" cy="1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27680" y="3378240"/>
              <a:ext cx="48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5.87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15200" y="336240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327440" y="3362400"/>
              <a:ext cx="1214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554680" y="336240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15200" y="3373560"/>
              <a:ext cx="1440" cy="19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554680" y="3373560"/>
              <a:ext cx="1440" cy="19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627680" y="3597480"/>
              <a:ext cx="48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5.2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315200" y="35784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327440" y="3578400"/>
              <a:ext cx="1214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554680" y="35784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15200" y="3591000"/>
              <a:ext cx="144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554680" y="3591000"/>
              <a:ext cx="144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27680" y="3814920"/>
              <a:ext cx="48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4.76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15200" y="37972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27440" y="3797280"/>
              <a:ext cx="1214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554680" y="37972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315200" y="3810240"/>
              <a:ext cx="144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554680" y="3810240"/>
              <a:ext cx="144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27680" y="4030920"/>
              <a:ext cx="48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1.11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15200" y="40165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27440" y="4016520"/>
              <a:ext cx="1214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554680" y="40165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15200" y="4025880"/>
              <a:ext cx="1440" cy="1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315200" y="423252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27440" y="4232520"/>
              <a:ext cx="1214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554680" y="4025880"/>
              <a:ext cx="1440" cy="1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554680" y="423252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564400" y="4232520"/>
              <a:ext cx="10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6FB0-A89E-41EA-8028-9321DE36E6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15:15:07Z</dcterms:created>
  <dc:creator>Paul Jensen</dc:creator>
  <dc:description/>
  <dc:language>en-US</dc:language>
  <cp:lastModifiedBy>Paul Jensen</cp:lastModifiedBy>
  <dcterms:modified xsi:type="dcterms:W3CDTF">2004-08-24T15:42:46Z</dcterms:modified>
  <cp:revision>4</cp:revision>
  <dc:subject/>
  <dc:title>PowerPoint Presentation</dc:title>
</cp:coreProperties>
</file>