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2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622F-89C8-475D-9038-EA3121DF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0DA8-20CE-419F-871E-99FA12C8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5085-56B1-4A6D-B12D-60D8A8F4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47A6-A8FD-4343-81FD-1AFAAB70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FDB0-E4C3-4AC9-A985-54C24CBB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8E50-CE50-4887-87EE-A9F1629A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1C1E-875D-4422-9361-AD751C08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BEE0-0E0A-4746-BF94-00F162A9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E911-2881-4506-9318-813EF19B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C142-0A91-4A35-AF94-C540FE29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62CF-E374-4CA1-B741-AC10E783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B325-3CED-4AF1-B16D-17C8BCB1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DC2C-2384-445A-8F61-841041CD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16E9-EF57-46E9-BE7F-0F7CD27B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CDDC-466D-422D-A1A3-4C01AD03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A94A-3279-473A-B4B3-1FB3F43A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D40A-40E6-4FF7-A708-4611EF82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39C3-A132-47DB-A9CE-5549958D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1553-536A-4A8A-A1B4-30ED4C0B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2BE6-5369-48FF-8EC9-75D684F3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619C-E966-4456-A1D8-30C590EE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DABE-B62D-4E9E-8E82-66C6409E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C8AC-6F1F-4800-85A5-26FA62D1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DE3D-19D6-4DC6-88F0-772A24E6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ul A. J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ions Research Models and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4 - All rights reserv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1BA0-8A06-47D1-95EA-25632DF3D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C1C0-AC33-48C3-8780-2FA2F06F47F0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image" Target="../media/image12.pct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image" Target="../media/image14.pct"/><Relationship Id="rId4" Type="http://schemas.openxmlformats.org/officeDocument/2006/relationships/image" Target="../media/image15.pct"/><Relationship Id="rId5" Type="http://schemas.openxmlformats.org/officeDocument/2006/relationships/image" Target="../media/image16.pct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ct"/><Relationship Id="rId3" Type="http://schemas.openxmlformats.org/officeDocument/2006/relationships/image" Target="../media/image18.pct"/><Relationship Id="rId4" Type="http://schemas.openxmlformats.org/officeDocument/2006/relationships/image" Target="../media/image19.pct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ct"/><Relationship Id="rId3" Type="http://schemas.openxmlformats.org/officeDocument/2006/relationships/image" Target="../media/image20.pct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nvento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990800" y="2590920"/>
            <a:ext cx="5400720" cy="761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828800" y="3657600"/>
            <a:ext cx="5464080" cy="787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822320" y="4648320"/>
            <a:ext cx="5464440" cy="81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24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828800" y="2133720"/>
            <a:ext cx="5337000" cy="761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600200" y="4724280"/>
            <a:ext cx="5934240" cy="1603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676520" y="2971800"/>
            <a:ext cx="5486400" cy="166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EEA9-6D89-426C-B9EC-8EAEE5C06E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aw Material Invent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836720" y="2438280"/>
            <a:ext cx="5464080" cy="787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97040" y="3606840"/>
            <a:ext cx="5743440" cy="226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9A1D-3073-495B-B5D0-0534D48BE9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bstraction of Raw Material Invent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97040" y="2057400"/>
            <a:ext cx="5743440" cy="224784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1905120" y="4419720"/>
            <a:ext cx="5451480" cy="1600200"/>
            <a:chOff x="1905120" y="4419720"/>
            <a:chExt cx="5451480" cy="1600200"/>
          </a:xfrm>
        </p:grpSpPr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1905120" y="4419720"/>
              <a:ext cx="545148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4"/>
            <a:stretch/>
          </p:blipFill>
          <p:spPr>
            <a:xfrm>
              <a:off x="2841480" y="5232240"/>
              <a:ext cx="3454560" cy="78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A9ED-6683-4090-8A39-708AF32B10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portant Resul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676520" y="1828800"/>
            <a:ext cx="5756040" cy="2247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895480" y="4191120"/>
            <a:ext cx="3416400" cy="317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209680" y="4572000"/>
            <a:ext cx="4714920" cy="558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438280" y="5105520"/>
            <a:ext cx="4245120" cy="153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2AAF-4B7C-4BD9-8279-E5E62C477B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inished Goods Invent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97040" y="2895480"/>
            <a:ext cx="5743440" cy="2248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843200" y="5165640"/>
            <a:ext cx="5451480" cy="1235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836720" y="2057400"/>
            <a:ext cx="5464080" cy="80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C7B3-2A03-4854-B2A7-C64281733F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portant Resul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697040" y="1790640"/>
            <a:ext cx="5743440" cy="2247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077920" y="4086360"/>
            <a:ext cx="4981680" cy="254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1BA7-A7E5-4EAC-BAD4-5B916A105F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20:22:06Z</dcterms:created>
  <dc:creator>Paul Jensen</dc:creator>
  <dc:description/>
  <dc:language>en-US</dc:language>
  <cp:lastModifiedBy>Paul Jensen</cp:lastModifiedBy>
  <dcterms:modified xsi:type="dcterms:W3CDTF">2004-08-24T16:36:28Z</dcterms:modified>
  <cp:revision>3</cp:revision>
  <dc:subject/>
  <dc:title>Inventories</dc:title>
</cp:coreProperties>
</file>