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411-DE3A-4AAB-AB44-28E9FA87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530-2D17-49CA-98E2-08084402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49D-C133-4CB9-AC6F-79F5ADD9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DE0-48C3-4172-B15F-D665398C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231F-4988-49B9-8A61-23E3C12F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6090-B18C-4AA6-A6DA-A822435A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C33D-59BE-4573-B967-3E1B0189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B12C-AE3A-4F61-828B-EB9464DA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6053-C06C-4B3F-9F10-A8E87D32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5152-66D6-4986-8DCB-DFDCD422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1C41-2221-4283-B73A-1446FD5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14C-66DA-4534-A8EB-C38BBCB3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E42A-0170-46AC-BCFA-129D03E9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FFF8-19B8-416C-84F8-521C424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9F09-EEE3-47FA-BD50-05BEBF86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F057-23C6-4D3F-A0BA-1F140CA9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3C4D-303F-494E-AE14-319ECBDC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8BD-6021-4B26-BC06-526D5C6C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4F3-6AC7-4724-AE54-6A7F1A61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A8B-DF56-43D2-8AF1-0ED97DA2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BDA-CFB9-4855-8A68-4B1D078E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1F0-8085-478E-A877-85E72A2B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5D3-EE67-4F72-99CC-B47559D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D83-014F-42A8-8AF0-61F7EB87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60E-E717-471E-B544-312916CD7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E910-F06D-4B0B-8DFA-8894A77661AE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ct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ct"/><Relationship Id="rId5" Type="http://schemas.openxmlformats.org/officeDocument/2006/relationships/image" Target="../media/image9.pct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and Analysis of Manufactur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in Lo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and transfer 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n machin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n W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: Depends on the production and transfer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ing delays: Depends on lo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011320" y="3060720"/>
            <a:ext cx="5121360" cy="73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7C1-2C43-4199-BCEB-743BF7ED90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il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son and Nonpoiss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25480" y="2590920"/>
            <a:ext cx="569304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313704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800600" y="4724280"/>
            <a:ext cx="2695680" cy="7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3D1-7C86-44F4-ABB9-2D7692960F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uing Network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5349600" cy="74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636560" y="3111480"/>
            <a:ext cx="5870880" cy="927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35400" y="4419720"/>
            <a:ext cx="419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machine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product de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operation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flow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C23-C90B-4FE2-A68B-2A8E3EDB68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terial Move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n for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af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3403800" cy="1689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724280" y="3124080"/>
            <a:ext cx="32292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CF7-A8A7-4198-968E-765CE77EE1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machine assignments and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bottle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roduct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queuing delays, WIP, throughpu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machine assignments and product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apacities (number of mach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queuing delays, WIP, throughp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448-1A6E-4BA5-B9C1-C50D6B21C6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course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understanding of problems and issues in manufacturin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flow models embodying the components of the manufactu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waste in the manufactu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odels to quantify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perations research tools to analyze models and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963-7DC4-4167-AC98-F859897F82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duction system may be very complex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608200" y="1994040"/>
            <a:ext cx="3927600" cy="47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429-89ED-4D3E-90D4-DC76E18E9C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73160" y="1968480"/>
            <a:ext cx="5197680" cy="466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43C-A184-4B11-A010-B5B5360F61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produc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70120" y="2108160"/>
            <a:ext cx="560376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3EA-91A2-47E0-A363-1276F575CF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3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ing and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, OR, Proportion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s with and without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2390760" cy="452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879-DEAE-4CA6-91DD-8AA8B85F1A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cts and Inspe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2271600"/>
            <a:ext cx="1650960" cy="3530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209680" y="2362320"/>
            <a:ext cx="2489400" cy="3568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00600" y="3733920"/>
            <a:ext cx="698400" cy="21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3444840" cy="253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125-AA18-4A95-9C9D-EDAFB057A3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in Process 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P = Flow rate*residenc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28800" y="2743200"/>
            <a:ext cx="5413320" cy="762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380988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66880" y="3505320"/>
            <a:ext cx="5819760" cy="156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3840" y="54100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701800" y="5181480"/>
            <a:ext cx="5832720" cy="10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85E-4737-4F42-893E-0F07E4F67C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5994360" cy="2209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72200" y="2971800"/>
            <a:ext cx="2606760" cy="82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80880" y="4267080"/>
            <a:ext cx="5918400" cy="2349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715000" y="4876920"/>
            <a:ext cx="3228840" cy="82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5C0-2671-44B7-9462-FC08335076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6:37:40Z</dcterms:created>
  <dc:creator>Paul Jensen</dc:creator>
  <dc:description/>
  <dc:language>en-US</dc:language>
  <cp:lastModifiedBy>Paul Jensen</cp:lastModifiedBy>
  <dcterms:modified xsi:type="dcterms:W3CDTF">2004-08-24T18:41:31Z</dcterms:modified>
  <cp:revision>6</cp:revision>
  <dc:subject/>
  <dc:title>Models and Analysis of Manufacturing Systems</dc:title>
</cp:coreProperties>
</file>