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BF5-7C70-4394-B79D-4CF84880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EB5-7586-424C-BFCF-39A7BCC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F7C-F394-462D-AA95-8F14DC33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1FB-D470-4CF4-B921-96FE6E50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56F9-2D81-42F6-A312-7C0C9862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9663-24D7-46FD-B98B-E915AF6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3A05-0F71-4015-92CA-A658880D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CF4-FB07-45BA-A132-5D670B11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F883-A572-4A46-8158-D9F3D9FD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546-9E5C-48D2-BFEA-EC974958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C473-2329-4187-914C-F8AD5520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7C0-6811-4AC1-BBE1-A2BA66E0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925F-7153-4822-B15E-311434C7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92A7-40A8-4811-8FE0-AEFF848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030E-FCD9-4B87-A141-AD62F7A6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B8DF-C6AD-4D60-AB15-C08F6980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827E-EF45-40E3-B16E-87DB6A6D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339-1FE4-471E-B05D-9E8B314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09E-8501-4271-B27E-F2A6D9BE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FE0-4A49-4FB1-8E5B-5E15AB2C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273-3715-419F-A510-DB83ED8C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CFF-6A67-4315-9FA7-31B1A03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C25-D735-4C8C-8359-D4E4CB3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956-7E36-4334-B58D-CA4A8CBC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1CA-6476-44DD-9FF9-84AC7B59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778F-9832-48D1-B347-A0D5098948DD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and Analysis of Production Syst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course will do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understanding of problems and issues in production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models to describe the components of  producti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models to describe the system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perations research tools to analyze models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quantify and alleviate waste in the manufactu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1E2-7C21-49D9-9257-CCB2E54807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System Desig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 - (Latin - produce by han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- Broader word  - Something that is produced by physical or intellectual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 - Goods - Services -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ords are practically synonyms; making something someone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dealing with organizations that produce a good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142-6EB1-46F6-8E41-B079EDFC87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duction System Desig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: Collection of components that accomplish p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: Provide the detailed specification for th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 designs and operates the system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62E-A39E-48AA-80AF-47AA6EB64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ctional nature of busine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6200640" cy="45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7F2-F4A2-4F6E-8A5D-076E0BD353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issues make integrated design difficul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cular design problem falls within a hierarchy of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activity must recognize impacts on other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affect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54D-E127-4648-A496-E84FE5059A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erarchy of desig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1480" y="2057400"/>
            <a:ext cx="57945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D72-F954-402A-B1B8-74A73329C2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s within the levels of the hierarch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254304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B44-A78A-4CB8-8186-F713C9AF9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erarchy between design and op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06600" y="2171880"/>
            <a:ext cx="612468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76A-BC27-40B2-8767-7D718DF8B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ing integration through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35320" y="1270080"/>
            <a:ext cx="4308480" cy="49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9F5-59D3-45C5-AD03-FFC73C1BAE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26:54Z</dcterms:created>
  <dc:creator>Paul Jensen</dc:creator>
  <dc:description/>
  <dc:language>en-US</dc:language>
  <cp:lastModifiedBy>Paul Jensen</cp:lastModifiedBy>
  <dcterms:modified xsi:type="dcterms:W3CDTF">2004-08-24T18:35:12Z</dcterms:modified>
  <cp:revision>4</cp:revision>
  <dc:subject/>
  <dc:title>Basic Industrial Engineering</dc:title>
</cp:coreProperties>
</file>