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275-4AC9-406F-ACAC-70DE9FE6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01C-9F3D-43DA-8DAE-A6E263D2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8F4-2DCA-40F8-B490-B8645601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042-3792-4080-8DDF-7D980DF0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C3B8-8B9B-43AC-B4BD-7BF6A318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516-9455-49FF-B1B4-8A3DEA7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9AA6-AF8F-40AC-AD29-6E248F00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8B11-B8C6-411A-A9F4-7D5D9663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3C78-56B8-4253-821C-3CDB685F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8F67-4D24-427F-8A5A-FF4D4B1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599-FFEB-4F45-B33E-4304F1E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3BF-D8CA-4E1D-A31B-BAEECBC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1761-0BBC-45FF-BCB4-1F7328DA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B976-AEF7-4E02-8266-C4767FC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616-AA94-4CA9-8482-68D6A228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223D-2598-40E0-91F9-F72046C6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851E-18FC-4A54-B1C9-E58E4725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487-DDE1-48DB-8DAC-AD44D71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6A5-80A5-4D75-9A23-889ED29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305-5EAC-4C6D-91F4-79434151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576-196D-4C8A-BF67-9B73682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B68-F67B-4E62-9833-E989D1C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C0D-C203-4100-8E8B-8DD746D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A40-450C-46FB-8F07-A7A9343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B567-9B2D-4D30-80DA-35AC0A89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ADC7-6846-45A8-B435-9E2035D2B70B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ct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715320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e Probabilit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that the system is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n in the system for n ≤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n in the system for n &gt;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067280" cy="1155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819520" y="4267080"/>
            <a:ext cx="37843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86000" y="5791320"/>
            <a:ext cx="48798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DDE-9862-4B34-A3B2-77055140C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Number and Ti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91120" y="2133720"/>
            <a:ext cx="3647880" cy="147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114800" y="4114800"/>
            <a:ext cx="3749760" cy="1155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191120" y="5638680"/>
            <a:ext cx="93960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497-DA18-4B67-99F3-60060FBD41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ing Network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89000" y="2301840"/>
            <a:ext cx="517212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5DE-6122-4839-A697-E857E36B8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ce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 All stations have exponential service times and unlimited queues and all inputs to the system are Poisson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:  Each station can be analyzed independently with queuing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:  System characteristics can be determined by summing station character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F67-345D-475B-A19B-34CCEE199D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the Job Sho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454644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3419640" cy="927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2362320" y="4648320"/>
            <a:ext cx="4727520" cy="123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38F-E1CC-4A05-8A20-B11904BEF3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ing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11480" y="2168640"/>
            <a:ext cx="4727520" cy="2514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52480" y="4876920"/>
            <a:ext cx="5654880" cy="12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6DE-C92E-41DB-8177-5B81ACD256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Characterist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11480" y="2168640"/>
            <a:ext cx="4727520" cy="2514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52480" y="4952880"/>
            <a:ext cx="5591160" cy="119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A63-4EE0-4C4A-92C1-1123EF201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s Performing More than One Op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2971800" cy="2768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886200" y="2209680"/>
            <a:ext cx="457524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9CA-2B0F-4329-879D-2612327B88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s Processed in Lo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2438280" cy="2273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600200" y="4648320"/>
            <a:ext cx="5705640" cy="17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938-0FED-41A0-AFCF-592E580842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 of producing in lo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74920" y="2600280"/>
            <a:ext cx="6200640" cy="165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2BA-7C60-4FFD-8743-B789439FCB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machine performs an operation for a unit of produc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peration time is 30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arrive at the station with an average time between arrivals of 40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room for three waiting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C19-9969-472E-9D58-9361D90E6F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vs. lot production (neglecting setup time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number of stations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ffic intensity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number in the queue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:  For individual production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t produc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t production, WIP is Q times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t production, W and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Q times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228-7C48-47D3-8A48-B538EEEFB5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setup ti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ime increases the minimum number of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ime increases the traffic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s are reduced by increasing the lo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ncreasing the lot size increases WIP and throughput time by a factor of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3479760" cy="6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C90-DC97-44E0-9C75-E1B6565F9D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f A is 0.417 per minute, and production of B is 0.8333 per min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828800" y="2146320"/>
            <a:ext cx="5400720" cy="74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9556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4168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9888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608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1328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7048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092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8812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4532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252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5972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16920" y="59468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95560" y="4457880"/>
            <a:ext cx="5261040" cy="1498680"/>
            <a:chOff x="2095560" y="4457880"/>
            <a:chExt cx="5261040" cy="1498680"/>
          </a:xfrm>
        </p:grpSpPr>
        <p:grpSp>
          <p:nvGrpSpPr>
            <p:cNvPr id="204" name=""/>
            <p:cNvGrpSpPr/>
            <p:nvPr/>
          </p:nvGrpSpPr>
          <p:grpSpPr>
            <a:xfrm>
              <a:off x="2095560" y="4457880"/>
              <a:ext cx="5133960" cy="1333800"/>
              <a:chOff x="2095560" y="4457880"/>
              <a:chExt cx="5133960" cy="1333800"/>
            </a:xfrm>
          </p:grpSpPr>
          <p:sp>
            <p:nvSpPr>
              <p:cNvPr id="205" name=""/>
              <p:cNvSpPr/>
              <p:nvPr/>
            </p:nvSpPr>
            <p:spPr>
              <a:xfrm>
                <a:off x="2216520" y="4489560"/>
                <a:ext cx="342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p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5084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0804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6524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2244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108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3828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9548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268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09880" y="448956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29280" y="4489560"/>
                <a:ext cx="153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9556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95560" y="4457880"/>
                <a:ext cx="144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20760" y="4457880"/>
                <a:ext cx="508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5428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4168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66880" y="4457880"/>
                <a:ext cx="41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1148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9888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24080" y="4457880"/>
                <a:ext cx="41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6868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5608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81280" y="4457880"/>
                <a:ext cx="41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2588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01328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38480" y="4457880"/>
                <a:ext cx="41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8308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7048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95680" y="4457880"/>
                <a:ext cx="422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4352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3092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56120" y="4457880"/>
                <a:ext cx="41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0072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38812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13320" y="4457880"/>
                <a:ext cx="41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5792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4532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70520" y="4457880"/>
                <a:ext cx="41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1512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0252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27720" y="4457880"/>
                <a:ext cx="41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2320" y="448308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5972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84920" y="4457880"/>
                <a:ext cx="41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16920" y="44578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16920" y="4457880"/>
                <a:ext cx="144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95560" y="4483080"/>
                <a:ext cx="144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4168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9888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5608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1328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7048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3092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8812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4532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0252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59720" y="4483080"/>
                <a:ext cx="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216920" y="4483080"/>
                <a:ext cx="144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120" y="4654440"/>
                <a:ext cx="4701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m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41720" y="4807080"/>
                <a:ext cx="2764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i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65240" y="465444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81080" y="465444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57680" y="4654440"/>
                <a:ext cx="153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509880" y="465444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95560" y="4635360"/>
                <a:ext cx="1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20760" y="4635360"/>
                <a:ext cx="508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4168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54280" y="463536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9888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11480" y="463536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5608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68680" y="463536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1328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5880" y="463536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7048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83080" y="4635360"/>
                <a:ext cx="434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3092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943520" y="463536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8812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00720" y="463536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4532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57920" y="463536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0252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15120" y="463536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59720" y="463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72320" y="463536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216920" y="4635360"/>
                <a:ext cx="1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95560" y="4648320"/>
                <a:ext cx="1440" cy="291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4168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9888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55608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1328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048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3092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8812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4532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0252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59720" y="4648320"/>
                <a:ext cx="144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16920" y="4648320"/>
                <a:ext cx="1440" cy="291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65760" y="4971960"/>
                <a:ext cx="4626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m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41720" y="5126040"/>
                <a:ext cx="2764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i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27080" y="4971960"/>
                <a:ext cx="153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1480" y="4971960"/>
                <a:ext cx="153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57680" y="4971960"/>
                <a:ext cx="153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72080" y="4971960"/>
                <a:ext cx="153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95560" y="4952880"/>
                <a:ext cx="1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20760" y="4952880"/>
                <a:ext cx="508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4168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54280" y="495288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9888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11480" y="495288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5608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68680" y="495288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1328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25880" y="495288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7048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83080" y="4952880"/>
                <a:ext cx="434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3092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43520" y="495288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8812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00720" y="495288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4532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57920" y="495288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0252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15120" y="495288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59720" y="4952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72320" y="495288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216920" y="4952880"/>
                <a:ext cx="1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95560" y="4965840"/>
                <a:ext cx="1440" cy="29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4168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9888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5608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1328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7048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092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8812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4532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0252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59720" y="4965840"/>
                <a:ext cx="144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16920" y="4965840"/>
                <a:ext cx="1440" cy="29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8400" y="5291280"/>
                <a:ext cx="2721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8040" y="5443560"/>
                <a:ext cx="3146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71116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6836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62556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08276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3996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99860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5580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1300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70200" y="529128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67080" y="5291280"/>
                <a:ext cx="770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95560" y="5273640"/>
                <a:ext cx="1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20760" y="5273640"/>
                <a:ext cx="508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4168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54280" y="527364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9888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111480" y="527364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5608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568680" y="527364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1328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025880" y="5273640"/>
                <a:ext cx="43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048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83080" y="5273640"/>
                <a:ext cx="434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93092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43520" y="527364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8812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400720" y="527364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4532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57920" y="527364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0252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15120" y="527364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59720" y="5273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72320" y="5273640"/>
                <a:ext cx="431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216920" y="5273640"/>
                <a:ext cx="1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95560" y="5286240"/>
                <a:ext cx="14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4168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9888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55608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1328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7048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93092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8812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4532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0252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59720" y="5286240"/>
                <a:ext cx="144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16920" y="5286240"/>
                <a:ext cx="14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178000" y="5608800"/>
                <a:ext cx="4273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P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63720" y="5608800"/>
                <a:ext cx="2674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78120" y="5608800"/>
                <a:ext cx="2674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.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55800" y="560880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33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70200" y="5608800"/>
                <a:ext cx="3438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.3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95560" y="5591160"/>
                <a:ext cx="1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20760" y="5591160"/>
                <a:ext cx="508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641680" y="5591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54280" y="5591160"/>
                <a:ext cx="432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98880" y="5591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1480" y="5591160"/>
                <a:ext cx="432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56080" y="5591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68680" y="5591160"/>
                <a:ext cx="432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013280" y="5591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25880" y="5591160"/>
              <a:ext cx="43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70480" y="5591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83080" y="5591160"/>
              <a:ext cx="43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30920" y="5591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43520" y="559116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88120" y="5591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00720" y="559116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45320" y="5591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57920" y="559116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02520" y="5591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5120" y="559116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59720" y="5591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72320" y="559116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16920" y="5591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5560" y="560376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4168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88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5608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1328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7048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3092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8812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4532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0252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59720" y="56037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16920" y="560376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77640" y="5773680"/>
              <a:ext cx="419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63720" y="577368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39960" y="5773680"/>
              <a:ext cx="3438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2.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55800" y="5773680"/>
              <a:ext cx="3438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.2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70200" y="5773680"/>
              <a:ext cx="3438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.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5560" y="57564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0760" y="5756400"/>
              <a:ext cx="508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4168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54280" y="5756400"/>
              <a:ext cx="43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9888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11480" y="5756400"/>
              <a:ext cx="43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5608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68680" y="5756400"/>
              <a:ext cx="43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328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25880" y="5756400"/>
              <a:ext cx="43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048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83080" y="5756400"/>
              <a:ext cx="43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092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3520" y="575640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8812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00720" y="575640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532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57920" y="575640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0252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15120" y="575640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59720" y="5756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72320" y="5756400"/>
              <a:ext cx="4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16920" y="57564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95560" y="576900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9556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95560" y="5921280"/>
              <a:ext cx="144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20760" y="5921280"/>
              <a:ext cx="508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168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4168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66880" y="5921280"/>
              <a:ext cx="419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9888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9888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921280"/>
              <a:ext cx="419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5608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81280" y="5921280"/>
              <a:ext cx="419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1328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1328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38480" y="5921280"/>
              <a:ext cx="419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7048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7048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95680" y="5921280"/>
              <a:ext cx="422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3092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3092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6120" y="5921280"/>
              <a:ext cx="41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812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8812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13320" y="5921280"/>
              <a:ext cx="41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4532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4532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70520" y="5921280"/>
              <a:ext cx="41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252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0252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27720" y="5921280"/>
              <a:ext cx="41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59720" y="5769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5972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84920" y="5921280"/>
              <a:ext cx="41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16920" y="576900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16920" y="5921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16920" y="5921280"/>
              <a:ext cx="144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42120" y="5921280"/>
              <a:ext cx="11448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CBB-0D29-40FE-811D-D11D1AE488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Station 3 for flows in individual uni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483-DABD-44DD-AF75-EED7418E84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mach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2128680" y="1930320"/>
            <a:ext cx="489276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B45-9CEF-4F69-9C8B-D86C3A492B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Station 3 for flows in lots of 10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828-42EF-4B36-83A2-F764C9B433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val and service processes are consta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rate: 1.5/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rate:  2/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162920" y="2743200"/>
            <a:ext cx="6094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C10-10BB-4681-B668-50E172EF4C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val process is ran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 process is consta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rate: 1.5/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Service rate:  2/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6094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D3A-AE42-45A7-8F32-7BEF464667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val and service processes are rando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50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Arrival rate: 1.5/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Service rate:  2/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2514600"/>
            <a:ext cx="60984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91E-0AE9-4359-9CBA-85A8661878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210-1B08-402A-B3B4-992517114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Determination of System Characterist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5298840" cy="2400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84600" y="4689360"/>
            <a:ext cx="12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84600" y="4917960"/>
            <a:ext cx="12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84600" y="5146560"/>
            <a:ext cx="12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4600" y="5375160"/>
            <a:ext cx="12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4680" y="560880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6280" y="5608800"/>
            <a:ext cx="192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04840" y="4689360"/>
            <a:ext cx="3012120" cy="1143000"/>
            <a:chOff x="1104840" y="4689360"/>
            <a:chExt cx="3012120" cy="1143000"/>
          </a:xfrm>
        </p:grpSpPr>
        <p:sp>
          <p:nvSpPr>
            <p:cNvPr id="123" name=""/>
            <p:cNvSpPr/>
            <p:nvPr/>
          </p:nvSpPr>
          <p:spPr>
            <a:xfrm>
              <a:off x="1174320" y="46944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7720" y="4694400"/>
              <a:ext cx="88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 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4840" y="4689360"/>
              <a:ext cx="12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98600" y="4689360"/>
              <a:ext cx="12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4320" y="4923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65920" y="4923000"/>
              <a:ext cx="13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tion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4840" y="4917960"/>
              <a:ext cx="12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98600" y="4917960"/>
              <a:ext cx="12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4320" y="5151600"/>
              <a:ext cx="22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2560" y="515160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30000" y="515160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66640" y="5151600"/>
              <a:ext cx="87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04840" y="5146560"/>
              <a:ext cx="12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8600" y="5146560"/>
              <a:ext cx="12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4320" y="5380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6640" y="5380200"/>
              <a:ext cx="175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tion volu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4840" y="5375160"/>
              <a:ext cx="12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98600" y="5375160"/>
              <a:ext cx="12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4840" y="5603760"/>
              <a:ext cx="12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8600" y="5603760"/>
              <a:ext cx="12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84600" y="5603760"/>
            <a:ext cx="12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8320" y="4572000"/>
            <a:ext cx="3978000" cy="139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C51-621B-4116-AC05-C73E9E5751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analytical purpo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service and interarrival times have exponential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242120" cy="2857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3429000" y="3429000"/>
            <a:ext cx="2743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8F2-5272-4FEA-A7DE-DFF24C63B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ant to compute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Number and Time in th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Number and Time in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Uti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BAC-6468-4288-B4FF-5D83B1585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6:59:41Z</dcterms:created>
  <dc:creator>Paul Jensen</dc:creator>
  <dc:description/>
  <dc:language>en-US</dc:language>
  <cp:lastModifiedBy>Paul Jensen</cp:lastModifiedBy>
  <dcterms:modified xsi:type="dcterms:W3CDTF">2004-08-24T18:39:53Z</dcterms:modified>
  <cp:revision>8</cp:revision>
  <dc:subject/>
  <dc:title>Delays Due to Variability</dc:title>
</cp:coreProperties>
</file>