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9.pct" ContentType="image/x-pict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2AA9-D0A4-4C76-AB2A-5C0EC8D3D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8335-7304-43BD-9EA5-305AE8B0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AE67-9E0F-43EE-913B-AC556D2B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92BF-8E39-4104-BFFC-63770F432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976F-F482-477F-8A2B-4B617C349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3990-9491-4DD6-B630-9EF0F4EC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5E15-B9EF-4D61-B250-DA30EAD5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D230-648E-4EC7-BF71-62B8D24A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933C-3FDF-40DF-B8D7-8B3B0BE6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331E-3C5C-4807-B0EE-E652D335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738D-4FF9-4F4B-8335-35131971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2C6A-03BD-40EC-A23B-382B56CD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5ED3-617F-47A8-AED9-B2F2BEB8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B15E-33FB-42C7-9697-F6B4F198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9D8E-A462-4DE7-BA53-93495413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C082-1117-4A86-B223-C5193353C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42A0-8F01-44C4-8077-934D5662A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C31A0-A240-40F1-898D-0B92D8C5F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6851E-86FD-4C1C-B14A-49B343E6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F9B0B-0E05-4BFA-82DC-6A5835CE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924CC-699C-4E3C-814D-F9C34CF7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BEA38-56CB-4A1B-8335-42A7510A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98F3-3278-4796-A1AA-7A464310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367F2-DF09-4D1F-A10D-C4360AAF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40245-B62F-4DAE-A15D-FE9663E4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83DA1-1A44-40B0-8B05-361AD7C3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2AD79-2957-4645-ACA0-8AF470B8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A70A4-9C2A-4C93-9B38-52ECE105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D495C-B750-410E-9628-3671727B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657FE-EFBB-4F40-9A5D-20FD13FE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DE96-B166-4CE5-A25C-3C7B9A99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6537-5799-4C58-8CA0-D9B6E800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2CC3-5BDA-4425-8BA8-ACE5ABEA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B8DF-7CFD-4CE3-BFCD-6A0B7B9F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D546-4D8A-4621-9FFD-10901A72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ADAE-92E1-47A8-B286-46387260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1EE6-7983-4B73-89B0-69F489E46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ul A. J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rations Research Models and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4 - All rights reserve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CD90-9187-4AD6-BF96-A180F7D46B77}" type="slidenum">
              <a:rPr b="0" lang="en-US" sz="12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0A64-A9A1-4660-B849-7FDF6F465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image" Target="../media/image9.pct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s for the Production Syste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8/24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odels must describe multiple produc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779480" y="2197080"/>
            <a:ext cx="5591160" cy="382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56A5-0C3F-47EA-9E0C-E444F9292B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Goal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models to answer significant design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perations research tools to provide assistance to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862A-FFDD-4176-A72B-B57C1975F1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Homework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manufacture probl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some simpl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 an operations process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estimates of the important parameters for each operation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9FC0-F19C-4743-9E22-CC4CB7D744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his course will do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understanding of problems and issues in manufacturing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flow models embodying the components of the manufactur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perations research tools to analyze models and make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waste in the manufactur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models to quantify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models for decisions to alleviate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CE47-74F3-4721-8203-4741C5D6C3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342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duction system may be very comp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99072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5C8FF-AB1E-4307-9761-8BC6A343A0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y design issues arise for the production syste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817640" y="2120760"/>
            <a:ext cx="5515200" cy="405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6E6C-F259-4FB5-8C80-EBF9438CA0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process is described by its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297080" y="2158920"/>
            <a:ext cx="6556320" cy="401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05D9-CB40-47BC-AF62-794C1365A5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 process designs with the same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822240" y="1676520"/>
            <a:ext cx="7331040" cy="471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F94D-9F6E-4D2E-B5FC-3497C230AF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rocess model admits greater detail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927080" y="1892160"/>
            <a:ext cx="5540400" cy="496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556B-1B94-4EFD-AFE7-8DA49550C6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parameters describe compon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atio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p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133720" y="2514600"/>
            <a:ext cx="5032080" cy="673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716120" y="3772080"/>
            <a:ext cx="5718240" cy="1028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2116080" y="5283360"/>
            <a:ext cx="4917960" cy="119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3DE0-E4F3-43C9-84F0-9256EBCBC9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s Involving Wait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ays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900080" y="2895480"/>
            <a:ext cx="5349960" cy="584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951200" y="4686480"/>
            <a:ext cx="5248080" cy="57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4B23-0350-4A0F-B607-068458DC0A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20:07:54Z</dcterms:created>
  <dc:creator>Paul Jensen</dc:creator>
  <dc:description/>
  <dc:language>en-US</dc:language>
  <cp:lastModifiedBy>Paul Jensen</cp:lastModifiedBy>
  <dcterms:modified xsi:type="dcterms:W3CDTF">2004-08-24T18:36:06Z</dcterms:modified>
  <cp:revision>3</cp:revision>
  <dc:subject/>
  <dc:title>Models for the Manufacturing System</dc:title>
</cp:coreProperties>
</file>