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9A8-5782-43C8-A4E3-698523D4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1F9-DF9A-4121-9EA8-43DFCFC3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503-C712-4699-AFFF-944E175C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EEE-9D01-4C85-8DCB-5C158856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604A-8674-4B25-8758-EB889C8B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6080-A21C-4C6E-9851-3047BBDF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37E9-A685-4C6F-A8E0-F3ED72E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1DAA-4D1C-4B3F-A1DD-6E16A69E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E731-656C-4339-AE9A-DCD85DD5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C7E6-0A1A-4914-9C8D-4C9069DD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1465-61A5-4B6B-9098-D26EA88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55A-7248-42BD-97F9-6B22E53C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B9F0-A727-4060-A675-CEF29E0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D3E0-3F4A-4579-994F-5D1B7D1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EFDB-BDA0-4EE1-B63E-452550CB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EDC-B88E-4852-BDA3-B2BC9706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6B44-67D5-4A8E-8236-A4C529EE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FF9-C829-41ED-9F62-C7B1B84A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A9C-250D-4029-B0AA-4BBFBA89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FEF-2D9D-4CC0-9F53-1AD4A327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F82-AD86-4140-9C04-81CE752D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7B0-C43E-469D-AD1D-FE386378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7D0-7A51-4E6C-BF7B-F77CD7DF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83C-31E4-4510-9195-ED76A848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C0B5-A9EA-48E2-BA53-4B4381AE6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566-DF32-4199-BF14-1E9C09056B65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ct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Ti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plex flow rou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906480" y="2540160"/>
            <a:ext cx="7331040" cy="302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1FF-F833-44CE-823F-9C9D280EB8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906480" y="2070000"/>
            <a:ext cx="7331040" cy="42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46B-1A4B-425D-941F-73DABB1622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906480" y="1930320"/>
            <a:ext cx="733104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84B-E8CC-4F1F-B75A-9EF6BEFBD7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with defects routed through the whole 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906480" y="2590920"/>
            <a:ext cx="7331040" cy="126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759-563D-4302-9390-85D54F637D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 time depends on processing time and setup ti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time is the time required to process one unit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up time is the time to setup a machine for a single batch or lot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11400" y="3962520"/>
            <a:ext cx="6721200" cy="17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2F1-2555-43DC-B3A7-E883CBF713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times for an operation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to process one piece at the operation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eration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used on the operation to produce one finished good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production volume 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304560" cy="58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97280" y="4457880"/>
            <a:ext cx="1549440" cy="49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429000" y="5499000"/>
            <a:ext cx="2286000" cy="5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E96-23EE-4067-B840-BE4D387700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194292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3480" y="415620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18120" y="415620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76800" y="4156200"/>
            <a:ext cx="176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35840" y="415620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1920" y="4156200"/>
            <a:ext cx="140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42400" y="4156200"/>
            <a:ext cx="140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999640" y="4156200"/>
            <a:ext cx="172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8520" y="2165400"/>
            <a:ext cx="1110600" cy="2019240"/>
            <a:chOff x="6248520" y="2165400"/>
            <a:chExt cx="1110600" cy="2019240"/>
          </a:xfrm>
        </p:grpSpPr>
        <p:sp>
          <p:nvSpPr>
            <p:cNvPr id="118" name=""/>
            <p:cNvSpPr/>
            <p:nvPr/>
          </p:nvSpPr>
          <p:spPr>
            <a:xfrm>
              <a:off x="6577200" y="21733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8520" y="2165400"/>
              <a:ext cx="1404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05400" y="2165400"/>
              <a:ext cx="1728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61720" y="23572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2351160"/>
              <a:ext cx="140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05400" y="2351160"/>
              <a:ext cx="172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30400" y="255564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9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48520" y="2533680"/>
              <a:ext cx="1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2560" y="2533680"/>
              <a:ext cx="926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05400" y="25336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48520" y="2549520"/>
              <a:ext cx="108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05400" y="254952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30400" y="275760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3.47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2733480"/>
              <a:ext cx="1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2560" y="2733480"/>
              <a:ext cx="926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05400" y="273348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8520" y="2749320"/>
              <a:ext cx="108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05400" y="274932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30400" y="295740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54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2935080"/>
              <a:ext cx="1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2560" y="2935080"/>
              <a:ext cx="926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05400" y="293508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8520" y="2949480"/>
              <a:ext cx="108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05400" y="2949480"/>
              <a:ext cx="144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30400" y="315576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41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8520" y="3133800"/>
              <a:ext cx="1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62560" y="3133800"/>
              <a:ext cx="926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5400" y="313380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520" y="3147840"/>
              <a:ext cx="108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05400" y="314784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0400" y="335592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.35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520" y="3333600"/>
              <a:ext cx="1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2560" y="3333600"/>
              <a:ext cx="926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5400" y="333360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3349440"/>
              <a:ext cx="108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05400" y="334944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3960" y="355752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0.58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8520" y="3533760"/>
              <a:ext cx="1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2560" y="3533760"/>
              <a:ext cx="926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05400" y="353376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48520" y="3549600"/>
              <a:ext cx="108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05400" y="3549600"/>
              <a:ext cx="14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30400" y="375768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.3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48520" y="3735360"/>
              <a:ext cx="1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62560" y="3735360"/>
              <a:ext cx="926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05400" y="373536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3749760"/>
              <a:ext cx="108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05400" y="3749760"/>
              <a:ext cx="14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30400" y="395604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33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48520" y="3933720"/>
              <a:ext cx="1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2560" y="3933720"/>
              <a:ext cx="926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05400" y="393372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520" y="3948120"/>
              <a:ext cx="108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48520" y="4133880"/>
              <a:ext cx="1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62560" y="4133880"/>
              <a:ext cx="926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05400" y="394812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05400" y="41338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23040" y="4133880"/>
              <a:ext cx="1360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73480" y="2168640"/>
            <a:ext cx="2855880" cy="2022480"/>
            <a:chOff x="3273480" y="2168640"/>
            <a:chExt cx="2855880" cy="2022480"/>
          </a:xfrm>
        </p:grpSpPr>
        <p:sp>
          <p:nvSpPr>
            <p:cNvPr id="177" name=""/>
            <p:cNvSpPr/>
            <p:nvPr/>
          </p:nvSpPr>
          <p:spPr>
            <a:xfrm>
              <a:off x="3401640" y="217980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240" y="21765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29080" y="21765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3480" y="2171880"/>
              <a:ext cx="15840" cy="18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18120" y="2171880"/>
              <a:ext cx="15840" cy="18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84720" y="2168640"/>
              <a:ext cx="1440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39600" y="236052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23040" y="2360520"/>
              <a:ext cx="54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3480" y="2357280"/>
              <a:ext cx="158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18120" y="2357280"/>
              <a:ext cx="158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84720" y="2354400"/>
              <a:ext cx="144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2320" y="25621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08640" y="255888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9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1640" y="255888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73480" y="25401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89320" y="254016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18120" y="254016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33960" y="254016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94440" y="254016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54480" y="253692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4720" y="2536920"/>
              <a:ext cx="1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9120" y="2536920"/>
              <a:ext cx="9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3480" y="2556000"/>
              <a:ext cx="1440" cy="169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18120" y="2556000"/>
              <a:ext cx="1440" cy="169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4720" y="2552760"/>
              <a:ext cx="180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12320" y="2763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08640" y="276084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7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61640" y="27608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3480" y="273996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89320" y="2739960"/>
              <a:ext cx="914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18120" y="273996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33960" y="2739960"/>
              <a:ext cx="92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94440" y="2739960"/>
              <a:ext cx="92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54480" y="2736720"/>
              <a:ext cx="914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4720" y="2736720"/>
              <a:ext cx="1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99120" y="2736720"/>
              <a:ext cx="93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73480" y="275580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18120" y="275580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84720" y="2752560"/>
              <a:ext cx="180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12320" y="29638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08640" y="296064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3.08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1640" y="29606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73480" y="294156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89320" y="2941560"/>
              <a:ext cx="914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18120" y="294156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33960" y="2941560"/>
              <a:ext cx="92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94440" y="2941560"/>
              <a:ext cx="92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54480" y="2938320"/>
              <a:ext cx="914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4720" y="2938320"/>
              <a:ext cx="1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99120" y="2938320"/>
              <a:ext cx="93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3480" y="2955960"/>
              <a:ext cx="14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8120" y="2955960"/>
              <a:ext cx="14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84720" y="29527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12320" y="31622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08640" y="315900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38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1640" y="31590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73480" y="313992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89320" y="3139920"/>
              <a:ext cx="914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18120" y="3139920"/>
              <a:ext cx="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3960" y="3139920"/>
              <a:ext cx="92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94440" y="3139920"/>
              <a:ext cx="92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480" y="313704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84720" y="3137040"/>
              <a:ext cx="1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99120" y="3137040"/>
              <a:ext cx="9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3480" y="315432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18120" y="315432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4720" y="3151080"/>
              <a:ext cx="180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12320" y="3362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08640" y="335916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.8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1640" y="335916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73480" y="334008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89320" y="334008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18120" y="334008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33960" y="334008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94440" y="334008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4480" y="3336840"/>
              <a:ext cx="914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4720" y="3336840"/>
              <a:ext cx="1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99120" y="3336840"/>
              <a:ext cx="93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73480" y="335592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8120" y="335592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4720" y="3352680"/>
              <a:ext cx="180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12320" y="3564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08640" y="356076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.2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1640" y="356076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73480" y="354024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89320" y="354024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18120" y="354024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33960" y="354024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94440" y="354024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4480" y="353700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4720" y="3537000"/>
              <a:ext cx="1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99120" y="3537000"/>
              <a:ext cx="9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73480" y="3556080"/>
              <a:ext cx="14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18120" y="3556080"/>
              <a:ext cx="14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4720" y="3552840"/>
              <a:ext cx="180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12320" y="37638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08640" y="376092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.76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1640" y="376092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73480" y="374184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89320" y="374184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18120" y="374184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33960" y="374184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94440" y="374184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54480" y="373860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4720" y="3738600"/>
              <a:ext cx="1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99120" y="3738600"/>
              <a:ext cx="9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3480" y="3755880"/>
              <a:ext cx="144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18120" y="3755880"/>
              <a:ext cx="144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84720" y="3753000"/>
              <a:ext cx="180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12320" y="39625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8640" y="395928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1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1640" y="395928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73480" y="394020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89320" y="394020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18120" y="394020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33960" y="394020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94440" y="394020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54480" y="3936960"/>
              <a:ext cx="914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4720" y="3936960"/>
              <a:ext cx="1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99120" y="3936960"/>
              <a:ext cx="93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3480" y="3954600"/>
              <a:ext cx="1440" cy="169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73480" y="41403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89320" y="414036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8120" y="3954600"/>
              <a:ext cx="1440" cy="169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4140360"/>
              <a:ext cx="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33960" y="414036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94440" y="4140360"/>
              <a:ext cx="927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4480" y="4137120"/>
              <a:ext cx="914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84720" y="3951360"/>
              <a:ext cx="180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84720" y="4137120"/>
              <a:ext cx="1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99120" y="4137120"/>
              <a:ext cx="9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27920" y="253044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9" name=""/>
          <p:cNvGraphicFramePr/>
          <p:nvPr/>
        </p:nvGraphicFramePr>
        <p:xfrm>
          <a:off x="6248520" y="4419720"/>
          <a:ext cx="99036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419720"/>
                    <a:ext cx="990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870-7766-4F5E-83BE-76535572C0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Line with defects and inspe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295280" y="2514600"/>
            <a:ext cx="6658200" cy="800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556080" y="442260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52960" y="442260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53080" y="442260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49960" y="442260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6840" y="442260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43720" y="442260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40600" y="442260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866960" y="3695760"/>
            <a:ext cx="5400720" cy="765000"/>
            <a:chOff x="1866960" y="3695760"/>
            <a:chExt cx="5400720" cy="765000"/>
          </a:xfrm>
        </p:grpSpPr>
        <p:sp>
          <p:nvSpPr>
            <p:cNvPr id="321" name=""/>
            <p:cNvSpPr/>
            <p:nvPr/>
          </p:nvSpPr>
          <p:spPr>
            <a:xfrm>
              <a:off x="3346200" y="4186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50760" y="418608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47640" y="418608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5960" y="418608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42840" y="418608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39720" y="418608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36600" y="418608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66960" y="3695760"/>
              <a:ext cx="5400720" cy="765000"/>
              <a:chOff x="1866960" y="3695760"/>
              <a:chExt cx="5400720" cy="765000"/>
            </a:xfrm>
          </p:grpSpPr>
          <p:sp>
            <p:nvSpPr>
              <p:cNvPr id="329" name=""/>
              <p:cNvSpPr/>
              <p:nvPr/>
            </p:nvSpPr>
            <p:spPr>
              <a:xfrm>
                <a:off x="2100600" y="3701880"/>
                <a:ext cx="916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per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71400" y="370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03400" y="3701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00280" y="3701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98600" y="3701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95480" y="3701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92360" y="3701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89240" y="3701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66960" y="36957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25960" y="36957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56080" y="36957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52960" y="36957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3080" y="36957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49960" y="36957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946840" y="36957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543720" y="36957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40600" y="36957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10960" y="3944880"/>
                <a:ext cx="1058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per. Ti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71400" y="3944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03400" y="3944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400280" y="3944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98600" y="3944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595480" y="3944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92360" y="3944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89240" y="3944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66960" y="3924360"/>
                <a:ext cx="13590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25960" y="3924360"/>
                <a:ext cx="33012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56080" y="3924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68680" y="392436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52960" y="3924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165560" y="3924360"/>
                <a:ext cx="574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3080" y="3924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65680" y="3924360"/>
                <a:ext cx="57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49960" y="3924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62560" y="392436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46840" y="3924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59440" y="392436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543720" y="3924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6320" y="392436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40600" y="3924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866960" y="3936960"/>
                <a:ext cx="12600" cy="23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225960" y="3936960"/>
                <a:ext cx="12600" cy="23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556080" y="3936960"/>
                <a:ext cx="14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52960" y="3936960"/>
                <a:ext cx="14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3080" y="3936960"/>
                <a:ext cx="14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49960" y="3936960"/>
                <a:ext cx="14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6840" y="3936960"/>
                <a:ext cx="14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43720" y="3936960"/>
                <a:ext cx="14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140600" y="3936960"/>
                <a:ext cx="14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75760" y="4186080"/>
                <a:ext cx="934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nit Fl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66960" y="4168800"/>
                <a:ext cx="13590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225960" y="4168800"/>
                <a:ext cx="33012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56080" y="4168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568680" y="416880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52960" y="4168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65560" y="4168800"/>
                <a:ext cx="574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3080" y="4168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65680" y="4168800"/>
                <a:ext cx="57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49960" y="4168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62560" y="416880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946840" y="4168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59440" y="416880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543720" y="4168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556320" y="416880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168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66960" y="418140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66960" y="4410000"/>
                <a:ext cx="13590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25960" y="418140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25960" y="4410000"/>
                <a:ext cx="33012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56080" y="4181400"/>
                <a:ext cx="144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56080" y="4410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68680" y="4410000"/>
                <a:ext cx="571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2960" y="4181400"/>
                <a:ext cx="144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52960" y="4410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65560" y="4410000"/>
                <a:ext cx="574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3080" y="4181400"/>
                <a:ext cx="144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3080" y="4410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65680" y="4410000"/>
                <a:ext cx="571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49960" y="4181400"/>
                <a:ext cx="144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49960" y="4410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62560" y="4410000"/>
                <a:ext cx="571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46840" y="4181400"/>
                <a:ext cx="144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46840" y="4410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59440" y="4410000"/>
                <a:ext cx="571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43720" y="4181400"/>
                <a:ext cx="144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43720" y="4410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556320" y="4410000"/>
                <a:ext cx="571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40600" y="4181400"/>
                <a:ext cx="144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40600" y="4410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53200" y="4410000"/>
                <a:ext cx="11448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1871640" y="4762440"/>
            <a:ext cx="5400720" cy="343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206800" y="5334120"/>
            <a:ext cx="212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Time = 50.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0E8-F32A-40F5-83C3-A5BFCE821E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ating an operation is called recycl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404800" y="5011560"/>
            <a:ext cx="4321800" cy="1354320"/>
            <a:chOff x="2404800" y="5011560"/>
            <a:chExt cx="4321800" cy="1354320"/>
          </a:xfrm>
        </p:grpSpPr>
        <p:sp>
          <p:nvSpPr>
            <p:cNvPr id="423" name=""/>
            <p:cNvSpPr/>
            <p:nvPr/>
          </p:nvSpPr>
          <p:spPr>
            <a:xfrm>
              <a:off x="3879360" y="5011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44960" y="50878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57640" y="5011560"/>
              <a:ext cx="24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12520" y="501156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90720" y="501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67040" y="5011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32280" y="5011560"/>
              <a:ext cx="24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87520" y="5011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53120" y="50878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66880" y="501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5480" y="5430960"/>
              <a:ext cx="172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ycled amount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97080" y="5430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62320" y="5506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75360" y="5430960"/>
              <a:ext cx="24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08080" y="529128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29520" y="5532480"/>
              <a:ext cx="36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 -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963760" y="553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25920" y="5514840"/>
              <a:ext cx="648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04800" y="5989680"/>
              <a:ext cx="107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tal Flow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85880" y="59896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49680" y="5989680"/>
              <a:ext cx="24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04920" y="59896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70160" y="6066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84640" y="6027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33960" y="5989680"/>
              <a:ext cx="24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89200" y="59896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54800" y="5989680"/>
              <a:ext cx="43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66880" y="5850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99040" y="6091200"/>
              <a:ext cx="36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 -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33640" y="6091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95800" y="6073920"/>
              <a:ext cx="64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47040" y="598968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19440" y="5850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77160" y="6091200"/>
              <a:ext cx="36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 -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1400" y="6091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73920" y="6073920"/>
              <a:ext cx="64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267000" cy="29210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838080" y="2070000"/>
            <a:ext cx="3708360" cy="29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8D2-204F-4453-8D1B-BD3580288D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ycling with Scra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124440" cy="229896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5029200" y="2286000"/>
            <a:ext cx="3279600" cy="3809880"/>
            <a:chOff x="5029200" y="2286000"/>
            <a:chExt cx="3279600" cy="3809880"/>
          </a:xfrm>
        </p:grpSpPr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5029200" y="2286000"/>
              <a:ext cx="327960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4"/>
            <a:stretch/>
          </p:blipFill>
          <p:spPr>
            <a:xfrm>
              <a:off x="5486400" y="4495680"/>
              <a:ext cx="216216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449-A5FC-4F74-978E-B3DD26675D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Line with defects and recycl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1395360" y="2286000"/>
            <a:ext cx="6353280" cy="18543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878120" y="3962520"/>
            <a:ext cx="5387760" cy="5713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1878120" y="4546440"/>
            <a:ext cx="5387760" cy="3304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605040" y="522288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02280" y="522288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02040" y="522288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98920" y="522288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96160" y="522288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93040" y="522288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89920" y="522288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98920" y="55911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95800" y="55911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95920" y="55911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92800" y="55911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89680" y="55911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586560" y="55911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83440" y="55911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909800" y="4968720"/>
            <a:ext cx="5406840" cy="660600"/>
            <a:chOff x="1909800" y="4968720"/>
            <a:chExt cx="5406840" cy="660600"/>
          </a:xfrm>
        </p:grpSpPr>
        <p:sp>
          <p:nvSpPr>
            <p:cNvPr id="485" name=""/>
            <p:cNvSpPr/>
            <p:nvPr/>
          </p:nvSpPr>
          <p:spPr>
            <a:xfrm>
              <a:off x="3395160" y="4986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2360" y="4986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49240" y="4986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47920" y="4986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4800" y="4986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41680" y="4986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38560" y="4986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916280" y="4968720"/>
              <a:ext cx="5400360" cy="292320"/>
              <a:chOff x="1916280" y="4968720"/>
              <a:chExt cx="5400360" cy="292320"/>
            </a:xfrm>
          </p:grpSpPr>
          <p:sp>
            <p:nvSpPr>
              <p:cNvPr id="493" name=""/>
              <p:cNvSpPr/>
              <p:nvPr/>
            </p:nvSpPr>
            <p:spPr>
              <a:xfrm>
                <a:off x="2125080" y="4986360"/>
                <a:ext cx="934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nit Fl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16280" y="4968720"/>
                <a:ext cx="135864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274920" y="4968720"/>
                <a:ext cx="33012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05040" y="49687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18000" y="4968720"/>
                <a:ext cx="571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202280" y="49687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14880" y="4968720"/>
                <a:ext cx="574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02040" y="49687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15000" y="4968720"/>
                <a:ext cx="571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98920" y="49687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411880" y="4968720"/>
                <a:ext cx="571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996160" y="49687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08760" y="4968720"/>
                <a:ext cx="571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93040" y="49687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640" y="4968720"/>
                <a:ext cx="571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89920" y="4968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16280" y="498168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916280" y="5210280"/>
                <a:ext cx="135864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274920" y="4981680"/>
                <a:ext cx="129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274920" y="5210280"/>
                <a:ext cx="33012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05040" y="4981680"/>
                <a:ext cx="180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05040" y="5210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18000" y="5210280"/>
                <a:ext cx="57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02280" y="498168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202280" y="5210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214880" y="5210280"/>
                <a:ext cx="574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02040" y="4981680"/>
                <a:ext cx="180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02040" y="5210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15000" y="5210280"/>
                <a:ext cx="57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398920" y="4981680"/>
                <a:ext cx="180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98920" y="5210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411880" y="5210280"/>
                <a:ext cx="57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96160" y="498168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996160" y="5210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08760" y="5210280"/>
                <a:ext cx="57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93040" y="498168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93040" y="5210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05640" y="5210280"/>
                <a:ext cx="57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189920" y="498168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189920" y="521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202520" y="5210280"/>
                <a:ext cx="11412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1909800" y="5337000"/>
              <a:ext cx="5400720" cy="292320"/>
              <a:chOff x="1909800" y="5337000"/>
              <a:chExt cx="5400720" cy="292320"/>
            </a:xfrm>
          </p:grpSpPr>
          <p:sp>
            <p:nvSpPr>
              <p:cNvPr id="535" name=""/>
              <p:cNvSpPr/>
              <p:nvPr/>
            </p:nvSpPr>
            <p:spPr>
              <a:xfrm>
                <a:off x="2155680" y="5354640"/>
                <a:ext cx="950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nit Ti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63840" y="535464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693600" y="53546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.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90480" y="53546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.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88800" y="53546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.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85680" y="53546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.6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82560" y="53546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.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679440" y="53546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.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909800" y="5337000"/>
                <a:ext cx="135900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268800" y="5337000"/>
                <a:ext cx="33012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598920" y="5337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611520" y="5337000"/>
                <a:ext cx="571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19580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08400" y="5337000"/>
                <a:ext cx="574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9592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08520" y="5337000"/>
                <a:ext cx="571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9280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05400" y="5337000"/>
                <a:ext cx="571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98968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02280" y="5337000"/>
                <a:ext cx="571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58656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599160" y="5337000"/>
                <a:ext cx="571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83440" y="5337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909800" y="53499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09800" y="5578560"/>
                <a:ext cx="13590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68800" y="5349960"/>
                <a:ext cx="12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268800" y="5578560"/>
                <a:ext cx="33012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598920" y="534996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598920" y="5578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11520" y="557856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95800" y="534996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95800" y="5578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208400" y="5578560"/>
                <a:ext cx="574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5920" y="534996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95920" y="5578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08520" y="557856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392800" y="534996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392800" y="5578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05400" y="557856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89680" y="534996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989680" y="5578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002280" y="557856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86560" y="534996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586560" y="5578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599160" y="5578560"/>
                <a:ext cx="571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183440" y="5349960"/>
                <a:ext cx="1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83440" y="5578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196040" y="5578560"/>
                <a:ext cx="11448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3" name=""/>
          <p:cNvGrpSpPr/>
          <p:nvPr/>
        </p:nvGrpSpPr>
        <p:grpSpPr>
          <a:xfrm>
            <a:off x="2205360" y="5981760"/>
            <a:ext cx="5277960" cy="304920"/>
            <a:chOff x="2205360" y="5981760"/>
            <a:chExt cx="5277960" cy="304920"/>
          </a:xfrm>
        </p:grpSpPr>
        <p:sp>
          <p:nvSpPr>
            <p:cNvPr id="584" name=""/>
            <p:cNvSpPr/>
            <p:nvPr/>
          </p:nvSpPr>
          <p:spPr>
            <a:xfrm>
              <a:off x="2205360" y="5997600"/>
              <a:ext cx="178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tal Time = 29.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" descr=""/>
            <p:cNvPicPr/>
            <p:nvPr/>
          </p:nvPicPr>
          <p:blipFill>
            <a:blip r:embed="rId5"/>
            <a:stretch/>
          </p:blipFill>
          <p:spPr>
            <a:xfrm>
              <a:off x="4114800" y="5981760"/>
              <a:ext cx="33685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25D-E488-443C-8514-B4BCC33997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Desig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5933880" cy="123192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1447920" y="4025880"/>
            <a:ext cx="68482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CA2-BC3D-4C68-BB59-1D97AAE3FD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45:41Z</dcterms:created>
  <dc:creator>Paul Jensen</dc:creator>
  <dc:description/>
  <dc:language>en-US</dc:language>
  <cp:lastModifiedBy>Paul Jensen</cp:lastModifiedBy>
  <dcterms:modified xsi:type="dcterms:W3CDTF">2004-08-24T18:37:40Z</dcterms:modified>
  <cp:revision>4</cp:revision>
  <dc:subject/>
  <dc:title>PowerPoint Presentation</dc:title>
</cp:coreProperties>
</file>