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CC9-DF69-4E81-8417-D45C2449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81B-6046-4CD6-9570-D123D927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011-13DB-42A1-844E-EFAF77BD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BAA-8F49-43BA-9776-34512600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5AF-963D-409C-911E-9E0C79D0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A192-DD4C-4293-8EA9-E58051AE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513C-3177-4A1A-A417-7C07D768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EF44-36D1-48D8-84AB-2E9E8D2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7D07-0391-4010-BC12-60957B6A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E0A8-F3D1-42EF-8FF7-15D6BC64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851A-7C27-4971-82A4-DA3F6CA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24B-2695-4CC0-806F-9759B799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0E1C-AAE3-4CB0-B740-68C1B1F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66D9-42C9-4081-90DF-C0E844AB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AE45-9DEA-48EA-A2DC-3F95EA1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F57D-10D4-45B8-82F2-BF9C502A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81C0-300F-49AC-97CC-BE07B01B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201-7272-4B8D-BFC3-35ECC373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4AD-32D8-4D50-8A73-9FF31B7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E28-E7F7-42E9-BEB5-95D5A7EB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DBC-FDFC-4F43-A64A-DAD72956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5BD-4351-48C3-868C-0A2A66AD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FC0-08DF-42F1-BB55-4DF5BE91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86C-FF32-4E5D-A9DE-FD28D850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C28D-4E03-414C-B0A7-909D13975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AB27-A426-4F11-BB5B-BC6B21086AC6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aw Materials and Resour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ultiple produc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duct has its own process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771560" y="2577960"/>
            <a:ext cx="559116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D31-CF24-4FE7-A243-44D05386C6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 of multiple products are addit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416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are implemented on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require raw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requir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7368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A6B-43D2-421E-9AE5-AE4321D81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 Flow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process chart we compute unit flows and unit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unit times we compute machine time requirements an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unit flows we compute raw materi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chine time requirements and numbers of machines we compute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D09-65AE-49B3-87DD-DBA0986634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require raw materi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23880" y="2041560"/>
            <a:ext cx="1613160" cy="4587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38760" y="2610000"/>
            <a:ext cx="12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8760" y="2762280"/>
            <a:ext cx="12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425124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425124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3160" y="425124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67560" y="425124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24360" y="2610000"/>
            <a:ext cx="2870280" cy="1663920"/>
            <a:chOff x="3924360" y="2610000"/>
            <a:chExt cx="2870280" cy="1663920"/>
          </a:xfrm>
        </p:grpSpPr>
        <p:sp>
          <p:nvSpPr>
            <p:cNvPr id="109" name=""/>
            <p:cNvSpPr/>
            <p:nvPr/>
          </p:nvSpPr>
          <p:spPr>
            <a:xfrm>
              <a:off x="4106880" y="26161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48000" y="261612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23080" y="261612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w Ma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4360" y="2610000"/>
              <a:ext cx="126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53160" y="2610000"/>
              <a:ext cx="126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67560" y="2610000"/>
              <a:ext cx="126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48360" y="27687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75720" y="27687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24360" y="2762280"/>
              <a:ext cx="126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3160" y="2762280"/>
              <a:ext cx="126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7560" y="2762280"/>
              <a:ext cx="126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60680" y="293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35040" y="29336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9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6080" y="293364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kg. #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24360" y="2914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36960" y="291456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38760" y="2914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1360" y="291456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53160" y="2914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65760" y="291456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7560" y="2914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24360" y="29275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8760" y="29275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53160" y="29275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67560" y="29275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60680" y="3098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35040" y="30988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7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52040" y="309888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4360" y="307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6960" y="307980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8760" y="307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51360" y="307980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53160" y="307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65760" y="307980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67560" y="307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24360" y="30924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38760" y="30924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3160" y="30924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67560" y="30924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0680" y="326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35040" y="32637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0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6080" y="326376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kg. #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32446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6960" y="324468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38760" y="32446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324468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53160" y="32446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65760" y="324468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67560" y="32446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24360" y="325764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38760" y="325764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53160" y="325764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67560" y="325764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60680" y="3430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35040" y="34304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3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2040" y="343044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24360" y="3409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36960" y="340992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38760" y="3409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51360" y="340992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53160" y="3409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65760" y="340992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7560" y="3409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24360" y="3422520"/>
              <a:ext cx="14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38760" y="3422520"/>
              <a:ext cx="14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53160" y="3422520"/>
              <a:ext cx="14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67560" y="3422520"/>
              <a:ext cx="14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60680" y="3595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35040" y="35956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8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86080" y="359568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kg. 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24360" y="3578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36960" y="357840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38760" y="3578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357840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53160" y="3578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65760" y="357840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67560" y="3578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360" y="3591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38760" y="3591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3160" y="3591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67560" y="35910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0680" y="3760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35040" y="37609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2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52040" y="376092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24360" y="3743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36960" y="374328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38760" y="3743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51360" y="374328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53160" y="3743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65760" y="374328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67560" y="3743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24360" y="375588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38760" y="375588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53160" y="375588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67560" y="375588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6068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35040" y="392580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7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52040" y="392580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24360" y="3908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6960" y="390852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38760" y="3908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51360" y="390852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53160" y="3908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65760" y="390852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67560" y="3908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4360" y="39211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38760" y="39211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53160" y="39211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67560" y="39211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0680" y="409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35040" y="4091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52040" y="409104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24360" y="4073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6960" y="407340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8760" y="4073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51360" y="407340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53160" y="4073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65760" y="4073400"/>
              <a:ext cx="88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67560" y="4073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24360" y="40863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24360" y="42386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36960" y="423864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8760" y="40863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8760" y="4238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51360" y="423864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53160" y="40863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3160" y="4238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65760" y="4238640"/>
              <a:ext cx="88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7560" y="408636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7560" y="42386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80160" y="4238640"/>
              <a:ext cx="1144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01880" y="2971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59000" y="2971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38080" y="2971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1A4-8FFC-4F3D-AFAB-70C57FACF2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w Material Parameters and Variabl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790640" y="2235240"/>
            <a:ext cx="5553000" cy="34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BD0-FCA7-4027-975E-FA50A2F570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w material requirements depend on the unit flow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w material required per uni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w materials required for produ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730600" y="3276720"/>
            <a:ext cx="3673440" cy="838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024360" y="5460840"/>
            <a:ext cx="3085920" cy="4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F13-897E-46A0-B88E-B8BAB1BF83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ompute the Raw Materials require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0/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90720" y="2990880"/>
            <a:ext cx="367020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71600" y="4013280"/>
            <a:ext cx="3086280" cy="4824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5054760" y="2610000"/>
            <a:ext cx="2869560" cy="1663920"/>
            <a:chOff x="5054760" y="2610000"/>
            <a:chExt cx="2869560" cy="1663920"/>
          </a:xfrm>
        </p:grpSpPr>
        <p:sp>
          <p:nvSpPr>
            <p:cNvPr id="254" name=""/>
            <p:cNvSpPr/>
            <p:nvPr/>
          </p:nvSpPr>
          <p:spPr>
            <a:xfrm>
              <a:off x="5236920" y="26161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8040" y="261612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53120" y="261612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w Ma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2610000"/>
              <a:ext cx="12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83200" y="2610000"/>
              <a:ext cx="12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97600" y="2610000"/>
              <a:ext cx="12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8040" y="27687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05760" y="27687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54760" y="2762280"/>
              <a:ext cx="12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3200" y="2762280"/>
              <a:ext cx="12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7600" y="2762280"/>
              <a:ext cx="12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90360" y="293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65080" y="29336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9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16120" y="293364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kg. #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54760" y="2914560"/>
              <a:ext cx="108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67000" y="291456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68800" y="291456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1400" y="291456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83200" y="291456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95800" y="291456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7600" y="2914560"/>
              <a:ext cx="108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54760" y="292752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68800" y="292752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83200" y="292752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97600" y="292752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90360" y="3098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65080" y="30988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7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81720" y="309888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54760" y="30798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67000" y="30798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8800" y="30798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400" y="30798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83200" y="30798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5800" y="30798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30798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54760" y="309240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68800" y="309240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83200" y="309240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97600" y="309240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0360" y="326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65080" y="32637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0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16120" y="326376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kg. #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4760" y="324468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000" y="32446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68800" y="324468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81400" y="32446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83200" y="324468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95800" y="32446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97600" y="324468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54760" y="325764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68800" y="325764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83200" y="325764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97600" y="325764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90360" y="3430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65080" y="34304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3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81720" y="343044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54760" y="34099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67000" y="34099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8800" y="34099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81400" y="34099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83200" y="34099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95800" y="34099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97600" y="34099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54760" y="3422520"/>
              <a:ext cx="10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68800" y="3422520"/>
              <a:ext cx="10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83200" y="3422520"/>
              <a:ext cx="10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97600" y="3422520"/>
              <a:ext cx="10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90360" y="3595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65080" y="35956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8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16120" y="359568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kg. 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54760" y="3578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7000" y="35784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68800" y="3578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81400" y="35784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83200" y="3578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95800" y="35784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97600" y="3578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54760" y="359100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68800" y="359100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83200" y="359100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97600" y="359100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90360" y="3760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65080" y="37609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2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81720" y="376092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54760" y="374328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7000" y="37432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68800" y="374328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81400" y="37432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83200" y="374328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95800" y="37432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374328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54760" y="375588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8800" y="375588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83200" y="375588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97600" y="375588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903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65080" y="392580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7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81720" y="392580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54760" y="3908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67000" y="39085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68800" y="3908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1400" y="39085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3200" y="3908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95800" y="39085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97600" y="3908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54760" y="392112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68800" y="392112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3200" y="392112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97600" y="392112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90360" y="409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65080" y="4091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81720" y="409104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54760" y="407340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67000" y="407340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68800" y="407340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81400" y="407340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83200" y="407340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95800" y="407340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97600" y="4073400"/>
              <a:ext cx="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54760" y="408636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54760" y="4238640"/>
              <a:ext cx="108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7000" y="423864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68800" y="408636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8800" y="42386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81400" y="423864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83200" y="408636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83200" y="42386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95800" y="423864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97600" y="4086360"/>
              <a:ext cx="1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97600" y="4238640"/>
              <a:ext cx="108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10200" y="4238640"/>
              <a:ext cx="11412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608-754D-4D52-9819-EC7AA8839F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 require Resour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476440" cy="42670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5006880" cy="584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3429000" y="4114800"/>
            <a:ext cx="5019840" cy="5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387-9E83-4A92-ABEA-3BB1A11EC9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arameters and Variabl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2120760" y="2247840"/>
            <a:ext cx="4892760" cy="26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8BA-3291-4DB3-AF10-C099BDEDE0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tal resource requirements depend 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chine tim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of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743200" y="4013280"/>
            <a:ext cx="3403440" cy="101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8C0-2F01-4F99-824B-0AB3C16101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ompute the Resources require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0/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765440" y="3111480"/>
            <a:ext cx="5603760" cy="138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BD9-8029-435D-B382-C6C082C97B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6:23:26Z</dcterms:created>
  <dc:creator>Paul Jensen</dc:creator>
  <dc:description/>
  <dc:language>en-US</dc:language>
  <cp:lastModifiedBy>Paul Jensen</cp:lastModifiedBy>
  <dcterms:modified xsi:type="dcterms:W3CDTF">2004-08-24T16:29:53Z</dcterms:modified>
  <cp:revision>2</cp:revision>
  <dc:subject/>
  <dc:title>PowerPoint Presentation</dc:title>
</cp:coreProperties>
</file>