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3B-0BAC-4F46-8412-8B5AFDD8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478-3F5C-4B2B-8038-0187274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CE3-CFBD-465D-8EDB-46E4FDA1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60F-E58F-4E3B-B0E4-95629FF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06B-8B8E-48CE-855B-9C3F9694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C70B-1901-42CB-8611-4BF50F9D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F93-B0EF-4447-B6E6-42CA3DD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C2A8-9843-4A46-A9F3-AD9F0F6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1313-B26E-449A-BCF6-FA7C9C5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950F-3D0D-482A-9D1F-4B359CB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15D3-3867-4A35-8140-0128624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498-F201-4A5A-B69D-F331395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1FA8-84D3-4277-86B0-ED5480F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515-BC89-44DA-AA8C-B02936C6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250-3F7B-489E-ACDC-9D02DEC4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02B-F4E2-48DC-AB7A-CEE7010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CCD-C428-4A6C-9D01-6C820B5C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9D6-1852-4D36-A293-4C3528A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B33-A21D-46EC-B252-7DB1E25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487-FE66-4FF8-A745-CD59721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DC2-BA51-4FD3-BB25-4B6F6D3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219-39B2-4A98-9699-BAD1227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5F1-E8C7-43B1-9CB1-889275C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7DE-52E2-47ED-954A-BFFAB06A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4D4C-21B3-44ED-BAF6-36357222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A618-A6F4-447D-9A6B-5DA0B14A06BE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Requir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machines do you need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0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2743200" cy="1511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132408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F6A-4E23-4A36-A894-5B42126691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is Driven by Flows Through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2017440"/>
            <a:ext cx="4267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are implemented on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require 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521160" cy="42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8F9-9DEE-42FF-825E-1411E721A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are implemented on mach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2450880" cy="453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60760" y="2324160"/>
            <a:ext cx="12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2324160"/>
            <a:ext cx="12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60760" y="2476440"/>
            <a:ext cx="12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3960" y="2476440"/>
            <a:ext cx="12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60760" y="396540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75160" y="396540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9560" y="396540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03960" y="396540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18360" y="396540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60760" y="2324160"/>
            <a:ext cx="3784680" cy="1663920"/>
            <a:chOff x="4460760" y="2324160"/>
            <a:chExt cx="3784680" cy="1663920"/>
          </a:xfrm>
        </p:grpSpPr>
        <p:sp>
          <p:nvSpPr>
            <p:cNvPr id="115" name=""/>
            <p:cNvSpPr/>
            <p:nvPr/>
          </p:nvSpPr>
          <p:spPr>
            <a:xfrm>
              <a:off x="4643280" y="233028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84400" y="23302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4360" y="23302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25720" y="23302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5160" y="2324160"/>
              <a:ext cx="12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9560" y="2324160"/>
              <a:ext cx="12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18360" y="2324160"/>
              <a:ext cx="12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8680" y="24703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11400" y="24829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23120" y="248292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s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75160" y="2476440"/>
              <a:ext cx="12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89560" y="2476440"/>
              <a:ext cx="12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18360" y="2476440"/>
              <a:ext cx="12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080" y="264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1800" y="26478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86200" y="26478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40280" y="264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60760" y="26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73720" y="26290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5160" y="2629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8120" y="26290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9560" y="2629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2520" y="26290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03960" y="2629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16920" y="26290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8360" y="26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0760" y="26416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5160" y="26416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89560" y="26416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03960" y="26416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18360" y="26416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97080" y="281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71800" y="2813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7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86200" y="28130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4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40280" y="281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0760" y="2793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73720" y="27939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75160" y="2793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88120" y="27939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9560" y="2793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02520" y="27939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3960" y="2793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16920" y="279396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8360" y="2793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60760" y="28065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75160" y="28065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9560" y="28065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3960" y="28065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18360" y="28065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7080" y="29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71800" y="2978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0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86200" y="2978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40280" y="29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60760" y="29592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3720" y="29592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75160" y="29592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8120" y="29592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89560" y="29592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2520" y="29592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03960" y="29592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16920" y="295920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18360" y="29592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60760" y="29718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75160" y="29718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9560" y="29718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03960" y="29718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18360" y="29718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7080" y="314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71800" y="31449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3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86200" y="31449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4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40280" y="314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60760" y="3124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3720" y="31240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5160" y="3124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8120" y="31240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89560" y="3124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02520" y="31240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03960" y="3124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16920" y="312408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18360" y="3124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60760" y="3137040"/>
              <a:ext cx="18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5160" y="3137040"/>
              <a:ext cx="18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9560" y="3137040"/>
              <a:ext cx="18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03960" y="3137040"/>
              <a:ext cx="18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18360" y="3137040"/>
              <a:ext cx="18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7080" y="330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1800" y="3309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8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86200" y="33098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3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40280" y="330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60760" y="3292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73720" y="329256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5160" y="3292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88120" y="329256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89560" y="3292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2520" y="329256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03960" y="3292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16920" y="329256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18360" y="3292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60760" y="33051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5160" y="33051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89560" y="33051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03960" y="33051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18360" y="330516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97080" y="34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1800" y="34750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2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48040" y="34750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5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0280" y="34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60760" y="34574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73720" y="345744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5160" y="34574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88120" y="345744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9560" y="34574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2520" y="345744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03960" y="34574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16920" y="345744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18360" y="34574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60760" y="34704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75160" y="34704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9560" y="34704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3960" y="34704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8360" y="347040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97080" y="363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1800" y="36399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7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6200" y="36399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3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40280" y="3639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60760" y="3622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73720" y="36226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75160" y="3622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8120" y="36226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89560" y="3622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02520" y="36226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03960" y="3622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6920" y="362268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8360" y="3622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60760" y="36352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75160" y="36352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89560" y="36352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03960" y="36352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18360" y="363528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97080" y="3805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800" y="38052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6200" y="380520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3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40280" y="3805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60760" y="3787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73720" y="3787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75160" y="3787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8120" y="3787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89560" y="3787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02520" y="3787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03960" y="3787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16920" y="3787920"/>
              <a:ext cx="88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8360" y="3787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0760" y="380052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0760" y="39528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73720" y="39528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75160" y="380052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75160" y="3952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8120" y="39528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9560" y="380052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89560" y="3952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02520" y="39528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3960" y="380052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3960" y="3952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16920" y="3952800"/>
              <a:ext cx="8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18360" y="3800520"/>
              <a:ext cx="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18360" y="39528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31320" y="3952800"/>
              <a:ext cx="11412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B87-2AFE-4EB6-B7D4-8D66FFD03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Parameters and Variabl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833480" y="2095560"/>
            <a:ext cx="547704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245-7D5E-4DCC-A092-4BF73662D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requirements are  linear functions of dema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required per uni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required on the machine for produ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857680" y="281952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975120" y="4927680"/>
            <a:ext cx="1193760" cy="48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A98-2D6C-4721-B1F2-7165DEB47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nimum number of mach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nimum number of machines depends on the tim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fluctuations may require that more than the minimum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809880" y="4572000"/>
            <a:ext cx="1320840" cy="7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B5D-43FE-47A4-9542-DB412F64B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1676520" cy="295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340160" y="2558880"/>
            <a:ext cx="2898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526-BD8D-4D47-9F32-74189F9D20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Machine Requir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unit of finished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444840" cy="838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282680" y="3695760"/>
            <a:ext cx="6568920" cy="17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861-123C-4506-A803-27D2EDF22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ottleneck machin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36180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what is the bottleneck machine and what is the prod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and all o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what is the bottleneck and what is the prod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2746080" cy="14986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400040" cy="20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2F0-198D-4ABD-9B3A-D791E11DB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6:15:07Z</dcterms:created>
  <dc:creator>Paul Jensen</dc:creator>
  <dc:description/>
  <dc:language>en-US</dc:language>
  <cp:lastModifiedBy>Paul Jensen</cp:lastModifiedBy>
  <dcterms:modified xsi:type="dcterms:W3CDTF">2004-08-24T18:38:23Z</dcterms:modified>
  <cp:revision>3</cp:revision>
  <dc:subject/>
  <dc:title>Determining Process Requirements</dc:title>
</cp:coreProperties>
</file>