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329-CA8B-4D60-AECA-6C8DE328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96E-9D05-4AC6-9941-16F36BE4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AA1-5CC5-4647-9A57-80D76DBF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D75-5C69-4F8E-B5ED-12C8B2F6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3730-C9C1-4CD2-8140-D2E606FC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DB8A-2BF6-4983-A2FA-6E71B1DA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9E77-E738-427D-AA01-A33BA5D8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DD35-71AA-4A30-B239-07670A65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7977-E54B-4678-B16D-E07B345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E177-BA54-4B0D-9BC0-036833E5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B2FA-87D6-4EA6-8478-C7A6454B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5A5-9CCC-44A2-BD8A-CBDBAFAC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AE31-868A-4383-AEAB-11266A6B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EC32-9061-4004-82F5-8288929C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E0D6-2764-47CE-A498-645293A8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28F9-86E2-4F37-93B0-5A3DABCE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72ED-A508-47CA-BF02-24FC0616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187-3BF5-4EAB-B213-21A3D998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492-55F4-4B94-9BD6-C8D9570A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B66-0369-40A0-A220-B9DA8D09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C97-091D-4F3C-9FC3-20EA1F5F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E58-91C2-4A9A-A8DD-5E77F1D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784-8525-450B-9240-F2BF23A9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631-80E8-4DBA-8E8E-5F5F3D86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E6C7-914E-4E9A-A220-69586CC8A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2336-10C2-4894-82E1-E48BCD8BEBB9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Flow Analys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ratt: Balance flow not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Goal:  For a single produ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 the proces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 operation time and scrap rates at each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 product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:  The flow in each operation and the total time required for each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E07-D525-46C2-AD75-4ED009F43B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construct a model you must know the proces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is described by it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95360" y="2971800"/>
            <a:ext cx="6353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4CF-9618-49DA-AAE6-F888B4A912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 model admits greater detai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73160" y="1905120"/>
            <a:ext cx="51976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9EF-7566-4B92-A2C6-393BB4D20D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roduct flows at junct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ass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comb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m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disass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sepa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spl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813280" y="2006640"/>
            <a:ext cx="2035440" cy="39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000-9A52-4AEF-B5BB-F9EEE37AA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” nodes model flows that assem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ws are equal on all entering and leaving ar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58760" y="3327480"/>
            <a:ext cx="702648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1B9-DE78-411D-9C9E-AEF156EDC1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” nodes model flows that comb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flow in equals the total flow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93880" y="2844720"/>
            <a:ext cx="735624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C4A-4F38-412B-B7CF-2A714FA0D9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ity” nodes model arbitrary combin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and output proportions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39680" y="2781360"/>
            <a:ext cx="706464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22B-E350-4C55-85A9-C5BCAC60B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junction nodes must be specified in a process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37000" y="2120760"/>
            <a:ext cx="207000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C27-0775-4648-B1CB-E2B65E9D9B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0:29:04Z</dcterms:created>
  <dc:creator>Paul Jensen</dc:creator>
  <dc:description/>
  <dc:language>en-US</dc:language>
  <cp:lastModifiedBy>Paul Jensen</cp:lastModifiedBy>
  <dcterms:modified xsi:type="dcterms:W3CDTF">2004-08-24T16:35:14Z</dcterms:modified>
  <cp:revision>24</cp:revision>
  <dc:subject/>
  <dc:title>Process Flow Analysis</dc:title>
</cp:coreProperties>
</file>