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ADE-71CA-4D93-8310-0954B569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4E8-BB63-4B48-9D44-3FA5CE23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724-6FD7-44E5-8C38-63ABD8F1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7B3-FD0B-4E3C-9909-919C1A19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1025-F1E8-4CAA-A11E-B4F3760F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FFFB-226E-4416-9A4C-3319951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C501-72A3-4002-874A-A7C5FFD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9786-14C2-4AF4-974A-84786302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CAB-B40B-4DE3-9F36-37682FB3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F66A-86A3-4D21-BD59-6390EF1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7CF-296E-40B2-B249-82FFFAB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1D9-FEA6-4961-8FD6-83968BF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C44D-105D-4D20-BEA9-EFD64FB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1230-ACEB-4347-8C28-AB3B6DD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9EF3-6103-4BEC-8A1B-CEF9851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DC60-4612-4599-9BD8-2FF36682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C46E-FC4B-46CA-AB68-92AC8779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F4C-5C1B-46F2-A7E3-A73CA2C7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FCD-C899-4436-8E1C-9C59D8C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466-7144-49EC-AC18-CE4793FD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016-1C80-4EBF-A0D0-7B32BBF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7CE-EC3F-4C27-A64E-A192E6E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4DD-60C6-4336-AA88-5770550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986-E0BD-44DB-8626-971A9F2F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195C-F72B-44B9-80A2-7B389751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D07-F820-4902-946B-C949D09E7089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Move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material through the production facility is a waste because material movement does not add value to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Space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pace requirements of each machine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pace required for W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8105760" cy="15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405-BA7B-4E2D-8851-49DFC3E62C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2360" y="2505240"/>
            <a:ext cx="8105760" cy="18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1E1-DA0A-4827-ABC4-F963A314D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: Flow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the from-to chart for weekly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47920" y="3124080"/>
            <a:ext cx="6162480" cy="33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498-2BB3-44CD-AF04-0125B2EF5B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: Construct a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plant dimension of 12x24 with area 288 sq.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77564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32A-E02A-4F5D-8F29-0EE73CD5E3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: Economic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c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c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W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ill these costs change with larger lot siz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015-29C2-4B50-B79F-CAD02BD06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 plant that uses a flow shop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each product visits each station but receives no processing at som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changes with respect to the functional lay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4290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B9B-18C2-4BE4-96BF-503C11916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and space analy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093160" cy="1549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19120" y="4800600"/>
            <a:ext cx="8105760" cy="154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520" y="220032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uing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41000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C51-FE0A-46FD-996F-7D499FF0E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the from-to chart for weekly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6150240" cy="33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75-6167-4F19-9F63-0F314D1BBF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IP at mach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IP in material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373-A5BB-46A8-B468-3D81FFE2AB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 plant that uses a separate line for each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oulding and final inspection be separat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different in this type of lay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9BB-438F-48FE-AA71-62584D4B8D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ount of movement depends on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products manufactur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 of operations (process) identified for each produ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ignment of machines to the operations of the proces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layout of the machines in the manufacturing fac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 we assume that the first two are fixed and we concentrate on the latter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CE8-0FE5-4108-B03E-1539D8EFC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and space analyses for each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8092800" cy="45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6FD-64ED-48FB-81C4-EFBAFBC511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IP at mach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IP in material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st relate to the cost of a functional lay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F64-C961-4564-9E2B-F7D4C5B14E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 plant that uses group technolo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moulding and final inspection be separate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90920" y="2514600"/>
            <a:ext cx="4346280" cy="36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1F6-C7D2-4CB1-A7C7-77CF873EAD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ed operations and families of produ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20240" cy="29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DC3-FF66-43CC-8D12-5BEE90034E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2667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uing and space analysis for each famil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5146560" cy="618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196-820D-496A-990C-EA4A496A67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8512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FE5-D5A4-4BAC-BA15-93E92C6315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IP at mach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IP in material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706-4876-4A3D-953F-F4DC63D7A5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ral generic types of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2324160" cy="3137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2984400" cy="311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791320" y="2108160"/>
            <a:ext cx="2809800" cy="30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00B-E0B2-47F8-9480-B7E470D80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042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for products arrive as Poisson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begins when an order ar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re performed in a numerical seq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losses in the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823080" cy="25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A1D-AB1E-49A4-92AF-D7055AEAE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inform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requires a unique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chines operate 40 hours per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operation times have an exponential probability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nough machines so that all workstations are to have no more than 80% util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ACA-9397-416E-87EF-30F9A4B1E8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 and Economic Inform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 requires 0.4 sq. m. floor space per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fficient space at each station to accommodate WIP 90% of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cost is $0.10/unit-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lant with length twice as great as 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the plant is $20 per week per square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5718240" cy="7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238-FDE9-440F-9F7F-EC26858E4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 plant that uses a job shop (or functional)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2240" y="2286000"/>
            <a:ext cx="46260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21E-3161-4EDD-AC1F-E6303CCB3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 Queuing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Queuing Analysis for each machin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8093160" cy="15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DF0-3C39-430F-98B6-33B41A792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2360" y="2651040"/>
            <a:ext cx="8105760" cy="15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68A-7DD0-4B1F-8E6B-1079FBE810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4:16Z</dcterms:created>
  <dc:creator>Paul Jensen</dc:creator>
  <dc:description/>
  <dc:language>en-US</dc:language>
  <cp:lastModifiedBy>Paul Jensen</cp:lastModifiedBy>
  <dcterms:modified xsi:type="dcterms:W3CDTF">2004-08-24T16:48:32Z</dcterms:modified>
  <cp:revision>5</cp:revision>
  <dc:subject/>
  <dc:title>Waste 7:  Material Movement</dc:title>
</cp:coreProperties>
</file>